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1A4-2394-48D1-BE61-19C897D4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5FA9-E735-4092-B15D-67F4AE721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8E5-FBA5-4D99-93CE-71A1B734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ECE-9696-4B27-A02D-B40D659C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981-1E09-4E4C-B14C-38B8CD9B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15A-7124-403A-B040-246311A9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F0A-9159-4D86-BAEA-83F5FF02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9A5-E699-44A4-8D36-69C25193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CF6-D923-4598-A005-54A57368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963-A826-45FD-B0F7-B326696E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076-B9E2-4F2A-89D8-BD3D83EF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58F-C839-4611-85BC-B541D93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70B-4BDC-4D8C-850C-9166D655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C37-B2AE-4959-9615-AFE795DB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0007-7F21-4B88-A1FE-7FAA9D7DB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Lean Ev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6324480" y="4495680"/>
            <a:ext cx="201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ev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eam members with as much information as possible about the  targe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to become familiar with the process before the event begi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or analysis must be current and obtain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measurement and obser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upplied before the event 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the process or make deci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ck o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dd Char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 off initiated by a senior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linkage between the event and strategic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organization’s commitment to the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upcoming steps of event and procedure for the process walk-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33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95"/>
          <p:cNvSpPr/>
          <p:nvPr/>
        </p:nvSpPr>
        <p:spPr>
          <a:xfrm>
            <a:off x="2514600" y="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h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97"/>
          <p:cNvSpPr/>
          <p:nvPr/>
        </p:nvSpPr>
        <p:spPr>
          <a:xfrm>
            <a:off x="1080" y="661356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11"/>
          <p:cNvGraphicFramePr/>
          <p:nvPr/>
        </p:nvGraphicFramePr>
        <p:xfrm>
          <a:off x="228600" y="838080"/>
          <a:ext cx="87631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631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3"/>
          <p:cNvSpPr/>
          <p:nvPr/>
        </p:nvSpPr>
        <p:spPr>
          <a:xfrm>
            <a:off x="154440" y="6643800"/>
            <a:ext cx="3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uct Ev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target area (Gem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Figure 12"/>
          <p:cNvPicPr/>
          <p:nvPr/>
        </p:nvPicPr>
        <p:blipFill>
          <a:blip r:embed="rId1"/>
          <a:stretch/>
        </p:blipFill>
        <p:spPr>
          <a:xfrm>
            <a:off x="3808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19-1968_IMG"/>
          <p:cNvPicPr/>
          <p:nvPr/>
        </p:nvPicPr>
        <p:blipFill>
          <a:blip r:embed="rId2"/>
          <a:stretch/>
        </p:blipFill>
        <p:spPr>
          <a:xfrm>
            <a:off x="4114800" y="205740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457200" y="762120"/>
            <a:ext cx="35812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eam into two groups: one to ask questions, other to record answ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visits area designated for improvement, walks through process step-by-step and documents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both physical and information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19-1985_IMG"/>
          <p:cNvPicPr/>
          <p:nvPr/>
        </p:nvPicPr>
        <p:blipFill>
          <a:blip r:embed="rId1"/>
          <a:stretch/>
        </p:blipFill>
        <p:spPr>
          <a:xfrm>
            <a:off x="3645000" y="2828880"/>
            <a:ext cx="50292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119-1988_IMG"/>
          <p:cNvPicPr/>
          <p:nvPr/>
        </p:nvPicPr>
        <p:blipFill>
          <a:blip r:embed="rId2"/>
          <a:stretch/>
        </p:blipFill>
        <p:spPr>
          <a:xfrm>
            <a:off x="266760" y="3276720"/>
            <a:ext cx="3543120" cy="2396880"/>
          </a:xfrm>
          <a:prstGeom prst="rect">
            <a:avLst/>
          </a:prstGeom>
          <a:ln w="0">
            <a:noFill/>
          </a:ln>
        </p:spPr>
      </p:pic>
      <p:sp>
        <p:nvSpPr>
          <p:cNvPr id="84" name="Bent Arrow 6"/>
          <p:cNvSpPr/>
          <p:nvPr/>
        </p:nvSpPr>
        <p:spPr>
          <a:xfrm flipH="1" rot="10800000">
            <a:off x="1981080" y="5466960"/>
            <a:ext cx="1371600" cy="800280"/>
          </a:xfrm>
          <a:custGeom>
            <a:avLst/>
            <a:gdLst/>
            <a:ahLst/>
            <a:rect l="l" t="t" r="r" b="b"/>
            <a:pathLst>
              <a:path w="1371600" h="800100">
                <a:moveTo>
                  <a:pt x="0" y="800100"/>
                </a:moveTo>
                <a:lnTo>
                  <a:pt x="0" y="450056"/>
                </a:lnTo>
                <a:cubicBezTo>
                  <a:pt x="0" y="256732"/>
                  <a:pt x="156720" y="100012"/>
                  <a:pt x="350044" y="100012"/>
                </a:cubicBezTo>
                <a:lnTo>
                  <a:pt x="1171575" y="100013"/>
                </a:lnTo>
                <a:lnTo>
                  <a:pt x="1171575" y="0"/>
                </a:lnTo>
                <a:lnTo>
                  <a:pt x="1371600" y="200025"/>
                </a:lnTo>
                <a:lnTo>
                  <a:pt x="1171575" y="400050"/>
                </a:lnTo>
                <a:lnTo>
                  <a:pt x="1171575" y="300038"/>
                </a:lnTo>
                <a:lnTo>
                  <a:pt x="350044" y="300038"/>
                </a:lnTo>
                <a:cubicBezTo>
                  <a:pt x="267191" y="300038"/>
                  <a:pt x="200025" y="367204"/>
                  <a:pt x="200025" y="450057"/>
                </a:cubicBezTo>
                <a:lnTo>
                  <a:pt x="200025" y="800100"/>
                </a:lnTo>
                <a:lnTo>
                  <a:pt x="0" y="80010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876920" y="12193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ata to value stream maps, process maps, time observation sheets, standard work shee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on the “war room” w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19-1970_IMG"/>
          <p:cNvPicPr/>
          <p:nvPr/>
        </p:nvPicPr>
        <p:blipFill>
          <a:blip r:embed="rId3"/>
          <a:stretch/>
        </p:blipFill>
        <p:spPr>
          <a:xfrm>
            <a:off x="228600" y="45720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Down Arrow 1"/>
          <p:cNvSpPr/>
          <p:nvPr/>
        </p:nvSpPr>
        <p:spPr>
          <a:xfrm>
            <a:off x="1320840" y="2486160"/>
            <a:ext cx="380880" cy="6858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19-1954_IMG"/>
          <p:cNvPicPr/>
          <p:nvPr/>
        </p:nvPicPr>
        <p:blipFill>
          <a:blip r:embed="rId1"/>
          <a:stretch/>
        </p:blipFill>
        <p:spPr>
          <a:xfrm>
            <a:off x="1828800" y="152280"/>
            <a:ext cx="4775040" cy="3581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533520" y="3962520"/>
            <a:ext cx="822960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ste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day: Completely document and map the pro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equent days: Identify wastes and opportunities, generate ideas, begin to implement lean tools, verify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day: tie up loose ends, verify and quantify results, develop standard work methods, give final 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34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team member particip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s—team members introduce sel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s—what the team was trying to accompl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before event—problems and opportuniti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data and process steps before improve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mplishments—changes implemented during even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that eliminated non-value-added: implementation of lean tools—standard work, kanban, mistake-proofing, quick changeover, visual control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after event—what the new process looks like and new standard work fo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versus objectiv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ay if only achieved, say, 30% improvement when objective was 50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 to-do list (parking lot)—everything the team was not able to accomplis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next steps, who responsible, expected results and completion d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 the presentation is attended by all senior manag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4d"/>
                </a:solidFill>
                <a:latin typeface="Times New Roman"/>
              </a:rPr>
              <a:t>To B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art in Soiled Utility Room.JPG"/>
          <p:cNvPicPr/>
          <p:nvPr/>
        </p:nvPicPr>
        <p:blipFill>
          <a:blip r:embed="rId1"/>
          <a:stretch/>
        </p:blipFill>
        <p:spPr>
          <a:xfrm>
            <a:off x="5410080" y="5410080"/>
            <a:ext cx="172728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52280" y="914400"/>
          <a:ext cx="8839440" cy="2662200"/>
        </p:xfrm>
        <a:graphic>
          <a:graphicData uri="http://schemas.openxmlformats.org/drawingml/2006/table">
            <a:tbl>
              <a:tblPr/>
              <a:tblGrid>
                <a:gridCol w="4778640"/>
                <a:gridCol w="2307960"/>
                <a:gridCol w="175284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 communication link between Soiled/Clean Rooms and 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iting on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d, J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e if OR Room 8 Trays are Trauma On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 OR Ortho Team and SST’s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 3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men, Jose, Greg, Deb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 OR Ortho Team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 3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, SRP, G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280" y="4191120"/>
          <a:ext cx="5029200" cy="222552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i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/Std Work Opex Tray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 Work -Preference Cards (by svc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DI – Tray/Instrument Ph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 - Soiled Utility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ban/Std Work – Case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5" descr="DSC00393.JPG"/>
          <p:cNvPicPr/>
          <p:nvPr/>
        </p:nvPicPr>
        <p:blipFill>
          <a:blip r:embed="rId2"/>
          <a:stretch/>
        </p:blipFill>
        <p:spPr>
          <a:xfrm>
            <a:off x="7238880" y="54100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00407.JPG"/>
          <p:cNvPicPr/>
          <p:nvPr/>
        </p:nvPicPr>
        <p:blipFill>
          <a:blip r:embed="rId3"/>
          <a:stretch/>
        </p:blipFill>
        <p:spPr>
          <a:xfrm>
            <a:off x="6324480" y="4038480"/>
            <a:ext cx="1752840" cy="131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0" y="6629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effort dedicat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n tools and concepts in a targeted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process “insiders”, plus anyone else who has something to offer—“outsiders” or “fresh eyes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ly unique event.  No two lean events are a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A and 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284120" y="2286000"/>
            <a:ext cx="595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Pl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Chec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sult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il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DI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age Daily Improv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Ac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ustain, revisit, 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: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current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exist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standar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with a final presentation to senio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is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ing something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get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the Lea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s where and on 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the team focus its efforts. Describes wha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i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ocus on the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s the  value stream from customer’s 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ealistic, challenging, but not too aggressive. 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ai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uring which event is to occur (usually 3-5 d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vailability of team members, team leaders, consulta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times of excessively high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bou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etting things don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“stretch” objectives: create sense of urgency to generate dramatic improv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ive proves unrealistic and cannot be accomplished in the event, put it on the to-do list with a date to revisi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committed to the success of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s: organization, communication, leadership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as for getting thing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to team members and top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nderstand and accept responsi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time, effort, and full eng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lacker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unable to devote necessary time, can be included as ad-hoc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: competency to understand the process and mak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functional representation: all departments involved in the process and influenced by it must be represent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sh eyes: people unfamiliar with an area have a unique perspective and see problems or suggest solutions other would mi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management and especially to areas directly or indirectly affected by th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services such as maintenance, IT, environmental services, purchasing, finance, safety, and infection control about dates and likely need for suppo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 team members beforehand in lean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aside a meeting place (“war room”) to meet, brainstorm, work, and ea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eed standard work forms, markers, overhead, LCD projector, flip charts, table, chai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2:05:43Z</dcterms:created>
  <dc:creator>JMN</dc:creator>
  <dc:description/>
  <dc:language>en-US</dc:language>
  <cp:lastModifiedBy>John M Nicholas</cp:lastModifiedBy>
  <dcterms:modified xsi:type="dcterms:W3CDTF">2012-03-30T15:27:50Z</dcterms:modified>
  <cp:revision>16</cp:revision>
  <dc:subject/>
  <dc:title>Kaizen Blitz (Lean Event)</dc:title>
</cp:coreProperties>
</file>