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772480" cy="4889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15840" indent="-34920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68360" indent="-33804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881360" indent="-398520">
              <a:spcBef>
                <a:spcPts val="751"/>
              </a:spcBef>
              <a:buClr>
                <a:srgbClr val="2c5e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282760" indent="-287280">
              <a:spcBef>
                <a:spcPts val="751"/>
              </a:spcBef>
              <a:buClr>
                <a:srgbClr val="2c5e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282760" indent="-2872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282760" indent="-2872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1ba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-15840" y="6048360"/>
            <a:ext cx="104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2-</a:t>
            </a:r>
            <a:fld id="{D07C0E60-A3C7-4367-B506-4E68AA44C53E}" type="slidenum">
              <a:rPr b="1" i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-4680" y="6434280"/>
            <a:ext cx="9161280" cy="430200"/>
          </a:xfrm>
          <a:prstGeom prst="rect">
            <a:avLst/>
          </a:prstGeom>
          <a:solidFill>
            <a:srgbClr val="2c5e34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Pearson_Bound_White"/>
          <p:cNvPicPr/>
          <p:nvPr/>
        </p:nvPicPr>
        <p:blipFill>
          <a:blip r:embed="rId3"/>
          <a:stretch/>
        </p:blipFill>
        <p:spPr>
          <a:xfrm>
            <a:off x="7738920" y="644040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23760" y="6442200"/>
            <a:ext cx="166068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d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2c5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2c5e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95d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2c5e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Rectangle 23"/>
          <p:cNvSpPr/>
          <p:nvPr/>
        </p:nvSpPr>
        <p:spPr>
          <a:xfrm>
            <a:off x="-4680" y="6434280"/>
            <a:ext cx="9161280" cy="430200"/>
          </a:xfrm>
          <a:prstGeom prst="rect">
            <a:avLst/>
          </a:prstGeom>
          <a:solidFill>
            <a:srgbClr val="2c5e34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4040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23760" y="64422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15840" indent="-34920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68360" indent="-33804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881360" indent="-398520">
              <a:spcBef>
                <a:spcPts val="751"/>
              </a:spcBef>
              <a:buClr>
                <a:srgbClr val="2c5e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282760" indent="-287280">
              <a:spcBef>
                <a:spcPts val="751"/>
              </a:spcBef>
              <a:buClr>
                <a:srgbClr val="2c5e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282760" indent="-2872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282760" indent="-2872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BECOMING A CLINICAL PSYCHOLOGIST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49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5e34"/>
                </a:solidFill>
                <a:latin typeface="Verdana"/>
              </a:rPr>
              <a:t>A MODERN HEALTH PROFES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5e34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5e34"/>
                </a:solidFill>
                <a:latin typeface="Verdana"/>
              </a:rPr>
              <a:t>Wolfgang Linden and Paul L. Hewit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Graduate Record Examination (GRE)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GRE inclu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15840" indent="-349200">
              <a:spcBef>
                <a:spcPts val="700"/>
              </a:spcBef>
              <a:buClr>
                <a:srgbClr val="2c5e34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erbal section that assesses the candidate’s vocabulary, comprehension, and overall grasp of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5840" indent="-349200">
              <a:spcBef>
                <a:spcPts val="700"/>
              </a:spcBef>
              <a:buClr>
                <a:srgbClr val="2c5e34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uantitative section that tests mathematical 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5840" indent="-349200">
              <a:spcBef>
                <a:spcPts val="700"/>
              </a:spcBef>
              <a:buClr>
                <a:srgbClr val="2c5e34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nalytical section with an essay ques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Graduate Record Examination (GRE) (cont'd)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2520" indent="-452520">
              <a:lnSpc>
                <a:spcPct val="100000"/>
              </a:lnSpc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GRE incl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349200">
              <a:lnSpc>
                <a:spcPct val="100000"/>
              </a:lnSpc>
              <a:spcBef>
                <a:spcPts val="700"/>
              </a:spcBef>
              <a:buClr>
                <a:srgbClr val="2c5e34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ubject test covering the topics taught in undergraduate psychology cour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The Statement of Interest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udents are expected to write a personalized essay with each applica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good length for a statement of interest is two pag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n’t be too broad or too narrow when writing about interes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The Statement of Interest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licants should out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hey developed their career intere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hey prepared for graduate scho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clinical topics excite th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Letters of Reference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tters of reference give readers the opportunity to learn something about students that can’t be found on a transcript or from GRE sc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udents should get letters of recommendation from professors that they worked with outside of the classroo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Letters of Reference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udents should provide everything that professors need—instructions, prestamped envelopes, addresses—to make it easy for them to send the recommendatio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Research or Clinical Experience?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y clinical or research experience helps students demonstrate their initiative and learn useful skill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-oriented programs favor research experience and practitioner-oriented programs favor clinical experien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Timing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lication deadlines in North America are generally December or January, with admissions offers going out to candidates no later than April 1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’s a good idea for students to participate in an in-person or phone interview with a faculty memb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Timing (cont’d)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is recommended for students to visit their top two choices and talk to current students to get a feel for the program and the campu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Getting the Most Out of Graduate School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duate school can be a hectic, but rewarding experien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y students work up to 80 hours per week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’s important for graduate students to learn how to prioritize their time, communicate well with others, and conduct their own researc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Considerations for Career Planning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en planning for their careers, future clinical psychologists must consi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pecialty field that will have jobs available when they gradu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type of degree they will pursue (PsyD or Ph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competition for spots in psychology programs and available financial assi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Postdoctoral Training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to prepare for academic careers, it has become standard practice to complete additional training at the postdoctoral lev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additional training gives students the opportunity to boost their publishing record and acquire additional skill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Postdoctoral Training (cont'd)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stdoctoral work is not as common for those with clinical psychology degre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Getting Licensed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rth American clinical psychologists are expected to get a license so that they can practice in the fiel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 done to protect the public from being harmed by incompetent or unethical practitioner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Getting Licensed (cont'd)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fter becoming licensed, clinical psychologists are expected to participate in continuing education cours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Getting Licensed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licensing process includ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15840" indent="-349200">
              <a:spcBef>
                <a:spcPts val="700"/>
              </a:spcBef>
              <a:buClr>
                <a:srgbClr val="2c5e34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icensing ex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5840" indent="-349200">
              <a:spcBef>
                <a:spcPts val="700"/>
              </a:spcBef>
              <a:buClr>
                <a:srgbClr val="2c5e34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riminal background chec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5840" indent="-349200">
              <a:spcBef>
                <a:spcPts val="700"/>
              </a:spcBef>
              <a:buClr>
                <a:srgbClr val="2c5e34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ing letters of recommendation, transcripts, and details of practic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Clinical Psychology Program Statistics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8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Clinical Psychology Program Statistics (cont'd)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523880" y="3147840"/>
            <a:ext cx="5927760" cy="325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58676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Concrete Planning Steps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fore applying to clinical psychology programs, students should ask themselves if the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joy working alone or within grou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nt to pursue leadership posi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fer novelty or an established routine in their wo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 willing to work long hou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Concrete Planning Steps (cont’d)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fore applying to clinical psychology programs, students should ask themsel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they are willing to move for a progr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hese decisions affect their partners and child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Application Forms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lication forms should be filled out neatly and completel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ntion any awards and honors you receiv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ntion papers that were published in peer-reviewed journals and those that are being considered for publica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Grade Point Average (GPA)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des are usually reported as letter grades or percentag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centage grades are less ambiguous than letter grad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student that does not have at least a 3.5 GPA will probably not be admitted into a prestigious clinical or counseling psychology progra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e34"/>
                </a:solidFill>
                <a:latin typeface="Verdana"/>
              </a:rPr>
              <a:t>Graduate Record Examination (GRE)</a:t>
            </a:r>
            <a:endParaRPr b="0" lang="en-US" sz="3600" spc="-1" strike="noStrike">
              <a:solidFill>
                <a:srgbClr val="2c5e3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strong score on the GRE may make up for a weak grade point averag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2c5e3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udents with GRE scores in less than the 50th percentile are unlikely to be admitted into a graduate progra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20:11:00Z</dcterms:created>
  <dc:creator>James Ramsey</dc:creator>
  <dc:description/>
  <dc:language>en-US</dc:language>
  <cp:lastModifiedBy>Matt Forster</cp:lastModifiedBy>
  <dcterms:modified xsi:type="dcterms:W3CDTF">2011-06-07T16:56:54Z</dcterms:modified>
  <cp:revision>15</cp:revision>
  <dc:subject/>
  <dc:title>CLINICAL PSYCHOLOGY</dc:title>
</cp:coreProperties>
</file>