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9E13-F819-4507-AE09-14D6BD6FC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 setting – cigarette labeling – EU, EC, EP, ECJ require transposition and harmonization of regulations and directives of 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tion – Policy challenging 2003 Census developed as a new law—voted down-- Ban on standardized tests to enter universities proposed and never reaches Con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option – Parliament amends (rebalances) budget to include funds for transpor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ementation – Implementation of Law on Local Government implemented by Vice President and by Ministry of Local Self Government – new employees hired, training programs identified, tenders 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on – News media reports on corruption, so does Transparency International, so does General Secretari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ation – Directives of the acquis shaped to fit local conditions – same with “equalization fund” for local gover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cession – NHTSA keeps 55 mph limit after it saves l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ation – Civil servants agency abolished in Slovakia; Unite for Reform abandoned in Serbia; OTA abandoned in 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ractice of policy analysis refers to the actual processes of reasoning used by analysts (logics-in-use).  These should be contrasted with formal representations of reasoning that are to some extent methodological idealizations (logical reconstructions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 setting – cigarette labeling – EU, EC, EP, ECJ require transposition and harmonization of regulations and directives of 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tion – Policy challenging 2003 Census developed as a new law—voted down-- Ban on standardized tests to enter universities proposed and never reaches Con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option – Parliament amends (rebalances) budget to include funds for transpor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ementation – Implementation of Law on Local Government implemented by Vice President and by Ministry of Local Self Government – new employees hired, training programs identified, tenders 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on – News media reports on corruption, so does Transparency International, so does General Secretari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ation – Directives of the acquis shaped to fit local conditions – same with “equalization fund” for local gover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cession – NHTSA keeps 55 mph limit after it saves l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ation – Civil servants agency abolished in Slovakia; Unite for Reform abandoned in Serbia; OTA abandoned in 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000" y="41306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00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340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9640" y="19810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000" y="41306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09640" y="41306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38088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00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41306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41306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9810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41306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41306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340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95000" y="38088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00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340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41306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981080"/>
            <a:ext cx="89154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Footer Placeholder 5"/>
          <p:cNvSpPr/>
          <p:nvPr/>
        </p:nvSpPr>
        <p:spPr>
          <a:xfrm>
            <a:off x="24382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pyright © 2013 Pearson Education, Inc. All rights reserve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3" descr=""/>
          <p:cNvPicPr/>
          <p:nvPr/>
        </p:nvPicPr>
        <p:blipFill>
          <a:blip r:embed="rId3"/>
          <a:stretch/>
        </p:blipFill>
        <p:spPr>
          <a:xfrm>
            <a:off x="0" y="4282920"/>
            <a:ext cx="9906120" cy="25750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95000" y="1981080"/>
            <a:ext cx="89154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Footer Placeholder 5"/>
          <p:cNvSpPr/>
          <p:nvPr/>
        </p:nvSpPr>
        <p:spPr>
          <a:xfrm>
            <a:off x="24382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Copyright © 2013 Pearson Education, Inc. All rights reserve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0" y="4068720"/>
            <a:ext cx="9906120" cy="24843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447920"/>
            <a:ext cx="8259840" cy="175248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6699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2  Policy Analysis in the Policymaking Process</a:t>
            </a: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304920"/>
            <a:ext cx="784872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ublic Policy Analysis, 5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Ed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lliam N. Dun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2514600"/>
            <a:ext cx="3886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following are prohibited by law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ny public performance or display, including  transmission of any image over a network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eparation of any derivative work, including the extraction, in whole or in part, of any images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ny rental, lease, or lending of the program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000" y="39960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Garamond"/>
              </a:rPr>
              <a:t>Model III: Bureaucratic Politics</a:t>
            </a: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915400" cy="452592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nalogy —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olicy process is like a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att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ong inhabitants of relatively isola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lands, each of which has its own progr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ts own ways of rewarding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nishing its own island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Rule —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Where you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ta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pen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where you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”  The favored policy of 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eaucratic leader depends on the agenc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ministry in which she s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39960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Garamond"/>
              </a:rPr>
              <a:t>Model IV: Interrupted Equilibrium</a:t>
            </a: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9160" y="1447920"/>
            <a:ext cx="9487080" cy="493848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Analogy —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cy making is lik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iological evolu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Most policies involve small, relatively  small changes over long periods of time.  There is a stable, dynamic equilibrium among competing policies—but from time to time there are abrupt and perhaps irreversible chang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Rule —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ically, external shocks produce new political beliefs and attitudes, including fear, and these result in large and abrupt changes in polic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000" y="383760"/>
            <a:ext cx="8915400" cy="136836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Garamond"/>
              </a:rPr>
              <a:t>How Policy Analysis Can Improve</a:t>
            </a:r>
            <a:br>
              <a:rPr sz="4000"/>
            </a:b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t</a:t>
            </a:r>
            <a:r>
              <a:rPr b="0" lang="en-US" sz="4000" spc="-1" strike="noStrike">
                <a:solidFill>
                  <a:srgbClr val="ffff00"/>
                </a:solidFill>
                <a:latin typeface="Garamond"/>
              </a:rPr>
              <a:t>he Policy Making Process</a:t>
            </a:r>
            <a:endParaRPr b="0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89154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widely respected methods of policy analysis to provide more and better information in each phase of policy ma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late this information and analysis into a language that is understandable to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pare written policy documents including memos, regulatory impact assessments (RIAs), policy issue papers, and research reports on potential solutions to 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oral briefings, meetings, conversations, and conferences to communicate the contents of policy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Line 2"/>
          <p:cNvSpPr/>
          <p:nvPr/>
        </p:nvSpPr>
        <p:spPr>
          <a:xfrm>
            <a:off x="3137040" y="3352680"/>
            <a:ext cx="3962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Group 3"/>
          <p:cNvGrpSpPr/>
          <p:nvPr/>
        </p:nvGrpSpPr>
        <p:grpSpPr>
          <a:xfrm>
            <a:off x="577800" y="152280"/>
            <a:ext cx="8915040" cy="6400800"/>
            <a:chOff x="577800" y="152280"/>
            <a:chExt cx="8915040" cy="6400800"/>
          </a:xfrm>
        </p:grpSpPr>
        <p:sp>
          <p:nvSpPr>
            <p:cNvPr id="114" name="Line 4"/>
            <p:cNvSpPr/>
            <p:nvPr/>
          </p:nvSpPr>
          <p:spPr>
            <a:xfrm flipV="1">
              <a:off x="5035320" y="914400"/>
              <a:ext cx="0" cy="457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5"/>
            <p:cNvSpPr/>
            <p:nvPr/>
          </p:nvSpPr>
          <p:spPr>
            <a:xfrm>
              <a:off x="2806560" y="1752480"/>
              <a:ext cx="4622760" cy="3124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6"/>
            <p:cNvSpPr/>
            <p:nvPr/>
          </p:nvSpPr>
          <p:spPr>
            <a:xfrm>
              <a:off x="1155600" y="380880"/>
              <a:ext cx="7594200" cy="60199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7"/>
            <p:cNvSpPr/>
            <p:nvPr/>
          </p:nvSpPr>
          <p:spPr>
            <a:xfrm>
              <a:off x="3714840" y="152280"/>
              <a:ext cx="2641320" cy="121932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8"/>
            <p:cNvSpPr/>
            <p:nvPr/>
          </p:nvSpPr>
          <p:spPr>
            <a:xfrm>
              <a:off x="577800" y="2743200"/>
              <a:ext cx="2641680" cy="121896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9"/>
            <p:cNvSpPr/>
            <p:nvPr/>
          </p:nvSpPr>
          <p:spPr>
            <a:xfrm>
              <a:off x="6851520" y="2743200"/>
              <a:ext cx="2641320" cy="121896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0"/>
            <p:cNvSpPr/>
            <p:nvPr/>
          </p:nvSpPr>
          <p:spPr>
            <a:xfrm>
              <a:off x="3714840" y="2743200"/>
              <a:ext cx="2641320" cy="121896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1"/>
            <p:cNvSpPr/>
            <p:nvPr/>
          </p:nvSpPr>
          <p:spPr>
            <a:xfrm>
              <a:off x="3714840" y="5333760"/>
              <a:ext cx="2641320" cy="121932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"/>
            <p:cNvSpPr/>
            <p:nvPr/>
          </p:nvSpPr>
          <p:spPr>
            <a:xfrm>
              <a:off x="3714840" y="1523880"/>
              <a:ext cx="2641320" cy="1066680"/>
            </a:xfrm>
            <a:prstGeom prst="ellipse">
              <a:avLst/>
            </a:pr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3"/>
            <p:cNvSpPr/>
            <p:nvPr/>
          </p:nvSpPr>
          <p:spPr>
            <a:xfrm>
              <a:off x="3714840" y="4114800"/>
              <a:ext cx="2641320" cy="1066680"/>
            </a:xfrm>
            <a:prstGeom prst="ellipse">
              <a:avLst/>
            </a:pr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Line 14"/>
            <p:cNvSpPr/>
            <p:nvPr/>
          </p:nvSpPr>
          <p:spPr>
            <a:xfrm>
              <a:off x="5035320" y="1295280"/>
              <a:ext cx="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5"/>
            <p:cNvSpPr/>
            <p:nvPr/>
          </p:nvSpPr>
          <p:spPr>
            <a:xfrm>
              <a:off x="6686640" y="4724280"/>
              <a:ext cx="2641320" cy="1066680"/>
            </a:xfrm>
            <a:prstGeom prst="ellipse">
              <a:avLst/>
            </a:pr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6"/>
            <p:cNvSpPr/>
            <p:nvPr/>
          </p:nvSpPr>
          <p:spPr>
            <a:xfrm>
              <a:off x="6686640" y="914400"/>
              <a:ext cx="2641320" cy="1066680"/>
            </a:xfrm>
            <a:prstGeom prst="ellipse">
              <a:avLst/>
            </a:pr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7"/>
            <p:cNvSpPr/>
            <p:nvPr/>
          </p:nvSpPr>
          <p:spPr>
            <a:xfrm>
              <a:off x="577800" y="914400"/>
              <a:ext cx="2641680" cy="1066680"/>
            </a:xfrm>
            <a:prstGeom prst="ellipse">
              <a:avLst/>
            </a:pr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8"/>
            <p:cNvSpPr/>
            <p:nvPr/>
          </p:nvSpPr>
          <p:spPr>
            <a:xfrm>
              <a:off x="743040" y="4724280"/>
              <a:ext cx="2641320" cy="1066680"/>
            </a:xfrm>
            <a:prstGeom prst="ellipse">
              <a:avLst/>
            </a:pr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" name="Text Box 19"/>
          <p:cNvSpPr/>
          <p:nvPr/>
        </p:nvSpPr>
        <p:spPr>
          <a:xfrm>
            <a:off x="3879720" y="441360"/>
            <a:ext cx="247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CY PERFORMANCE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6934320" y="3032280"/>
            <a:ext cx="247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CTED OUTCOMES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3879720" y="4327560"/>
            <a:ext cx="247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3797280" y="5638680"/>
            <a:ext cx="247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FERRED POLICIES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660240" y="3032280"/>
            <a:ext cx="247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ERVED OUTCOMES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6934320" y="1219320"/>
            <a:ext cx="214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481"/>
                </a:solidFill>
                <a:latin typeface="Arial"/>
              </a:rPr>
              <a:t>forecas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825480" y="12193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481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1073160" y="50292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481"/>
                </a:solidFill>
                <a:latin typeface="Arial"/>
              </a:rPr>
              <a:t>monito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7"/>
          <p:cNvSpPr/>
          <p:nvPr/>
        </p:nvSpPr>
        <p:spPr>
          <a:xfrm>
            <a:off x="6603840" y="5029200"/>
            <a:ext cx="28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481"/>
                </a:solidFill>
                <a:latin typeface="Arial"/>
              </a:rPr>
              <a:t>recommend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8"/>
          <p:cNvSpPr/>
          <p:nvPr/>
        </p:nvSpPr>
        <p:spPr>
          <a:xfrm>
            <a:off x="3797280" y="1676520"/>
            <a:ext cx="247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481"/>
                </a:solidFill>
                <a:latin typeface="Arial"/>
              </a:rPr>
              <a:t>problem structuring  </a:t>
            </a:r>
            <a:r>
              <a:rPr b="0" lang="en-US" sz="2000" spc="-1" strike="noStrike">
                <a:solidFill>
                  <a:srgbClr val="2b5481"/>
                </a:solidFill>
                <a:latin typeface="Garamond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29"/>
          <p:cNvSpPr/>
          <p:nvPr/>
        </p:nvSpPr>
        <p:spPr>
          <a:xfrm>
            <a:off x="3797280" y="4267080"/>
            <a:ext cx="247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481"/>
                </a:solidFill>
                <a:latin typeface="Arial"/>
              </a:rPr>
              <a:t>problem structuring  </a:t>
            </a:r>
            <a:r>
              <a:rPr b="0" lang="en-US" sz="2000" spc="-1" strike="noStrike">
                <a:solidFill>
                  <a:srgbClr val="2b5481"/>
                </a:solidFill>
                <a:latin typeface="Garamond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30"/>
          <p:cNvSpPr/>
          <p:nvPr/>
        </p:nvSpPr>
        <p:spPr>
          <a:xfrm>
            <a:off x="3797280" y="3048120"/>
            <a:ext cx="247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CY PROBLEMS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Line 2"/>
          <p:cNvSpPr/>
          <p:nvPr/>
        </p:nvSpPr>
        <p:spPr>
          <a:xfrm>
            <a:off x="3384720" y="3886200"/>
            <a:ext cx="3962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Group 3"/>
          <p:cNvGrpSpPr/>
          <p:nvPr/>
        </p:nvGrpSpPr>
        <p:grpSpPr>
          <a:xfrm>
            <a:off x="2082960" y="1355760"/>
            <a:ext cx="7098840" cy="5105160"/>
            <a:chOff x="2082960" y="1355760"/>
            <a:chExt cx="7098840" cy="5105160"/>
          </a:xfrm>
        </p:grpSpPr>
        <p:sp>
          <p:nvSpPr>
            <p:cNvPr id="143" name="Line 4"/>
            <p:cNvSpPr/>
            <p:nvPr/>
          </p:nvSpPr>
          <p:spPr>
            <a:xfrm flipV="1">
              <a:off x="5632560" y="1963440"/>
              <a:ext cx="0" cy="364680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5"/>
            <p:cNvSpPr/>
            <p:nvPr/>
          </p:nvSpPr>
          <p:spPr>
            <a:xfrm>
              <a:off x="3857760" y="2631960"/>
              <a:ext cx="3681000" cy="249156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6"/>
            <p:cNvSpPr/>
            <p:nvPr/>
          </p:nvSpPr>
          <p:spPr>
            <a:xfrm>
              <a:off x="2543040" y="1537920"/>
              <a:ext cx="6047280" cy="480168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7"/>
            <p:cNvSpPr/>
            <p:nvPr/>
          </p:nvSpPr>
          <p:spPr>
            <a:xfrm>
              <a:off x="4581000" y="1355760"/>
              <a:ext cx="2103120" cy="97236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8"/>
            <p:cNvSpPr/>
            <p:nvPr/>
          </p:nvSpPr>
          <p:spPr>
            <a:xfrm>
              <a:off x="2082960" y="3422160"/>
              <a:ext cx="2103480" cy="97200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9"/>
            <p:cNvSpPr/>
            <p:nvPr/>
          </p:nvSpPr>
          <p:spPr>
            <a:xfrm>
              <a:off x="7078680" y="3422160"/>
              <a:ext cx="2103120" cy="97200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10"/>
            <p:cNvSpPr/>
            <p:nvPr/>
          </p:nvSpPr>
          <p:spPr>
            <a:xfrm>
              <a:off x="4581000" y="3422160"/>
              <a:ext cx="2103120" cy="97200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11"/>
            <p:cNvSpPr/>
            <p:nvPr/>
          </p:nvSpPr>
          <p:spPr>
            <a:xfrm>
              <a:off x="4581000" y="5488560"/>
              <a:ext cx="2103120" cy="97236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2"/>
            <p:cNvSpPr/>
            <p:nvPr/>
          </p:nvSpPr>
          <p:spPr>
            <a:xfrm>
              <a:off x="4581000" y="2449800"/>
              <a:ext cx="2103120" cy="850680"/>
            </a:xfrm>
            <a:prstGeom prst="ellipse">
              <a:avLst/>
            </a:pr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3"/>
            <p:cNvSpPr/>
            <p:nvPr/>
          </p:nvSpPr>
          <p:spPr>
            <a:xfrm>
              <a:off x="4581000" y="4516200"/>
              <a:ext cx="2103120" cy="850680"/>
            </a:xfrm>
            <a:prstGeom prst="ellipse">
              <a:avLst/>
            </a:pr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14"/>
            <p:cNvSpPr/>
            <p:nvPr/>
          </p:nvSpPr>
          <p:spPr>
            <a:xfrm>
              <a:off x="5632560" y="2267280"/>
              <a:ext cx="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"/>
            <p:cNvSpPr/>
            <p:nvPr/>
          </p:nvSpPr>
          <p:spPr>
            <a:xfrm>
              <a:off x="6947280" y="5002560"/>
              <a:ext cx="2103120" cy="850680"/>
            </a:xfrm>
            <a:prstGeom prst="ellipse">
              <a:avLst/>
            </a:pr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6"/>
            <p:cNvSpPr/>
            <p:nvPr/>
          </p:nvSpPr>
          <p:spPr>
            <a:xfrm>
              <a:off x="6947280" y="1963440"/>
              <a:ext cx="2103120" cy="850680"/>
            </a:xfrm>
            <a:prstGeom prst="ellipse">
              <a:avLst/>
            </a:pr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7"/>
            <p:cNvSpPr/>
            <p:nvPr/>
          </p:nvSpPr>
          <p:spPr>
            <a:xfrm>
              <a:off x="2082960" y="1963440"/>
              <a:ext cx="2103480" cy="850680"/>
            </a:xfrm>
            <a:prstGeom prst="ellipse">
              <a:avLst/>
            </a:pr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8"/>
            <p:cNvSpPr/>
            <p:nvPr/>
          </p:nvSpPr>
          <p:spPr>
            <a:xfrm>
              <a:off x="2214360" y="5002560"/>
              <a:ext cx="2103120" cy="850680"/>
            </a:xfrm>
            <a:prstGeom prst="ellipse">
              <a:avLst/>
            </a:pr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915400" cy="82548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Questions Answered by Methods</a:t>
            </a:r>
            <a:endParaRPr b="0" lang="en-US" sz="36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458640" y="968400"/>
            <a:ext cx="4210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TROSPECTIV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happened and was it worthwhil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6851520" y="1023840"/>
            <a:ext cx="3054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SPECTIVE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will happen and will it be worthwhil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22"/>
          <p:cNvSpPr/>
          <p:nvPr/>
        </p:nvSpPr>
        <p:spPr>
          <a:xfrm>
            <a:off x="5613480" y="1066680"/>
            <a:ext cx="0" cy="57913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23"/>
          <p:cNvSpPr/>
          <p:nvPr/>
        </p:nvSpPr>
        <p:spPr>
          <a:xfrm>
            <a:off x="420840" y="2584440"/>
            <a:ext cx="305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TIV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problem should be solv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24"/>
          <p:cNvSpPr/>
          <p:nvPr/>
        </p:nvSpPr>
        <p:spPr>
          <a:xfrm>
            <a:off x="458640" y="4311720"/>
            <a:ext cx="321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MONSTRATIV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is the solution to the proble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25"/>
          <p:cNvSpPr/>
          <p:nvPr/>
        </p:nvSpPr>
        <p:spPr>
          <a:xfrm>
            <a:off x="1486080" y="3886200"/>
            <a:ext cx="808956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383760"/>
            <a:ext cx="8915400" cy="136836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Impact Matrix (Scorecard)</a:t>
            </a: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95360" y="1981080"/>
          <a:ext cx="8915400" cy="4114800"/>
        </p:xfrm>
        <a:graphic>
          <a:graphicData uri="http://schemas.openxmlformats.org/drawingml/2006/table">
            <a:tbl>
              <a:tblPr/>
              <a:tblGrid>
                <a:gridCol w="1782720"/>
                <a:gridCol w="1782720"/>
                <a:gridCol w="1784520"/>
                <a:gridCol w="1782720"/>
                <a:gridCol w="178272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383760"/>
            <a:ext cx="8915400" cy="136836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Spreadsheet</a:t>
            </a: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95360" y="1981080"/>
          <a:ext cx="8915400" cy="4114800"/>
        </p:xfrm>
        <a:graphic>
          <a:graphicData uri="http://schemas.openxmlformats.org/drawingml/2006/table">
            <a:tbl>
              <a:tblPr/>
              <a:tblGrid>
                <a:gridCol w="1782720"/>
                <a:gridCol w="1782720"/>
                <a:gridCol w="1784520"/>
                <a:gridCol w="1782720"/>
                <a:gridCol w="178272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383760"/>
            <a:ext cx="8915400" cy="136836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Influence Diagram</a:t>
            </a: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1112760" y="3198960"/>
            <a:ext cx="1959120" cy="122868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3954600" y="1700280"/>
            <a:ext cx="2151000" cy="122868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3954600" y="4311720"/>
            <a:ext cx="2151000" cy="134460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6566040" y="2852640"/>
            <a:ext cx="2573280" cy="1650960"/>
          </a:xfrm>
          <a:prstGeom prst="flowChartAlternateProcess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2073240" y="2274480"/>
            <a:ext cx="1919160" cy="8859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2149560" y="4427640"/>
            <a:ext cx="1805040" cy="652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6067440" y="2314440"/>
            <a:ext cx="1843200" cy="5000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14"/>
          <p:cNvSpPr/>
          <p:nvPr/>
        </p:nvSpPr>
        <p:spPr>
          <a:xfrm flipV="1">
            <a:off x="6067440" y="4543560"/>
            <a:ext cx="1919160" cy="536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000" y="383760"/>
            <a:ext cx="8915400" cy="136836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Analysis of Policy Argument</a:t>
            </a: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825480" y="68580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8007480" y="1828800"/>
            <a:ext cx="74268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5778360" y="3276720"/>
            <a:ext cx="743040" cy="66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403280" y="1828800"/>
            <a:ext cx="743040" cy="658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 rot="60000">
            <a:off x="4770000" y="1904760"/>
            <a:ext cx="200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642680" y="19501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8089920" y="198000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5778360" y="1828800"/>
            <a:ext cx="743040" cy="66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5861160" y="34279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3205080" y="4811760"/>
            <a:ext cx="743040" cy="609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3205080" y="2968560"/>
            <a:ext cx="743040" cy="609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3348360" y="4848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15"/>
          <p:cNvSpPr/>
          <p:nvPr/>
        </p:nvSpPr>
        <p:spPr>
          <a:xfrm>
            <a:off x="2146320" y="2133720"/>
            <a:ext cx="3632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16"/>
          <p:cNvSpPr/>
          <p:nvPr/>
        </p:nvSpPr>
        <p:spPr>
          <a:xfrm>
            <a:off x="6521400" y="2133720"/>
            <a:ext cx="1486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708120" y="2546640"/>
            <a:ext cx="189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These experts state that “the only way to stop genocide in  Kosovo is to mount a massive NATO air strike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8"/>
          <p:cNvSpPr/>
          <p:nvPr/>
        </p:nvSpPr>
        <p:spPr>
          <a:xfrm>
            <a:off x="7574040" y="2643120"/>
            <a:ext cx="2063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The only way to stop genocide in the Kosovo is to mount a massive NATO air strik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9"/>
          <p:cNvSpPr/>
          <p:nvPr/>
        </p:nvSpPr>
        <p:spPr>
          <a:xfrm>
            <a:off x="3797280" y="1813680"/>
            <a:ext cx="18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Th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0"/>
          <p:cNvSpPr/>
          <p:nvPr/>
        </p:nvSpPr>
        <p:spPr>
          <a:xfrm>
            <a:off x="5613480" y="27741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Definite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21"/>
          <p:cNvSpPr/>
          <p:nvPr/>
        </p:nvSpPr>
        <p:spPr>
          <a:xfrm>
            <a:off x="5494320" y="4179960"/>
            <a:ext cx="3137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Unless:  Dr.Henry  Kissinger, an outstanding foreign policy analyst and former Secretary of State, does not support a NATO air strike.  He is more credible than the other expert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2"/>
          <p:cNvSpPr/>
          <p:nvPr/>
        </p:nvSpPr>
        <p:spPr>
          <a:xfrm>
            <a:off x="2558880" y="5501880"/>
            <a:ext cx="288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The experts have Ph.D. degrees from leading universities and are respected by their pe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2540160" y="3582720"/>
            <a:ext cx="280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Experts at the Center for Strategic Studies carried out a full and objective stud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24"/>
          <p:cNvSpPr/>
          <p:nvPr/>
        </p:nvSpPr>
        <p:spPr>
          <a:xfrm>
            <a:off x="6191280" y="2514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25"/>
          <p:cNvSpPr/>
          <p:nvPr/>
        </p:nvSpPr>
        <p:spPr>
          <a:xfrm flipV="1">
            <a:off x="6191280" y="3047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6"/>
          <p:cNvSpPr/>
          <p:nvPr/>
        </p:nvSpPr>
        <p:spPr>
          <a:xfrm>
            <a:off x="5443560" y="108108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7"/>
          <p:cNvSpPr/>
          <p:nvPr/>
        </p:nvSpPr>
        <p:spPr>
          <a:xfrm>
            <a:off x="5118120" y="1355040"/>
            <a:ext cx="22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It is not clear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8"/>
          <p:cNvSpPr/>
          <p:nvPr/>
        </p:nvSpPr>
        <p:spPr>
          <a:xfrm>
            <a:off x="5943600" y="19422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29"/>
          <p:cNvSpPr/>
          <p:nvPr/>
        </p:nvSpPr>
        <p:spPr>
          <a:xfrm>
            <a:off x="3371760" y="304380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30"/>
          <p:cNvSpPr/>
          <p:nvPr/>
        </p:nvSpPr>
        <p:spPr>
          <a:xfrm flipV="1">
            <a:off x="6191280" y="1676160"/>
            <a:ext cx="0" cy="15228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31"/>
          <p:cNvSpPr/>
          <p:nvPr/>
        </p:nvSpPr>
        <p:spPr>
          <a:xfrm flipV="1">
            <a:off x="3581280" y="2162160"/>
            <a:ext cx="0" cy="806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000" y="383760"/>
            <a:ext cx="8915400" cy="136836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Garamond"/>
              </a:rPr>
              <a:t>The Role of Policy Analysis In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Garamond"/>
              </a:rPr>
              <a:t>The Policy Process</a:t>
            </a:r>
            <a:endParaRPr b="0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941076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y agenda setting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tructuring policy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y formulation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ecasting policy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y adoption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ommending preferred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y implementation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nitoring policy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y evaluation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valuating policy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y adaptation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ommending adapted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y succession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Re)commending existing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y termination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ommending no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000" y="39960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How Policies Work</a:t>
            </a: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000" y="1523880"/>
            <a:ext cx="8915400" cy="490248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When we think about policies that are developed to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respond to policy issues, we should be able to explain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the process by which these policies are made and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Implemente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01"/>
              </a:spcBef>
              <a:spcAft>
                <a:spcPts val="876"/>
              </a:spcAft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How do problems get the attention of policy mak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01"/>
              </a:spcBef>
              <a:spcAft>
                <a:spcPts val="876"/>
              </a:spcAft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How are policies made and implement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01"/>
              </a:spcBef>
              <a:spcAft>
                <a:spcPts val="876"/>
              </a:spcAft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How are they monitored and and evaluated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01"/>
              </a:spcBef>
              <a:spcAft>
                <a:spcPts val="876"/>
              </a:spcAft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How are policies maintained, changed, or terminat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01"/>
              </a:spcBef>
              <a:spcAft>
                <a:spcPts val="876"/>
              </a:spcAft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How can methods of policy analysis help improve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Oval 2"/>
          <p:cNvSpPr/>
          <p:nvPr/>
        </p:nvSpPr>
        <p:spPr>
          <a:xfrm>
            <a:off x="1171440" y="568440"/>
            <a:ext cx="7425000" cy="534492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3375000" y="493560"/>
            <a:ext cx="3083040" cy="165600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4"/>
          <p:cNvSpPr/>
          <p:nvPr/>
        </p:nvSpPr>
        <p:spPr>
          <a:xfrm>
            <a:off x="6603840" y="4432320"/>
            <a:ext cx="2716200" cy="1430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5"/>
          <p:cNvSpPr/>
          <p:nvPr/>
        </p:nvSpPr>
        <p:spPr>
          <a:xfrm>
            <a:off x="6566040" y="568440"/>
            <a:ext cx="2716200" cy="1430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Freeform 6"/>
          <p:cNvSpPr/>
          <p:nvPr/>
        </p:nvSpPr>
        <p:spPr>
          <a:xfrm>
            <a:off x="5433840" y="3774960"/>
            <a:ext cx="1562400" cy="878040"/>
          </a:xfrm>
          <a:custGeom>
            <a:avLst/>
            <a:gdLst/>
            <a:ahLst/>
            <a:rect l="l" t="t" r="r" b="b"/>
            <a:pathLst>
              <a:path w="708" h="747">
                <a:moveTo>
                  <a:pt x="0" y="0"/>
                </a:moveTo>
                <a:lnTo>
                  <a:pt x="708" y="747"/>
                </a:lnTo>
              </a:path>
            </a:pathLst>
          </a:custGeom>
          <a:noFill/>
          <a:ln w="57240">
            <a:solidFill>
              <a:srgbClr val="ffffff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Freeform 7"/>
          <p:cNvSpPr/>
          <p:nvPr/>
        </p:nvSpPr>
        <p:spPr>
          <a:xfrm>
            <a:off x="2844720" y="3774960"/>
            <a:ext cx="1590840" cy="911520"/>
          </a:xfrm>
          <a:custGeom>
            <a:avLst/>
            <a:gdLst/>
            <a:ahLst/>
            <a:rect l="l" t="t" r="r" b="b"/>
            <a:pathLst>
              <a:path w="717" h="771">
                <a:moveTo>
                  <a:pt x="717" y="0"/>
                </a:moveTo>
                <a:lnTo>
                  <a:pt x="0" y="771"/>
                </a:lnTo>
              </a:path>
            </a:pathLst>
          </a:custGeom>
          <a:noFill/>
          <a:ln w="57240">
            <a:solidFill>
              <a:srgbClr val="ffffff"/>
            </a:solidFill>
            <a:prstDash val="sysDot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Freeform 8"/>
          <p:cNvSpPr/>
          <p:nvPr/>
        </p:nvSpPr>
        <p:spPr>
          <a:xfrm>
            <a:off x="5361120" y="1839960"/>
            <a:ext cx="1736640" cy="947520"/>
          </a:xfrm>
          <a:custGeom>
            <a:avLst/>
            <a:gdLst/>
            <a:ahLst/>
            <a:rect l="l" t="t" r="r" b="b"/>
            <a:pathLst>
              <a:path w="720" h="681">
                <a:moveTo>
                  <a:pt x="0" y="681"/>
                </a:moveTo>
                <a:lnTo>
                  <a:pt x="720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9"/>
          <p:cNvSpPr/>
          <p:nvPr/>
        </p:nvSpPr>
        <p:spPr>
          <a:xfrm flipH="1" flipV="1">
            <a:off x="2732040" y="1839960"/>
            <a:ext cx="1666800" cy="985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3375000" y="4433760"/>
            <a:ext cx="3083040" cy="1656000"/>
          </a:xfrm>
          <a:prstGeom prst="rect">
            <a:avLst/>
          </a:prstGeom>
          <a:solidFill>
            <a:srgbClr val="ddddd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6237360" y="2374920"/>
            <a:ext cx="3082680" cy="1808280"/>
          </a:xfrm>
          <a:prstGeom prst="rect">
            <a:avLst/>
          </a:prstGeom>
          <a:solidFill>
            <a:srgbClr val="ddddd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val 12"/>
          <p:cNvSpPr/>
          <p:nvPr/>
        </p:nvSpPr>
        <p:spPr>
          <a:xfrm>
            <a:off x="474840" y="568440"/>
            <a:ext cx="2716200" cy="1430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Oval 13">
            <a:hlinkClick r:id="rId2" action="ppaction://hlinksldjump"/>
          </p:cNvPr>
          <p:cNvSpPr/>
          <p:nvPr/>
        </p:nvSpPr>
        <p:spPr>
          <a:xfrm>
            <a:off x="474840" y="4483080"/>
            <a:ext cx="2716200" cy="1430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Oval 14"/>
          <p:cNvSpPr/>
          <p:nvPr/>
        </p:nvSpPr>
        <p:spPr>
          <a:xfrm>
            <a:off x="3960720" y="2676600"/>
            <a:ext cx="1916280" cy="1317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436680" y="2374920"/>
            <a:ext cx="3084480" cy="1808280"/>
          </a:xfrm>
          <a:prstGeom prst="rect">
            <a:avLst/>
          </a:prstGeom>
          <a:solidFill>
            <a:srgbClr val="ddddd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4068720" y="3006720"/>
            <a:ext cx="17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LICY ANALY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585720" y="2924280"/>
            <a:ext cx="2863800" cy="825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LICYMAKING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6434280" y="2924280"/>
            <a:ext cx="271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LICY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9"/>
          <p:cNvSpPr/>
          <p:nvPr/>
        </p:nvSpPr>
        <p:spPr>
          <a:xfrm>
            <a:off x="3176640" y="4799160"/>
            <a:ext cx="3524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LIC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0"/>
          <p:cNvSpPr/>
          <p:nvPr/>
        </p:nvSpPr>
        <p:spPr>
          <a:xfrm>
            <a:off x="6603840" y="487512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b5481"/>
                </a:solidFill>
                <a:latin typeface="Arial"/>
              </a:rPr>
              <a:t>Disse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21"/>
          <p:cNvSpPr/>
          <p:nvPr/>
        </p:nvSpPr>
        <p:spPr>
          <a:xfrm>
            <a:off x="804960" y="4906800"/>
            <a:ext cx="20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b5481"/>
                </a:solidFill>
                <a:latin typeface="Arial"/>
              </a:rPr>
              <a:t>Uti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22"/>
          <p:cNvSpPr/>
          <p:nvPr/>
        </p:nvSpPr>
        <p:spPr>
          <a:xfrm>
            <a:off x="771480" y="1023840"/>
            <a:ext cx="20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b5481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3"/>
          <p:cNvSpPr/>
          <p:nvPr/>
        </p:nvSpPr>
        <p:spPr>
          <a:xfrm>
            <a:off x="3521160" y="870120"/>
            <a:ext cx="278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LICY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24"/>
          <p:cNvSpPr/>
          <p:nvPr/>
        </p:nvSpPr>
        <p:spPr>
          <a:xfrm>
            <a:off x="706320" y="-297000"/>
            <a:ext cx="81136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25"/>
          <p:cNvSpPr/>
          <p:nvPr/>
        </p:nvSpPr>
        <p:spPr>
          <a:xfrm>
            <a:off x="6527880" y="1023840"/>
            <a:ext cx="28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b5481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383760"/>
            <a:ext cx="8915400" cy="136836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Factors Influencing the Practice of Policy Analysis</a:t>
            </a: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89154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gnitive sty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alytic r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stitutional incentiv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me constr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fessional soci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disciplinary teamwor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ganizational cul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litical constr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47320" y="399600"/>
            <a:ext cx="9410760" cy="11430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Three Dimensions of Utilization</a:t>
            </a: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grpSp>
        <p:nvGrpSpPr>
          <p:cNvPr id="237" name="Content Placeholder 183298"/>
          <p:cNvGrpSpPr/>
          <p:nvPr/>
        </p:nvGrpSpPr>
        <p:grpSpPr>
          <a:xfrm>
            <a:off x="2305080" y="1769760"/>
            <a:ext cx="5276520" cy="3234960"/>
            <a:chOff x="2305080" y="1769760"/>
            <a:chExt cx="5276520" cy="3234960"/>
          </a:xfrm>
        </p:grpSpPr>
        <p:sp>
          <p:nvSpPr>
            <p:cNvPr id="238" name="_s1028"/>
            <p:cNvSpPr/>
            <p:nvPr/>
          </p:nvSpPr>
          <p:spPr>
            <a:xfrm>
              <a:off x="4122720" y="2344320"/>
              <a:ext cx="1642680" cy="1643040"/>
            </a:xfrm>
            <a:prstGeom prst="ellipse">
              <a:avLst/>
            </a:prstGeom>
            <a:solidFill>
              <a:srgbClr val="336699">
                <a:alpha val="50000"/>
              </a:srgbClr>
            </a:solidFill>
            <a:ln w="46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_s1029"/>
            <p:cNvSpPr/>
            <p:nvPr/>
          </p:nvSpPr>
          <p:spPr>
            <a:xfrm>
              <a:off x="4322520" y="1769760"/>
              <a:ext cx="124272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mposition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(users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_s1030"/>
            <p:cNvSpPr/>
            <p:nvPr/>
          </p:nvSpPr>
          <p:spPr>
            <a:xfrm>
              <a:off x="4663800" y="3282840"/>
              <a:ext cx="1643040" cy="1642680"/>
            </a:xfrm>
            <a:prstGeom prst="ellipse">
              <a:avLst/>
            </a:prstGeom>
            <a:solidFill>
              <a:srgbClr val="00ccff">
                <a:alpha val="50000"/>
              </a:srgbClr>
            </a:solidFill>
            <a:ln w="46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_s1031"/>
            <p:cNvSpPr/>
            <p:nvPr/>
          </p:nvSpPr>
          <p:spPr>
            <a:xfrm>
              <a:off x="6338880" y="4595400"/>
              <a:ext cx="124272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Effects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(type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_s1032"/>
            <p:cNvSpPr/>
            <p:nvPr/>
          </p:nvSpPr>
          <p:spPr>
            <a:xfrm>
              <a:off x="3579840" y="3281040"/>
              <a:ext cx="1642680" cy="164268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46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_s1033"/>
            <p:cNvSpPr/>
            <p:nvPr/>
          </p:nvSpPr>
          <p:spPr>
            <a:xfrm>
              <a:off x="2305080" y="4595400"/>
              <a:ext cx="124236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cope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(Information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0268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Key Points</a:t>
            </a: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2320" y="1371600"/>
            <a:ext cx="8915400" cy="528336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process of public policy making is a political process based on the exercise of political power and legal authorit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wer and authority are exercised by executive, legislative, and judicial bodies at local, national, and international lev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process of policy making has multiple phases ordered in time—chains, cycles, detours, short-circui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licies are made more or less quickly, by a few or many persons, with small or (rarely) large chang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 models (I-IV) help us understand the process of making and implementing polic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12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process of policy analysis helps improve the process of policy making by providing policy-relevant information that is useful in the policy process.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383760"/>
            <a:ext cx="8915400" cy="136836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Phases of Policy Making</a:t>
            </a: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89154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nda set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ul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op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cc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39960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Four Models of Policy Making</a:t>
            </a: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6440" y="1930320"/>
            <a:ext cx="8915400" cy="452592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del I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ional Act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del II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ational Proces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del III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eaucratic Poli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del IV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rupted Equilibr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383760"/>
            <a:ext cx="8915400" cy="136836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Model I: Rational Actor</a:t>
            </a: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89154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Analogy —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licy process 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ke an economic enterprise or compan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which a CEO chooses an invest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ernative that earns the greatest net profit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(1 + r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Rule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—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er the benefits of 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ernative, and the less the costs,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likely the alternative will be chos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20040" cy="11430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Characteristics of Model I</a:t>
            </a: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68356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cy makers agree on a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identify 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list all policy altern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predict all outcom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determine utility/value of out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hoose the optimal altern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000" y="401760"/>
            <a:ext cx="8915400" cy="113976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Model II: Organizational Process</a:t>
            </a: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89154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Analogy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—</a:t>
            </a:r>
            <a:r>
              <a:rPr b="0" lang="en-US" sz="24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y process is like 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nding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b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which participants adju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positions because they are forced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otiate and compromi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Rule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—</a:t>
            </a:r>
            <a:r>
              <a:rPr b="0" lang="en-US" sz="24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san policy maker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utual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dju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ir policies, so that policies at o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only marginally different fro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ies at a later time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+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2680" y="399600"/>
            <a:ext cx="8420040" cy="11430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Garamond"/>
              </a:rPr>
              <a:t>Characteristics of Model II</a:t>
            </a: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240" y="1752480"/>
            <a:ext cx="8420040" cy="455616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85000"/>
              </a:lnSpc>
              <a:spcBef>
                <a:spcPts val="550"/>
              </a:spcBef>
              <a:spcAft>
                <a:spcPts val="964"/>
              </a:spcAft>
              <a:buClr>
                <a:srgbClr val="ffff66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licy makers adjust objectives after tradeoff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spcAft>
                <a:spcPts val="964"/>
              </a:spcAft>
              <a:buClr>
                <a:srgbClr val="ffff66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licies made at the margins of status qu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spcAft>
                <a:spcPts val="964"/>
              </a:spcAft>
              <a:buClr>
                <a:srgbClr val="ffff66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licies based on a limited set of alternativ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spcAft>
                <a:spcPts val="964"/>
              </a:spcAft>
              <a:buClr>
                <a:srgbClr val="ffff66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hanges in policies occur in small increm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spcAft>
                <a:spcPts val="964"/>
              </a:spcAft>
              <a:buClr>
                <a:srgbClr val="ffff66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blems reconstructed when new information becomes availa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spcAft>
                <a:spcPts val="964"/>
              </a:spcAft>
              <a:buClr>
                <a:srgbClr val="ffff66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nalysis and evaluation occur throughout society  in a process that is fragmented and disjoint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spcAft>
                <a:spcPts val="964"/>
              </a:spcAft>
              <a:buClr>
                <a:srgbClr val="ffff66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licies involve small steps to remedy a problem rather than cure them completely with radical steps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550"/>
              </a:spcBef>
              <a:spcAft>
                <a:spcPts val="9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03:52:23Z</dcterms:created>
  <dc:creator>william dunn</dc:creator>
  <dc:description/>
  <dc:language>en-US</dc:language>
  <cp:lastModifiedBy>Stephanie Chaisson</cp:lastModifiedBy>
  <dcterms:modified xsi:type="dcterms:W3CDTF">2012-06-12T16:02:01Z</dcterms:modified>
  <cp:revision>125</cp:revision>
  <dc:subject/>
  <dc:title>PowerPoint Presentation</dc:title>
</cp:coreProperties>
</file>