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6A4-F3CD-4374-ABA0-7D98B8C3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70B-D506-4B53-A7A8-487D3558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437-FC87-434F-BE45-73A36786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C5A-EC5E-4DB5-A859-8DE8F778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7B6A-5369-48D4-81C3-5E4BBE2C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0B52-2C4C-43B3-A7EB-3A1B0238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6285-7467-4BAC-AAC3-F4EA8C97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461D-D13C-49B0-A2B0-4659848C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3CA1-8809-4BBB-8C25-267E8483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0A90-F380-4AF5-BB48-34601C2A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9E73-A032-4253-AF35-0E0C25CB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5D7-18AE-4324-AF56-E2576DE9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AD08-94FA-43BD-AB92-6C241DB4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C3F2-E8C4-4FDB-9A24-429E760E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9E85-192D-4E68-B85F-805CB05C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3A02-0BF1-4EAC-9B92-A57ABE31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5592-C1BA-4067-A2EE-EAE2BB31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508-27B0-4C5E-9961-9340121F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A5C-FA32-43B8-BB77-6A345C08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83C-2623-40D2-B78B-26D76B67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A11-CD25-446E-9584-90F664E1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B8B-859E-4099-85D9-62FA5685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76C-DFBE-4A0A-9EF7-C79C864F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38E-818A-4F31-A94B-AE3BB41C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5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2028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2028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2028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3D06-49E9-46E8-A3A5-4447AF120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202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5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202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5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5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2028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2028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2028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87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28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25DF-5428-409E-A634-7A82018D2EDA}" type="slidenum">
              <a:rPr b="0" lang="en-US" sz="1400" spc="-1" strike="noStrike">
                <a:solidFill>
                  <a:srgbClr val="2028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Methods in Industrial/Organizational Psycholog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03280" y="3848040"/>
            <a:ext cx="53211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roduction to Industrial/Organizational Psychology by Ronald Ri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533520" y="4025880"/>
            <a:ext cx="13968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cientific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ified samp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lection of research participants based on categories representing important distinguishing characteristics of 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cientific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data are collected, they can then be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cases, data are analyzed using statistical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cientific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step of the research process is the interpretation of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er draws conclusions about the meanings of the findings and their relevance to actual work behavior as well as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Research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al metho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research design characterized by a high degree of control over the research setting to allow for the determination of cause-and-effect relationship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Research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variable that is manipulated by the researcher using the experimental method, wh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variable that is acted upon by the independent variable; the outcom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advantage of the experimental method is that it allows us to determine cause-and-effect relationship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Research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ment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group in an experimental investigation that is subjected to the change in the independent variable, while the control group is the group that receives no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neous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variables other than the independent variable that may influence the dependent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Research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to the success of the experimental method is to hold all extraneous variabl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assig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thod of assigning subjects to groups to control for the effects of extraneous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Research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hnson, Driskell, &amp; Salas, 199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udwig &amp; Geller, 199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Research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si-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many cases, a researcher does not have the control over the situation needed to run a true experimen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 might lack random ass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 of analysis might be group or organization, rather than individu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Research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ional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esearch method that examines the relationship among or between variables as they occur natu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 is that a correlational study might be easier to implement in a particular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cientific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cientific research methods enable an I/O psychologist to study a specific issue obje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unbiased approach to observation and interpretations of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Research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echnique that allows results from several different research studies to be combined and summa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analyses typically rely on indicator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estimates of the magnitude of the relationship or effect found in a research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Research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escriptive investigation that involves a one-time assessment of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provide rich, descriptive information about work behaviors and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of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variables that are operationalized are clearly defined so that they may be concretely 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of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 is one procedure for measuring research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trusive 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search observation in which the presence of the observer is known to the particip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obtrusive 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bservation in which the presence of the observer is not known to the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of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report 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easurement methods that rely on research participants’ reports of their own behaviors or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e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 common self-report measure in which participants are asked to report on their attitudes, beliefs, and/or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ing and Using Research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valid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xtent to which extraneous or confounding variables are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valid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whether research results obtained in one setting will apply to another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thical Issues in Research and Practice in I/O Psych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erican Psychological Association lists several core principles that should guide the ethical conduct of research in psychology, including I/O psyc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thical Issues in Research and Practice in I/O Psych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key element in working with human participants is obtain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formed consent, a research participant is fully informed of the nature of the experiment and has the right to not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cientific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s of I/O psychology include the ability to describe, explain, and predict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pplied science, I/O psychology also has the goal of attempting to control or alter behavior to obtain desire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Fig_2_1"/>
          <p:cNvPicPr/>
          <p:nvPr/>
        </p:nvPicPr>
        <p:blipFill>
          <a:blip r:embed="rId1"/>
          <a:stretch/>
        </p:blipFill>
        <p:spPr>
          <a:xfrm>
            <a:off x="878040" y="2671920"/>
            <a:ext cx="73879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cientific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tep in the conducting research is to specify the problem or issue to be stud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step is the take those elements the researcher intends to measure and develop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Tab_2_1"/>
          <p:cNvPicPr/>
          <p:nvPr/>
        </p:nvPicPr>
        <p:blipFill>
          <a:blip r:embed="rId1"/>
          <a:stretch/>
        </p:blipFill>
        <p:spPr>
          <a:xfrm>
            <a:off x="878040" y="1631880"/>
            <a:ext cx="738792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cientific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the elements measured in research investig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othes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statements about the supposed relationships between or among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esting hypotheses, a researcher may be able to develop a theory or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or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n organization of beliefs into a representation of the factors that affect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cientific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hird step in the research process involves selecting the research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design will depend upon several factors, such as the research setting and the degree of control the researcher 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cientific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urth step in the research process is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8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lection of a representative group from a larger population for stu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the selection of research participants from a population so that each individual has an equal probability of being cho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6:53:57Z</dcterms:created>
  <dc:creator>Amber Garcia</dc:creator>
  <dc:description/>
  <dc:language>en-US</dc:language>
  <cp:lastModifiedBy>amber</cp:lastModifiedBy>
  <dcterms:modified xsi:type="dcterms:W3CDTF">2012-07-16T12:10:29Z</dcterms:modified>
  <cp:revision>11</cp:revision>
  <dc:subject/>
  <dc:title>CHAPTER 1Introduction: Definitions and History</dc:title>
</cp:coreProperties>
</file>