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393A-F2E8-4E85-99A5-CC8CF768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A640-469C-4013-B52C-BE72BAB9AA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A137-AAB7-4F8D-8793-FD3A7BC838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6820-F9FF-4B91-82D3-DCC428D0F4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6462-84F1-471A-9749-02CAB97348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C5E7-CB71-4B80-B042-7943D71E0B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9FD1-D968-4B13-BDD3-7F1C19E04E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6D35-2884-4578-B1E9-6423471EEC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6616-65CC-4782-8113-74977A7970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1857-276E-4AD9-A21E-028B9259BE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C924-C9D8-4C9A-92B2-C50D78C01F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BB55-35CD-41F3-A2B6-FCCAB4B391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EE05-4189-4A6C-A1E1-F1CDC7673E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62A0-389D-40A4-BD09-695F2B0F7B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F58A-037B-4D8E-95B5-7530C7E276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A7F2-DEAE-44EA-9202-311971AC6F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F6E6-F90F-412A-85AA-A84529A409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80F8-3F96-461F-8DAC-6D56C264ED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94C0-D4A7-46EC-9DA9-F28F7BBCBC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1705-4620-4A58-A48A-06D0468842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305C-F836-4763-8B84-290D6DCF60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7397-5F14-4E8B-801E-28227BD5B1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2125-B238-4C3A-8F0F-DA623092B7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F1E5-6384-41CC-9660-B58D674663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454-4223-4D36-88BA-E6FA7C6F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1E2-C24A-4C3D-B34A-88088CF3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A3F-704D-4A6B-A0DE-4DE43AC2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C3E-BFBA-469B-BDB0-7C76648D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D445-8FDC-400C-B42F-2C1E44FB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DB71-4383-49F7-8362-5D29DF87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D4AA-F41E-4868-8F67-AB71DBC4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18FE-2A18-4826-9275-CFAB2491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298C-3014-41FF-89BA-A107A1CD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492D-2D84-4F7E-95D2-001116CD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4DB3-18FD-4333-9223-BDBBC222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56C-2FE1-4373-B31F-B86E2856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6D39-6BC7-4EB4-8B45-52BD5181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5264-0E06-4523-92D4-9A0F3210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68B9-E7A6-4341-BCEE-28F46555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0625-3986-4B28-AF53-F54F2DC9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2515-20FE-4814-ABE4-EB40FB67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9E82B-B4BA-4411-A6C4-DBFCEF8F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F6A54-6A4A-42A5-A30C-B4F725D1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EDC06-A69E-44E2-BC30-29FC4417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E837-2E67-415C-B051-50020FBF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7CB4-860E-45E7-9168-D5286E21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037-A495-46E3-9243-959C2BC7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502F-1FD8-402A-8566-B4FFAB84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405D7-FF02-49D8-AE21-9368CBC3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6C737-1126-47DB-9128-60A04E53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2B828-3AE1-4528-9C07-1AFA790D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177D-EA04-4DA0-B832-2A321C5D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2EF4D-7657-4FA7-9B93-854E752D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03E73-1B5E-42E8-9543-FD8BD336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6D7E4-FD83-4A49-8AA0-2C0F0EFB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8ABF4-DCAE-4E69-82C3-B0B274A9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EA919-258B-440C-8213-CF998D90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790-9CDA-4115-B3EF-8B07164A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A2913-366A-41A0-A52D-C91D16CA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D7C4F-2148-441B-A8DA-643A28CF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B4FF5-382B-4928-B300-B97D2123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03B9E-9858-4F1E-B926-52827712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CD15F-46AC-474C-973C-30CF637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3FC10-623A-493B-9BFD-81E0A3DD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8AFE-C2B2-4598-9811-A015FA78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D4283-A0E7-4D1F-A4BA-DF3F218D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AFB2-5CB0-493A-A7D6-EDFA98C5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6C410-C0C3-42C0-8324-7D0A1E1C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DED-7754-491F-8BD8-38817F5A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9D050-00ED-47E9-9E09-3ABAC4DE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2FBED-6D64-45B3-B1E5-2B1F36E9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4D391-7813-4542-B565-1236E74E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0ECD6-D526-4B59-99B7-ED27F6F8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F556-C906-4629-BD4C-75DF2610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C4C9D-E501-4462-9903-90DAE3CB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05C37-657B-4804-A460-20565F99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3CFCB-EB26-47A1-9795-47007325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D3E97-4CAD-4B9E-B552-379723A9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FE5C8-1E93-4D38-98C0-6AF8B3FC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6F3-E0CA-496A-82AC-F5ECF294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97160-F450-4A98-B2E6-D08019A5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33A76-5083-4640-8FE9-BC8D0946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6FDB7-6DF6-471D-AEB1-33B4D717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4CFBB-5037-4A4B-B461-CEB17826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B1D3F-DAB3-47B0-AF68-86247DB6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9C8BC-2C7E-4CEC-939C-3FA37BFF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5C8D2-9FD0-48B5-8403-523021F2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73F41-C837-4022-9700-E24BFF6F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86C73-35EB-44FA-905C-664D7F41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57CEC-2903-4E76-9AAA-FA822BD9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D34-90CC-4F84-A8C7-3EED3ADB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EE1E3-ECE2-46A8-AE07-44A39334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654D4-EC33-4736-A0F8-8C9F2648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5F493-8138-425E-891A-BDE7FC12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25145-9E0E-4308-832A-49CC0F93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E2D09-68F1-4679-9FF3-13EAD7D7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5F731-1C96-4212-A804-FBB8D974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15E17-BD3F-42E3-A8CF-D646E0B1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480A1-D756-4B2A-951F-E2DBEEDF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3DD82-8690-4E18-BE0E-7369B791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B66D7-24DB-40DD-AF62-7D8D8969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34F-CA12-4AE9-981E-A1E0B48D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A0B52-C4F8-4F82-97D4-9CE83FC0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48B77-D1E5-44FB-89E3-3B18E0B4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25BB3-E16D-4F2D-9216-340F4F37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9A395-B740-401B-95D4-83EDACB6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E7225-92D2-4ADE-9FDA-09468ACC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478-FCA1-4471-BF71-8CC43A43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091E-4F56-4674-AF9B-9E5A8ECED3E1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E5DB-FFDB-4D59-8262-C338858E8E07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2B59-27B3-4020-883E-B8A80D7C7740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CEEE-2954-41E1-84E3-ACE44E305FF9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9E06-B8CA-4E86-B57E-C92AFF81590B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C2C4-FF40-4CE7-A1DC-F9BCF09B9CC9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4B04-E2F1-4836-A841-0620641D71D8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91ff"/>
                </a:solidFill>
                <a:latin typeface="Consolas"/>
              </a:rPr>
              <a:t>Women’s Lives:  A Psychological Exploration 3/e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621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d46c"/>
                </a:solidFill>
                <a:latin typeface="Corbel"/>
              </a:rPr>
              <a:t>Claire A. Etaugh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d46c"/>
                </a:solidFill>
                <a:latin typeface="Corbel"/>
              </a:rPr>
              <a:t>and Judith S. Bridg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d46c"/>
                </a:solidFill>
                <a:latin typeface="Corbel"/>
              </a:rPr>
              <a:t>Prepared by Claire Etaug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d46c"/>
                </a:solidFill>
                <a:latin typeface="Corbel"/>
              </a:rPr>
              <a:t>Bradley Universit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7eea"/>
                </a:solidFill>
                <a:latin typeface="Corbel"/>
              </a:rPr>
              <a:t>___________________________________________________________________</a:t>
            </a: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This multimedia product and its contents are protected under copyright law.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The following are prohibited by law: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-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-preparation of any derivative work, including the extraction, in whole or in part, of any image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-any rental, lease, or lending of the program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5" descr="Etaugh_3Edition cover image.jpg"/>
          <p:cNvPicPr/>
          <p:nvPr/>
        </p:nvPicPr>
        <p:blipFill>
          <a:blip r:embed="rId1"/>
          <a:stretch/>
        </p:blipFill>
        <p:spPr>
          <a:xfrm>
            <a:off x="5943600" y="1676520"/>
            <a:ext cx="2746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tereotypes Based on Identity Labe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76212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Long-standing cultural norm that a woman is defined in terms of her relationship to a man (Gooding &amp; Kreider, 2010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Our impressions of women are influenced by her preferred title (Mrs., Miss, Ms) and by her choice of surname when she marrie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tereotypes of women who prefer nontraditional forms of address might be due to the belief that they are in nontraditional rol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762120" y="5562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exism: Experiences and Attitud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762120" y="19047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Stereotypes and/or discriminatory behaviors that serve to restrict women’s roles and maintain male domination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acklash effec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nn Hopkin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914400" y="5105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exism, continu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62120" y="16765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Changes in sexist attitudes over time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xism has decreased in the U.S. since 1970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ay be due in part to changes in legislation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anges over time may reflect decreased social acceptability of blatantly sexist views rather than real changes in belief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838080" y="55627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exism, continu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85800" y="13712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Experiences with sexism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ost girls and women experience sexism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omen vary in their interpretation of sexist incident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omen vary in their willingness to acknowledge their own experience with discrimination (Kobrynowicz &amp; Branscombe, 1997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609480" y="548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exism, continu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762120" y="13712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Ambivalent Sexism (Glick &amp; Fiske, 2007)</a:t>
            </a:r>
            <a:br>
              <a:rPr sz="28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odern sexism:  Belief that gender discrimination is no longer a problem in society and is manifested by harmful treatment of women in ways that appear to be socially acceptable (Swim, Becker et al., 2010)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ostile sexism:  Negative stereotypes of women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enevolent sexism:   Positive characterizations such as “women are pure” or “women should be protected”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762120" y="5486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62120" y="20570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Pattern 1:  Underrepresentation of females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83808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85800" y="1904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Pattern 2:  Underrepresentation of specific groups of females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thnicity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ouble standard of aging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xual orient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762120" y="5715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62120" y="21337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Pattern 3:  Portrayal of gender-based social roles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76212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762120" y="22096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Pattern 4:  Depiction of female communion and male agency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838080" y="4800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762120" y="1904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ed46c"/>
                </a:solidFill>
                <a:latin typeface="Corbel"/>
              </a:rPr>
              <a:t>Pattern 5:  Emphasis on female attractiveness and sexuality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lectronic media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int media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cus on thinnes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ite beauty is valued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ove campaig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838080" y="5638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Chapter 2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Cultural Representation of Gender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914400" y="4876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2120" y="19810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Impact of gender-role media images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cializing effec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hapes our construction of gender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hapes our expectations of what females and males are lik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762120" y="5181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English Langua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85800" y="20574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Language practices based on the assumption that male is normative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asculine generic language:  Language that uses male terms but purports to be inclusive of males and female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potlighting: The practice of emphasizing an individual’s gender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iminutive suffixes for female term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762120" y="5562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English Langua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62120" y="19807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Negative terms for females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arallel term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ildlike term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nimal and food term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xualization of wome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914400" y="5562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English Langua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85800" y="19810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Significance of differential treatment of females and males in language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xist language reinforces and perpetuates gender stereotypes (Swim et al., 2003, 2004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xist language reinforces and perpetuates status differences between women and men (Swim et al., 2003, 2004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838080" y="525780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tereotypes of Females and Mal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The content of gender stereotypes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Gender stereotypes:  Widely shared beliefs about the attributes of females and mal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mmunion:  Traits stereotypically associated with women such as sympathy and warmth, which reflect a concern about other peopl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gency:  Traits stereotypically associated with men, such as achievement orientation and ambitiousness, which reflect a concern about accomplishing task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762120" y="5715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tereotypes of Females and Mal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6212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The content of gender stereotypes, continued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me gender stereotypes have remained relatively unchanged since the 1970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ttributes associated with the male stereotype are more highly regarded and considered more powerful in North American society (Fiske &amp; Cuddy, 2006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Gender-related stereotypes can guide our expectations and interpretations of other peopl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Gender-related stereotypes can guide choices we make about our own behavior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ere is a discrepancy between the traits North Americans regard as </a:t>
            </a:r>
            <a:r>
              <a:rPr b="0" i="1" lang="en-US" sz="2200" spc="-1" strike="noStrike">
                <a:solidFill>
                  <a:srgbClr val="ffffff"/>
                </a:solidFill>
                <a:latin typeface="Corbel"/>
              </a:rPr>
              <a:t>representative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of most women and men and those they consider </a:t>
            </a:r>
            <a:r>
              <a:rPr b="0" i="1" lang="en-US" sz="2200" spc="-1" strike="noStrike">
                <a:solidFill>
                  <a:srgbClr val="ffffff"/>
                </a:solidFill>
                <a:latin typeface="Corbel"/>
              </a:rPr>
              <a:t>ideal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for women and men (e.g., Street et al., 1995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457200" y="5943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tereotypes of Females and Mal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62120" y="21337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The perceiver’s ethnicity and gender stereotypes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eople from different ethnic backgrounds vary in the degree to which they believe the ideal traits for females are different from those for mal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search suggests that Blacks are the least likely to adhere to rigid gender stereotypes (Harris, 1994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838080" y="5257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tereotypes of Females and Mal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6212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The target’s characteristics and gender stereotypes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7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geism:  Bias against older people (Hurd Clarke, 2011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thnicity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cial clas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xual orientation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blen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7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bleism:  bias against people because of their disability (Chisholm &amp; Greene, 2008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7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09480" y="58672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tereotypes of Girls and Boy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Adults’ gender-stereotypic expectations of children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Newborn girls and boys perceived differentl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Girls rated as finer featured, less strong, more delicate than boy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4- to 7-year-old girls and boys perceived differentl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erceived traits reflect communion-agency stereotyp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685800" y="5562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Bases for Gender Stereotyp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762120" y="19051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ed46c"/>
                </a:solidFill>
                <a:latin typeface="Corbel"/>
              </a:rPr>
              <a:t>Process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cial categoriz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elps simplify our social perception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ased on easily identifiable characteristic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an lead us astray…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91440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Bases for Gender Stereotyp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ed46c"/>
                </a:solidFill>
                <a:latin typeface="Corbel"/>
              </a:rPr>
              <a:t>Content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cial role theor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tereotypes of women and men stem from the association of women with the domestic role and men with the employee role (Wood &amp; Eagly, 2010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search demonstrates the influence of a person’s social role on the application of gender-related traits to her or him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cial roles influence gender stereotypes even when people are asked to describe women and men in both the past and the futur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elps explain why gender stereotypes are resistant to change despite increased participation of women in the labor forc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762120" y="5867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2:54:29Z</dcterms:created>
  <dc:creator>Macalester</dc:creator>
  <dc:description/>
  <dc:language>en-US</dc:language>
  <cp:lastModifiedBy>Patricie Blattenberger</cp:lastModifiedBy>
  <dcterms:modified xsi:type="dcterms:W3CDTF">2012-03-06T19:28:56Z</dcterms:modified>
  <cp:revision>78</cp:revision>
  <dc:subject/>
  <dc:title>Women’s Lives:  Psychological Explorations X/e  Claire Etaugh &amp; Judith  </dc:title>
</cp:coreProperties>
</file>