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43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8" descr="Pearson_Bound_White"/>
          <p:cNvPicPr/>
          <p:nvPr/>
        </p:nvPicPr>
        <p:blipFill>
          <a:blip r:embed="rId2"/>
          <a:stretch/>
        </p:blipFill>
        <p:spPr>
          <a:xfrm>
            <a:off x="7615080" y="6364440"/>
            <a:ext cx="1528920" cy="49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-360" y="6476760"/>
            <a:ext cx="53341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643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Pearson_Bound_White"/>
          <p:cNvPicPr/>
          <p:nvPr/>
        </p:nvPicPr>
        <p:blipFill>
          <a:blip r:embed="rId2"/>
          <a:stretch/>
        </p:blipFill>
        <p:spPr>
          <a:xfrm>
            <a:off x="7615080" y="6364440"/>
            <a:ext cx="1528920" cy="493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Pearson_Strap_Bound_White"/>
          <p:cNvPicPr/>
          <p:nvPr/>
        </p:nvPicPr>
        <p:blipFill>
          <a:blip r:embed="rId3"/>
          <a:stretch/>
        </p:blipFill>
        <p:spPr>
          <a:xfrm>
            <a:off x="0" y="6356520"/>
            <a:ext cx="1908000" cy="493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4395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Chapter 2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029200" y="2057400"/>
            <a:ext cx="3657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alism and Bey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020545965X.jpeg"/>
          <p:cNvPicPr/>
          <p:nvPr/>
        </p:nvPicPr>
        <p:blipFill>
          <a:blip r:embed="rId1"/>
          <a:stretch/>
        </p:blipFill>
        <p:spPr>
          <a:xfrm>
            <a:off x="228600" y="1066680"/>
            <a:ext cx="39974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Structuralism And Network Analysis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analysis claims to focus on the study of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network theorists measure flows and activity between 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concept of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ison C. Wh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no Lat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Narrative And Social Theory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ology has assumed an important place in social theory &amp; research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atology is any systematic study of narr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adimir Pro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and Bart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The Legacy Of Structuralism; Anthony Giddens And Structuration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cture-agency dualism animates much social theory to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sentialism versus social constructio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ddens contends neither the individual nor the structures comprising society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yway alone capable of explaining human behav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Bourdieu’s Habitus And Field; Sociology And Poststructuralism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Bourdieu’s appraisal of structure and agency is expressed in his model of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abi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al perspectives in sociology were usually classified a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ist, conflict, or interacti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structuralism has gained popula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Twentieth-Century Structuralisms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inowski proposed early on that there were both physiological &amp; practical need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developed into social institutions and patterns of interpersonal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inowski was among the first anthropologists to attempt to se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evance of noneconomic tr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Parsons And Social Structure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sons leaned heavily on a systems theory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intenance of order in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on the anthropology of Malinowski and Radcliffe-Br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m to construct an integrated theory of grand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Luhmannian Structuralism; Structural Intimacies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ed at any system as def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undary between itself &amp; its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ts a great deal of emphasis on trust as the basis for social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de Saussure: connections among culture, consciousness &amp;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Structuralism And The Linguistic Turn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udwig Wittgenst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rdinand de Saus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nary op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mio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gnifier; sign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ude Levi-Stra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Althusser And Marxian Structuralism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usser borrows heavily from the work of Levi-Strauss in promoting the notion tha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ignifying processes are related to ide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nsciousness is inscribed in ide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icts the system of capitalism as interpellation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 indoctrinating its su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Semiotics Of Roland Barthes; Jacques Lacan’s Structuralism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ussure’s ideas revolutionized literary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analysis was also responding to the linguistic 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an became central to the structuralist movement in a number of 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Did Structuralism Fail?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would argue that structuralism did not fail at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 types of structuralism fared worse than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levance of other structural theory in dealing with macro-order issu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advanced urbanization and glob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0" y="6477120"/>
            <a:ext cx="5334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  <a:ea typeface="Arial"/>
              </a:rPr>
              <a:t>© 2013  Pearson Education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64395"/>
                </a:solidFill>
                <a:latin typeface="Arial"/>
              </a:rPr>
              <a:t>Contemporary Structural Theory; Rational Choice &amp; Network Theory</a:t>
            </a:r>
            <a:endParaRPr b="0" lang="en-US" sz="3600" spc="-1" strike="noStrike">
              <a:solidFill>
                <a:srgbClr val="36439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anuel Wallerstein’s work collapses the boundaries betwe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ology and the other social sci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 choice theory is frequently referred to as exchange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rge Hom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ole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2:18:45Z</dcterms:created>
  <dc:creator>uczecca</dc:creator>
  <dc:description/>
  <dc:language>en-US</dc:language>
  <cp:lastModifiedBy>UBOSCMA</cp:lastModifiedBy>
  <dcterms:modified xsi:type="dcterms:W3CDTF">2012-02-14T15:25:31Z</dcterms:modified>
  <cp:revision>10</cp:revision>
  <dc:subject/>
  <dc:title>Slide 1</dc:title>
</cp:coreProperties>
</file>