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F2B-0DFE-471E-98CA-5F30B323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C76-E401-4496-93CE-AE73700C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263-DC37-4CEF-8AE1-6D25FDCE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199-357F-478B-8A77-DB3F8ADF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2465-97EA-44C0-A85F-3C46D347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80CC-2507-4366-BC3D-9A76E39F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1D41-344C-496B-AFCE-573B2A52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62E4-5C1C-4BE4-BE68-E97744E5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6387-CFA4-4ECE-A286-1F890C31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8AE7-D78A-4E02-9457-4ADEF80A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AA4D-F2D4-4B7C-9397-A38F5848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FC6-B0F1-4935-9DF2-D2E8FF0A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CD24-6B4F-452B-9117-3D23D1C3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C282-E8FB-45DF-B85C-A2DEEA5F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697F-1B9A-4BF8-893E-73709D67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B4BD-B76E-4EE8-B77C-3D7FE266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32D3-BD39-4FD8-9106-E017AC14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EB9-7008-4EB1-BB33-D40ACF22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EBD-2A08-4365-91D1-E559EACD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869F-4CF8-4DB7-9558-1852EB8D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1AA-1C7A-4B90-B047-673FB2CB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405-5926-41EF-B382-CA9C97F8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80E-47BC-4801-AE95-9B3D9820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D37-378A-4A63-9F37-38AFBE68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B87B-6939-4379-9AF4-3D3C0FD121C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"/>
          <p:cNvSpPr/>
          <p:nvPr/>
        </p:nvSpPr>
        <p:spPr>
          <a:xfrm>
            <a:off x="1295280" y="63244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  <a:ea typeface="Arial"/>
              </a:rPr>
              <a:t>Copyright © 2011 Pearson Education, Inc. All rights reserved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79CC-5459-4245-B3FB-CA13D4845F7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63244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  <a:ea typeface="Arial"/>
              </a:rPr>
              <a:t>Copyright © 2011 Pearson Education, Inc. All rights reserved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hapter 2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“You Believe What?”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5410080"/>
            <a:ext cx="35053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  <a:ea typeface="Arial"/>
              </a:rPr>
              <a:t>This multimedia product and its contents are protected under copyright law.  The following are prohibited by law:</a:t>
            </a:r>
            <a:endParaRPr b="0" lang="en-US" sz="1000" spc="-1" strike="noStrike">
              <a:solidFill>
                <a:srgbClr val="003366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  <a:ea typeface="Arial"/>
              </a:rPr>
              <a:t>Any public performance or display, including transmission of any image over a network;</a:t>
            </a:r>
            <a:endParaRPr b="0" lang="en-US" sz="1000" spc="-1" strike="noStrike">
              <a:solidFill>
                <a:srgbClr val="003366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  <a:ea typeface="Arial"/>
              </a:rPr>
              <a:t>Preparation of any derivative work, including the extraction, in whole or in part, of any images;</a:t>
            </a:r>
            <a:endParaRPr b="0" lang="en-US" sz="1000" spc="-1" strike="noStrike">
              <a:solidFill>
                <a:srgbClr val="003366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  <a:ea typeface="Arial"/>
              </a:rPr>
              <a:t>Any rental, lease or lending of the program. </a:t>
            </a:r>
            <a:endParaRPr b="0" lang="en-US" sz="1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387600" y="343080"/>
            <a:ext cx="23670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testant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ted Methodists started as a movement within the Church of England between 1738 and 1790 under the leadership of John and Charles Wesle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urches of Christ, Christian churches trace their roots to the early 1800s when a small group of Presbyterians and Methodists set out to restore what they saw as the structure and doctrine of first-century Christia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testant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iples and UCC churches hold liberal theological and social attitu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glicans grew out of the Church of Englan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lack Protesta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core of Black Protestantism is a set of historic African American religious bodies founded in the days of slaver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frican Methodist Episcopal Church (A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frican Methodist Episcopal Church of Zion (AMEZ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Christian Methodist Episcopal Church (C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ngelical Protesta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ngelical denominations inclu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mblies of Go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liness Church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ssouri Synod Lutheran Church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urches of the Nazaren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uthern Baptis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hovah’s Witness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ll Gospe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ostolic Church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urches of Go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many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ngelical Protesta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ristian fundamentalism, for example, emerged as a counterforce to secularizing trends, including modernity, science, and academic scholarshi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ristian fundamentalist churches teach the doctrines of biblical inerrancy and stress justification by faith, entire sanctification, and the baptism of the Holy Spirit as on the Day of Pentecos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Christian Denomin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ristian Scienti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hovah’s Witnes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Latter-day Saints (Mormon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tarian Universali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etist denominations such as the Society of Friends (Quak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sl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lam is the world’s second-largest relig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are five key beliefs and five pillars of ritual behavior in Islam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ey Belief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is One G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are Ang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have been many prophets in addition to Mohammed, but only one messa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will be a final judg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possible to know God and God’s will in this lif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sl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quired ritual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hahada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ting that there is no God but Allah and that Mohammed is his proph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alat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aying five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s a day while facing Mec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akat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ving al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iyam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serving the one-month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ast of Ramad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Hajj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king a pilgrimage to Mecca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 least once in one’s life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sl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mams, who are heads of local mosques, interpret Sharia law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the teachings of the Qu’ran to the faithfu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are four major forms of Islam: Shi’ism, Sunnism, Sufism, and the Nation of Isla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ndu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indu belief and practice originated in India around 1500 B.C.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lthough Christians often assume that Hindus worship many gods and goddesses, they are actually all forms of one God, called Brahman, the original spirit and creative force of the univers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indus see the One reflected in a trinity of Gods: Brahma, the creator of the universe; Vishnu, its maintainer; and Shiva, the destroyer who brings new lif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ology and Relig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understand religion in our world, you have to realize that religious beliefs, practices and experiences are social construc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ociological lens will help us understand religious diversity and the consequences of beliefs, rituals, and experiences for people, communities, and entire societi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ndu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ndu sacred texts include the Vedas, but their role is different from that of the Bible for Christians or the Qur’an for Musli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harma is a core Hindu belief that captures the idea of duty and moral righteousness in behavi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arma are the actions that one takes to achieve dhar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ddh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ddhism originated after the sixth century B.C.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emerged from followers of Siddhartha Gautama, the Buddha or Enlightened One, and his teaching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ter many years of living a life of wealth and privilege, protected from pain and suffering, Siddhartha set out to discover the realities of material existe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 began by rejecting his past life of wealth to follow a monastic path of self-deni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ddh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ver time, two main traditions arose within Buddhism: Theravada and Mahayan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avada Buddhism is an elite form of Buddhism that is linked to the specialized life and religious devotions of monks who live together in communities called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angh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hayana Buddhism embodies a more complex understanding of the relationship between the spiritual and material worl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da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daism gave birth to Christianity, but it takes a very different approach in its beliefs and practic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art from a belief in the oneness of God, there is no unifying creed among Jew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tead, Judaism emphasizes the observance of rituals and ethical practic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da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2514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mporary Judaism is based on the Torah, but generally does not follow all the ritual practices, including animal sacrifice, that it manda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da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The beliefs and rituals vary depending on the branch of Judaism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Hasidic and Orthodox Jews are the most conservativ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onservative Judaism follows the rules of the Torah and Talmud but allows for reinterpretation of ancient Jewish teaching in light of contemporary experience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eform Judaism holds that the rules in the Torah related to social justice and peace are more important than the observance of rituals and dietary law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econstructionists hold to the importance of Jewish heritage while seeking new ways to experience the sacred in the modern world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derstanding Contemporary Religious Ritual Pract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most of the world’s religious people, religion is less a matter of what you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believe intellectually and more what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do—your everyday behaviors and ritual practices—and also what you experience—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ubjective feelings, emotions, and states of being that result from these behavio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ship Styles to Meet Every Ne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ligious groups around the world take diverse approaches to worshi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transform or maintain tradition can be a source of intense conflict for some religious group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aring Religious Beliefs and Pract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the nearly 7 billion people in the world today, about 84% belong to one of the world’s major relig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1.5% Christian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2% Isl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3% Hinduis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6% Buddhis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22% Judais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ristian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core beliefs and practices of Christianity center around the life and teachings of Jesus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o is understood to be the Son of the one God and who came to earth to save humans from their sins by dying and returning to life aga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ristians believe that the Bible is the word of Go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teral wo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pired wo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tholic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asked, Catholics would probably say that their Church goes all the way back to the days when the first Christian communities were founded by disciples of Jesu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ferent congregation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thodox Church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man Catholic Church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astern Orthodox Catholic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thodox Churches represent one of three major branches of Christianity, along with Roman Catholicism and Protestantis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nce the 13th century, Christians in Western Europe have used “catholic” to describe churches, communities, and individuals that are loyal to the Bishop of Rome (the Pope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tholic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ee creeds form the core of all Roman Catholic belief and doctrine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postles’ Creed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icene Creed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the Athanasian Cre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eds are formal statements of belief that people say out lou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tholic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Roman Catholics also emphasize seven rituals or sacraments: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baptism (in which babies are sprinkled with water as a sign that they are members of the community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onfirmation (in which teens make a formal statement that they intend to belong to the Church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ucharist (or Communion), which is a re-enactment of the Last Supp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econciliation (in which individuals confess sins or bad things that they have done to a priest and receive forgiveness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atrimony (we’ll assume you know that one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holy orders (in which men become priests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nointing of the sick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inline Protestant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rotestant Reformation broke the Roman Church’s monopoly on Western Europ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inline Protestant denominations inclu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ted Methodist Chu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Disciples of Chr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United Church of Chris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nglican or Episcopal Chu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Evangelical Lutheran Church of Ame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merican Baptist Churc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resbyterian Chu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17:48:51Z</dcterms:created>
  <dc:creator>Gary</dc:creator>
  <dc:description/>
  <dc:language>en-US</dc:language>
  <cp:lastModifiedBy>vwaltk4</cp:lastModifiedBy>
  <dcterms:modified xsi:type="dcterms:W3CDTF">2010-09-29T18:20:39Z</dcterms:modified>
  <cp:revision>19</cp:revision>
  <dc:subject/>
  <dc:title>Chapter 2 “You Believe What?”</dc:title>
</cp:coreProperties>
</file>