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85120" y="636120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666880" y="647712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2012 by Pearson Education, Inc. All right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erv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THEORETICAL PERSP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572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LAW </a:t>
            </a:r>
            <a:r>
              <a:rPr b="1" lang="en-US" sz="1800" spc="-1" strike="noStrike">
                <a:solidFill>
                  <a:srgbClr val="ff8000"/>
                </a:solidFill>
                <a:latin typeface="Verdana"/>
                <a:ea typeface="ＭＳ Ｐゴシック"/>
              </a:rPr>
              <a:t>AND</a:t>
            </a:r>
            <a:r>
              <a:rPr b="1" lang="en-US" sz="18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 SOCIETY, 10/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by Steven Va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tional legal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ction between public and private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ction between criminal law and tort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rts become increasingly 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s of judges and lawyers are institutional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bureaucratization of the cou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ergence of stable, somewhat autonomous pol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rn legal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the features of transitional system, but more distinguishable and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liferation of administrative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mediate and mitigate confli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rly defined and organized polic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ergence of regulatory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ergence of a stable legisl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rn legal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becomes a mechanism of social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on of modern law (Marc Galanter’s conceptualization of contemporary la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ories of Law and Soci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did changes in the legal system take plac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factors contributed to legal development from a historical perspectiv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ories of Law and Soci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uropean Pione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ropean view that law is separate from soci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tural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istotle – law is reason free from pa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. Thomas Aquinas – natural law is part of human nature and human beings participate as rational beings in the eternal laws of G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ure of human beings can be known through rea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knowledge is the basis for  the social and legal ordering of human exis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ories of Law and Soci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 natural law, European scholars believ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in any society was a reflection of a universally valid set of legal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d 1800s - natural law is displaced by historical and evolutionary interpretations of law and legal positiv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al positivism – legal and moral are separate real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ories of Law and Soci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ron de Montesqu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e in poli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ainst the absolutism of the French monarc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is integral to a people’s cul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 is a result of a number of factors-custom, physical environment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good or bad la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ories of Law and Soci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ron de Montesqu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ion of p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islative, executive, and judi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luenced the framework for the Constitution of the United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ories of Law and Soci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rbert Spenc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tish philosop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ory of unregulated com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olution of civilization and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itive homogeneity to ultimate heterogene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main stages in the development of civiliz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itive/milit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er/industr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ories of Law and Soci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r Henry Sumner Ma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nder English historical school of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al history shows patterns of ev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vement of progressive societies has hitherto been a movement from Status to Contrac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ong with Spencer, influenced the notion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aissez-f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itive Leg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tional Leg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rn Leg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ories of Law and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uropean Pione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ical Sociological Theor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olegal Theor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mporary Law and Society Theor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assical Sociological Theoris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arl Mar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influential legal theor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mmunist Manifes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society rests on an economic found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 of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or technological arrangement of economic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relations of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assical Sociological Theoris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arl Mar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principal assumptions of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 is a product of revolving economic fo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 is a tool used by the ruling class to maintain power and control over the lower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 communist society law will wither away and disapp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alectical material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assical Sociological Theoris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 We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ology of legal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is rational or irra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l law and substantive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 ideal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antive irrati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irrati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antive rati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rati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assical Sociological Theoris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 We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types of administration of justi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hand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irical 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ional 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 society is the pursuit of the ra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assical Sociological Theoris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ile Durkhei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 Division of Labor in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is a measure of the type of solidarity in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types of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sive and restitu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ciolegal Theoris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bert Dic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ory on the influence of public opin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opinion: “the majority of those citizens who have at a given moment taken an effective part in public lif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ciolegal Theoris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bert Dic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ule of the law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one is punishable except for a distinct breach of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of law means total subjection of all classes to the law of the 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rights derive from court prece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ciolegal Theoris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liver Wendell Holmes, J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reme Court just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al real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dges are responsible for  formulating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dges exercise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dges make decisions based on their conception of 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ciolegal Theoris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ward Hoeb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or of anthrop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 Law of Primitive M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end of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traight line of development in the growth of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er primitive socie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s more complex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temporary La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d Society Theoris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nald Bl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is a quantitative variable that can be measured by the frequency by which, in a given social sett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utes are enacted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ions are issued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aints are mad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nces are prosecuted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mages are awarded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unishment is meted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Intellectual Mov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unctionalist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lict and Marxist Approa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Legal Studies M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inist Legal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Race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temporary La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d Society Theoris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nald Bl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ve measurable variables of social lif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temporary La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d Society Theoris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berto Un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aw and Modern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ces the development of rational legal systems within a broad historical and comparative fram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s the historical persp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is indicative of the normative structure of social lif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urrent Intellectual Movements in La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alist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assump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ies must be analyzed holistic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use-and-effect relations are multiple and recipro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systems are in a state of dynamic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urrent Intellectual Movements in La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alist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assump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ect integration is never atta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is a fundamentally slow adaptive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is the consequence of outside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ystem is integrated through shared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urrent Intellectual Movements in La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lict and Marxist approa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behavior can best be understood in terms of tension and conflict between groups and individ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and the legal system designed to regulate and preserve capitalist re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ing class vs. those who are ru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ion of these classes inevitably leads to confli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urrent Intellectual Movements in La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lict and Marxist approa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s: conflict theory invol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ormous simpl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ence of sensitivity to the complexity of social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urrent Intellectual Movements in La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tical legal studies m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hing about the law makes any judicial decision inev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ject the idea that there is anything distinctly legal about legal reas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ject law as value-free and above political, economic, and social consid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urrent Intellectual Movements in La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minist legal the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ed with issues central to a broader intellectual and political feminist m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erged from mass political mo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-dominated jurisprudence perpetuated women as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urrent Intellectual Movements in La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minist legal the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the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men’s struggle for e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 bias in every feature of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 is not value neutral, objective, rational, dispassionate, and consis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urrent Intellectual Movements in La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tical race the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ed with questions of discrimination, oppression, difference, equality, and the lack of diversity in the legal prof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tify the wrongs of racis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cism is an inherent part of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itment to liberation from racism through reason and separation of legal institutions from racist ro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al codified law emerges whe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l controls are no longer adequate for maintaining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tory systems and methods of dispute can no longer be dependent on customs and social, religious, or moral sa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society progresses from primitive to modern, law and legal systems become more com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l social control is adequate in societies that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mogen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tle division of lab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al social control is necessary in societies that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terogene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division of lab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mitive legal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ically found in hunting/gathering and simple agrarian socie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s are not written or cod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s usually coexist with ancient n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distinction between substantive and procedural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mitive legal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well-developed political sub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s enacted by elders, chiefs, councils, or kin lea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dges and political leaders are one and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s is on court-enacted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and police forces are temporarily assembled to address a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volution of Legal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tional legal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ced agrarian and early industrial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, educational, and political subsystems are increasingly differentiated from kinship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al subsystem becomes more com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differentiation between law and tradition, custom, and relig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29:22Z</dcterms:created>
  <dc:creator>user</dc:creator>
  <dc:description/>
  <dc:language>en-US</dc:language>
  <cp:lastModifiedBy>UBOSCMA</cp:lastModifiedBy>
  <dcterms:modified xsi:type="dcterms:W3CDTF">2011-02-23T17:33:34Z</dcterms:modified>
  <cp:revision>24</cp:revision>
  <dc:subject/>
  <dc:title>Chapter 1</dc:title>
</cp:coreProperties>
</file>