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B8404-8E28-4734-932E-420FC0CB68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816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2880"/>
            <a:ext cx="822816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3BDE0-F458-436E-864F-BE1B40262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352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CF467-0CBE-46F2-AF26-625258BA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280" y="121896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1360" y="121896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288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280" y="378288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1360" y="378288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3CDB5-E53B-46BB-BD6D-2328078903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A7E18D-0575-4E6E-9CFA-AE927A5CFB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816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EFE39D-42A0-4830-AF0E-82DBC155C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816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150A38-7B75-4DDB-9EEC-808B7A6CD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C66C2A-92D4-44F1-909A-C94CBDD04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51716A-9089-4036-A24C-95D31ABFE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8160" cy="458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67902F-188E-4C19-9D3D-355034428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3A764F-B719-4B35-BAE2-D946AED44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816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F905D-A804-421C-B236-F2753A6BC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352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65FD1B-D69A-47F6-ACEB-AF2745AF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880"/>
            <a:ext cx="822816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CE929E-F3BE-4D7F-8C4C-7104B0383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816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880"/>
            <a:ext cx="822816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9FEBAA-2B40-412E-A161-61C1BFC5F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352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5F3212-4962-4170-9693-55E05316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280" y="121896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1360" y="121896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88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280" y="378288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1360" y="378288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F64242-A678-40EE-B70B-A9FB7F66FD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352F0-78F0-410F-9E22-B83BAEAE15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816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10A33-DBDE-4C91-8D50-8F3893AA8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816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80BCE-A783-4BCA-ABAB-C0DE348B1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571B-4664-4722-8E12-BB57903CE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B77E0-5B50-4E9F-9C89-CB18AA1B9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816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9E4EC-B0A0-4225-A68F-33DC0AF97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8160" cy="458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6760D-0D66-4440-8A1B-1805A1E1A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A205A-08EC-46CC-9DB8-36167D7F8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352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D3DD9-3ACD-4394-A11A-3607A6A42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2880"/>
            <a:ext cx="822816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EDEEC-71C0-483D-ABBC-D82371239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816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2880"/>
            <a:ext cx="822816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868DD-7DE9-41DD-8368-C00ABB75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352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DFC62-717D-43D8-B144-D9AB2277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280" y="121896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1360" y="121896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288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280" y="378288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1360" y="378288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D49E7-E5F6-4EF5-A787-91B8369D41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161976-1536-4D87-80F4-F4BD8CA33D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816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171620-E1E1-4576-8233-11F43D2C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816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63D197-EE18-4D0B-86F1-86E44F8ED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4296A-F90D-4993-AAD3-3B526764F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31D419-A873-40AE-9421-3C898F52D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C39F32-DDF3-41EF-8532-DD90F8C6E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8160" cy="458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CB7486-CF06-4AB0-B0E6-32552DA0B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807924-2A63-47AA-98CE-88447FB55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352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212963-0C42-4C88-8521-2E55F5391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2880"/>
            <a:ext cx="822816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B8D5B0-1B4C-4AA9-B1C4-AD2A103F2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816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2880"/>
            <a:ext cx="822816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C9A16E-59E5-45A2-8D65-EFA2CFEF8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352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2B2856-6268-4DCF-8C17-9816C0AE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280" y="121896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1360" y="121896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288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280" y="378288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1360" y="378288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CFDE54-EEC2-46E5-9F26-05EAF05FCC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85D199-F30A-44E1-BB55-6E99059AD2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AD1B7-3BD1-4D88-8B9C-63DF5F076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816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DCF7A1-901D-4873-9946-1E22EF046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816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4480C0-FC28-4DB4-A1C5-71185302D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CEC7F2-2C7C-4EDB-91F2-94B00C129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4A0395-301F-44CC-BC7A-A366D6AE8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8160" cy="458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BD7B2E-78D2-45CB-AEB3-7FA1A609E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3DF4F0-5D5E-4600-A7FA-25479D629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352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D8FB6F-1A5B-4A42-A2EC-98BD54A23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2880"/>
            <a:ext cx="822816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6D59FC-7BAB-43E5-B438-EA52B7796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816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2880"/>
            <a:ext cx="822816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53F513-3623-4406-B5F9-90962A3BD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352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494261-9F09-49A6-BA09-DDD43DEA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8160" cy="458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52CCE-609A-444B-B863-AED2C9B43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280" y="121896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1360" y="121896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288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280" y="378288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1360" y="378288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7A90FC-946C-428C-B8AD-BBA2DFC8CE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8808B-8234-4D4A-B5D8-F17C3BEB58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816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10732-4BCD-47B6-9EBA-A35ABC161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816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25262-8C1A-4B6A-BF40-4EE5221E1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30A60-AC01-4F65-99A9-F02F7CDF0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B389C-1609-45E2-992D-3E68A9DAE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8160" cy="458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BCEAF-3351-4F88-888D-F1BF38685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830B8-55FA-469B-AE1F-39EF59843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352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A66D4-CE58-42DD-8082-6D9ABAE9E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2880"/>
            <a:ext cx="822816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6B107-650C-4E50-AD46-0439911E5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F75BB-9070-4ED6-98CC-180ED6296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816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2880"/>
            <a:ext cx="822816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6D5C5-5841-4364-96E8-A26D77E84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352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8C33B-926C-45DF-88EA-6569271C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280" y="121896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1360" y="121896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288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280" y="378288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1360" y="378288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360CA-DF72-4BC6-86BA-F29FCC998B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242E19-2471-4B2F-9ED5-C438D40B18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816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1F5B18-5BFB-4CC1-9541-90192F01D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816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247B96-CE0B-4908-AE3C-6027F79CC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AF3AFD-690D-445C-8F3E-F756658EA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25C9DE-DA5D-46F3-95A9-349A856B2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8160" cy="458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D2349B-B956-44EC-9744-3CDD0E8CE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433188-62E8-4D1D-8903-5481652D9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E48F4-F5F9-4B1D-9C8B-0CDA70C97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52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335D51-6AE9-4CC1-BB1B-636EC9BCB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2880"/>
            <a:ext cx="822816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B296C1-AB84-4793-8470-5A09D0DAB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816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2880"/>
            <a:ext cx="822816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20C521-90CC-4F09-AE66-FD3E28F80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52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E35C35-1DE3-4008-B61A-A786DDA5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280" y="121896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1360" y="121896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288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280" y="378288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1360" y="378288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5F228A-8039-41BF-AD07-F7CF619B50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35204E-ABBB-45AD-9AD7-94E2513B91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816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7226C52-57AF-4E9F-8974-BFA8192A9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816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4B1685-13EF-444A-AA05-CFB3178E5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1DDB66-F01D-451D-986D-C92F96B84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550CDC-6705-4ACC-9820-730CF5517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2880"/>
            <a:ext cx="822816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3A27E-9F93-468E-ACD4-A5C717DB1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8160" cy="458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3FD650-5A03-4E51-A80E-10E1AC4B1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B119A6-03DD-4D19-8525-A4C29DA66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352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3C57C4-330D-404A-BB17-E46277951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2880"/>
            <a:ext cx="822816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70C8AFA-7906-4E9C-BA5B-21558E972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816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2880"/>
            <a:ext cx="822816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8804013-9117-4617-A282-F15F738F0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352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20F3EF-6F92-44B7-9C29-6721FCB1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280" y="121896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1360" y="121896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288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280" y="378288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1360" y="378288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900321-1C20-4231-B7BA-9295D7D1CA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816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800" y="6356520"/>
            <a:ext cx="22874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898720" y="635652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12360" y="6356520"/>
            <a:ext cx="19796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EE6D0E-FEB3-443B-AA81-0E36A4660D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353280"/>
            <a:ext cx="8229600" cy="1440"/>
          </a:xfrm>
          <a:prstGeom prst="line">
            <a:avLst/>
          </a:prstGeom>
          <a:ln cap="sq" w="9360">
            <a:solidFill>
              <a:srgbClr val="9fb8cd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143000"/>
            <a:ext cx="8229600" cy="1440"/>
          </a:xfrm>
          <a:prstGeom prst="line">
            <a:avLst/>
          </a:prstGeom>
          <a:ln cap="sq" w="9360">
            <a:solidFill>
              <a:srgbClr val="9fb8cd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5400000">
            <a:off x="4204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816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3"/>
          </p:nvPr>
        </p:nvSpPr>
        <p:spPr>
          <a:xfrm>
            <a:off x="6400800" y="6354720"/>
            <a:ext cx="2284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898720" y="6354720"/>
            <a:ext cx="347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1216080" y="6354720"/>
            <a:ext cx="1217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FF095401-8A4A-420F-859C-99C71A4B074D}" type="slidenum">
              <a:rPr b="0" lang="en-US" sz="1400" spc="-1" strike="noStrike">
                <a:solidFill>
                  <a:srgbClr val="464653"/>
                </a:solidFill>
                <a:latin typeface="Gill Sans MT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816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5"/>
          </p:nvPr>
        </p:nvSpPr>
        <p:spPr>
          <a:xfrm>
            <a:off x="6400800" y="6354720"/>
            <a:ext cx="2284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8720" y="6354720"/>
            <a:ext cx="347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6"/>
          </p:nvPr>
        </p:nvSpPr>
        <p:spPr>
          <a:xfrm>
            <a:off x="1069920" y="6354720"/>
            <a:ext cx="1519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D93D86-A895-47A4-BA47-63A7C1CD6C6E}" type="slidenum">
              <a:rPr b="0" lang="en-US" sz="1400" spc="-1" strike="noStrike">
                <a:solidFill>
                  <a:srgbClr val="dde9ec"/>
                </a:solidFill>
                <a:latin typeface="Gill Sans MT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57200" y="6353280"/>
            <a:ext cx="8229600" cy="1440"/>
          </a:xfrm>
          <a:prstGeom prst="line">
            <a:avLst/>
          </a:prstGeom>
          <a:ln cap="sq" w="9360">
            <a:solidFill>
              <a:srgbClr val="9fb8cd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1143000"/>
            <a:ext cx="8229600" cy="1440"/>
          </a:xfrm>
          <a:prstGeom prst="line">
            <a:avLst/>
          </a:prstGeom>
          <a:ln cap="sq" w="9360">
            <a:solidFill>
              <a:srgbClr val="9fb8cd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5400000">
            <a:off x="4204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5400000">
            <a:off x="4204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816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7"/>
          </p:nvPr>
        </p:nvSpPr>
        <p:spPr>
          <a:xfrm>
            <a:off x="6400800" y="6356160"/>
            <a:ext cx="2287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sldNum" idx="8"/>
          </p:nvPr>
        </p:nvSpPr>
        <p:spPr>
          <a:xfrm>
            <a:off x="612360" y="6356160"/>
            <a:ext cx="19796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07501E-21B0-4ECF-B640-7F3C9E9F5CF3}" type="slidenum">
              <a:rPr b="0" lang="en-US" sz="1400" spc="-1" strike="noStrike">
                <a:solidFill>
                  <a:srgbClr val="464653"/>
                </a:solidFill>
                <a:latin typeface="Gill Sans MT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57200" y="6353280"/>
            <a:ext cx="8229600" cy="1440"/>
          </a:xfrm>
          <a:prstGeom prst="line">
            <a:avLst/>
          </a:prstGeom>
          <a:ln cap="sq" w="9360">
            <a:solidFill>
              <a:srgbClr val="9fb8cd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5400000">
            <a:off x="4204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816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9"/>
          </p:nvPr>
        </p:nvSpPr>
        <p:spPr>
          <a:xfrm>
            <a:off x="6400800" y="6356160"/>
            <a:ext cx="2287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sldNum" idx="10"/>
          </p:nvPr>
        </p:nvSpPr>
        <p:spPr>
          <a:xfrm>
            <a:off x="612360" y="6356160"/>
            <a:ext cx="19796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6C2301-41D6-4ABF-BE16-8D7C4577333F}" type="slidenum">
              <a:rPr b="0" lang="en-US" sz="1400" spc="-1" strike="noStrike">
                <a:solidFill>
                  <a:srgbClr val="464653"/>
                </a:solidFill>
                <a:latin typeface="Gill Sans MT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457200" y="6353280"/>
            <a:ext cx="8229600" cy="1440"/>
          </a:xfrm>
          <a:prstGeom prst="line">
            <a:avLst/>
          </a:prstGeom>
          <a:ln cap="sq" w="9360">
            <a:solidFill>
              <a:srgbClr val="9fb8cd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178680" y="306360"/>
            <a:ext cx="1440" cy="6035760"/>
          </a:xfrm>
          <a:prstGeom prst="line">
            <a:avLst/>
          </a:prstGeom>
          <a:ln cap="sq" w="9360">
            <a:solidFill>
              <a:srgbClr val="9fb8cd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5400000">
            <a:off x="4204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816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1"/>
          </p:nvPr>
        </p:nvSpPr>
        <p:spPr>
          <a:xfrm>
            <a:off x="6400800" y="6356160"/>
            <a:ext cx="2287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sldNum" idx="12"/>
          </p:nvPr>
        </p:nvSpPr>
        <p:spPr>
          <a:xfrm>
            <a:off x="612360" y="6356160"/>
            <a:ext cx="19796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528159-8277-482A-84BD-9B974267E807}" type="slidenum">
              <a:rPr b="0" lang="en-US" sz="1400" spc="-1" strike="noStrike">
                <a:solidFill>
                  <a:srgbClr val="464653"/>
                </a:solidFill>
                <a:latin typeface="Gill Sans MT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57200" y="6353280"/>
            <a:ext cx="8229600" cy="1440"/>
          </a:xfrm>
          <a:prstGeom prst="line">
            <a:avLst/>
          </a:prstGeom>
          <a:ln cap="sq" w="9360">
            <a:solidFill>
              <a:srgbClr val="9fb8cd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5400000">
            <a:off x="4204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816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6400800" y="6356160"/>
            <a:ext cx="2287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sldNum" idx="14"/>
          </p:nvPr>
        </p:nvSpPr>
        <p:spPr>
          <a:xfrm>
            <a:off x="612360" y="6356160"/>
            <a:ext cx="19796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3CEDE9-ED68-43EC-A2D1-43E2C577EE52}" type="slidenum">
              <a:rPr b="0" lang="en-US" sz="1400" spc="-1" strike="noStrike">
                <a:solidFill>
                  <a:srgbClr val="dde9ec"/>
                </a:solidFill>
                <a:latin typeface="Gill Sans MT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457200" y="6353280"/>
            <a:ext cx="8229600" cy="1440"/>
          </a:xfrm>
          <a:prstGeom prst="line">
            <a:avLst/>
          </a:prstGeom>
          <a:ln cap="sq" w="9360">
            <a:solidFill>
              <a:srgbClr val="9fb8cd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4204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556320" y="276120"/>
            <a:ext cx="1800" cy="5851800"/>
          </a:xfrm>
          <a:prstGeom prst="line">
            <a:avLst/>
          </a:prstGeom>
          <a:ln cap="sq" w="9360">
            <a:solidFill>
              <a:srgbClr val="9fb8cd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816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15"/>
          </p:nvPr>
        </p:nvSpPr>
        <p:spPr>
          <a:xfrm>
            <a:off x="6400800" y="6356160"/>
            <a:ext cx="2287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16"/>
          </p:nvPr>
        </p:nvSpPr>
        <p:spPr>
          <a:xfrm>
            <a:off x="612360" y="6356160"/>
            <a:ext cx="19796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1CCDB4-77FD-4F54-8973-308F05C19CBC}" type="slidenum">
              <a:rPr b="0" lang="en-US" sz="1400" spc="-1" strike="noStrike">
                <a:solidFill>
                  <a:srgbClr val="464653"/>
                </a:solidFill>
                <a:latin typeface="Gill Sans MT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4876920" y="3657600"/>
            <a:ext cx="3186000" cy="126684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3657600" y="5181480"/>
            <a:ext cx="4400640" cy="45720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3"/>
          <a:stretch/>
        </p:blipFill>
        <p:spPr>
          <a:xfrm>
            <a:off x="8305920" y="5791320"/>
            <a:ext cx="647640" cy="86652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4"/>
          <a:stretch/>
        </p:blipFill>
        <p:spPr>
          <a:xfrm>
            <a:off x="1295280" y="0"/>
            <a:ext cx="6629400" cy="353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  <a:ea typeface="Microsoft YaHei"/>
              </a:rPr>
              <a:t>2.2 CRM: Why Now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Microsoft YaHei"/>
              </a:rPr>
              <a:t>Increasing Number of High-Quality Competitors and Produ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consumers faced an unlimited number of new choic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faced an unlimited number of new, high-quality choic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difficult for companies to stand ou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CRM systems were the technique that would enable companies to develop bonds with custome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7000920" y="5562720"/>
            <a:ext cx="214308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  <a:ea typeface="Microsoft YaHei"/>
              </a:rPr>
              <a:t>2.2 CRM: Why Now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219320"/>
            <a:ext cx="8229600" cy="49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Microsoft YaHei"/>
              </a:rPr>
              <a:t>Increasing Number of High-Quality Competitors and Produ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consumers faced an unlimited number of new choic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faced unlimited number of new, high-quality choic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difficult for companies to stand ou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CRM systems were the technique that would enable companies to develop bonds with custome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Microsoft YaHei"/>
              </a:rPr>
              <a:t>Erosion of Traditional Marke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“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noise” in marketplace makes it difficult to promote produc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change in the pace of lif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introduction of Intern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7000920" y="5562720"/>
            <a:ext cx="214308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  <a:ea typeface="Microsoft YaHei"/>
              </a:rPr>
              <a:t>2.3 Organizations’ Experiences with CRM: Success or Failure?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Microsoft YaHei"/>
              </a:rPr>
              <a:t>Success is difficult to determ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success metrics must be determined in advance of CRM installation and implement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without performance metrics, CRM does not work and cannot be considered vali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the need for companies to communicate with, and to manage, their customer base is the core of any organiz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many companies have gone into CRM efforts without clearly stated goals, making assessment of CRM failure speciou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7000920" y="5562720"/>
            <a:ext cx="214308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  <a:ea typeface="Microsoft YaHei"/>
              </a:rPr>
              <a:t>2.3 Organizations’ Experiences with CRM: Success or Failure?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Microsoft YaHei"/>
              </a:rPr>
              <a:t>Why some systems fa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Inadequate support from top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No CRM champion within the comp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Inadequate financial commi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Supply-chain partners not inclu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No specification regarding who owns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Poor-quality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Technology the focus instead of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Performance metrics not establis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Lack of change-management initi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Employees not “sold” on customer-centric foc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7000920" y="5562720"/>
            <a:ext cx="214308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  <a:ea typeface="Microsoft YaHei"/>
              </a:rPr>
              <a:t>2.4 Challenges in Implementing CRM and How the Many Barriers Can Be Overcom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Microsoft YaHei"/>
              </a:rPr>
              <a:t>Chan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introducing CRM systems into any organization requires a great deal of chang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will affect the ways that things have been traditionally don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diverse stakeholder group makes it more difficult for the organization to implement the changes needed for succe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Microsoft YaHei"/>
              </a:rPr>
              <a:t>Companies can overcome barriers through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Gill Sans MT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communi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Gill Sans MT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integr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Gill Sans MT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foresigh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7000920" y="5562720"/>
            <a:ext cx="214308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457200" y="212760"/>
            <a:ext cx="82296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Bookman Old Style"/>
                <a:ea typeface="Microsoft YaHei"/>
              </a:rPr>
              <a:t>2.4 Challenges in Implementing CRM and How the Many Barriers Can Be Over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1219320"/>
            <a:ext cx="42670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Organizations must adopt a relationship marketing philosophy across all functional are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Organizations must detail and communicate the benefits of a CRM orientation to all managers and staff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Top executive support must be obtained and maintained throughout CRM developm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Business strategies must drive CRM development rather than the other way aroun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495680" y="1219320"/>
            <a:ext cx="4648320" cy="52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If separate “quick-results” CRM projects are being implemented as opposed to an all-encompassing CRM suite, then these separate projects must be integrated and functionally align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Organizations must include both IT and business unit managers in CRM start-up team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Customer data must be integrated and maintain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Organizations must build a business case and conduct a business analysis before deciding on a CRM solu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Success metrics must be developed to assess the effectiveness of the CRM effor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7000920" y="5562720"/>
            <a:ext cx="214308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  <a:ea typeface="Microsoft YaHei"/>
              </a:rPr>
              <a:t>2.5 Developing CRM from a Tactical Perspe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57200" y="1219320"/>
            <a:ext cx="8229600" cy="55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icrosoft YaHei"/>
              </a:rPr>
              <a:t>Checklist for customer service su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the importance of the customer contact centers (CCC) cannot be underestimat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main customer touch poi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CCC personnel are critical links to the CRM proce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2080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Microsoft YaHei"/>
              </a:rPr>
              <a:t>develop a profiling technique to hire best applic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2080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Microsoft YaHei"/>
              </a:rPr>
              <a:t>provide complete customer profiles and adjust information based on requ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2080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Microsoft YaHei"/>
              </a:rPr>
              <a:t>put process blueprints in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icrosoft YaHei"/>
              </a:rPr>
              <a:t>Customer analy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use databases more effectivel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segment and identify the value of segm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build customer relationshi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7000920" y="5562720"/>
            <a:ext cx="214308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  <a:ea typeface="Microsoft YaHei"/>
              </a:rPr>
              <a:t>2.5 Developing CRM from a Tactical Perspe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7200" y="1219320"/>
            <a:ext cx="8229600" cy="50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  <a:ea typeface="Microsoft YaHei"/>
              </a:rPr>
              <a:t>Product Se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organization’s needs and CRM goals are d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CRM products must be selected based on the company’s need to provide greater value to its customer 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  <a:ea typeface="Microsoft YaHei"/>
              </a:rPr>
              <a:t>Six-Step Time Line of CRM Activ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Gill Sans MT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Establish a strategic plan for CRM system activities quantifying goals and obj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Gill Sans MT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Estimate the impacts on ongoing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Gill Sans MT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Communicate the relationship marketing philosophy from the top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Gill Sans MT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Build the CRM platform technology to solve the problems fa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Gill Sans MT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Organize to expedite the development of the CRM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Gill Sans MT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Establish CRM program metrics to measure effectiv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7000920" y="5562720"/>
            <a:ext cx="214308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  <a:ea typeface="Microsoft YaHei"/>
              </a:rPr>
              <a:t>2.6 Extending the Meaning and Application of CR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icrosoft YaHei"/>
              </a:rPr>
              <a:t>CRM includes more constituencies than merely 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focus has been extended to include all members who might find it beneficial to collabora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2080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Microsoft YaHei"/>
              </a:rPr>
              <a:t>suppl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2080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Microsoft YaHei"/>
              </a:rPr>
              <a:t>distribu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2080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Microsoft YaHei"/>
              </a:rPr>
              <a:t>facilitating a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icrosoft YaHei"/>
              </a:rPr>
              <a:t>Every relationship is dependent upon the quality, relevance, consistency, and value of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icrosoft YaHei"/>
              </a:rPr>
              <a:t>Everyone in the organization can be a beneficiary of a CRM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7000920" y="5562720"/>
            <a:ext cx="214308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219320" y="3657600"/>
            <a:ext cx="6858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  <a:ea typeface="Microsoft YaHei"/>
              </a:rPr>
              <a:t>Section1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Microsoft YaHei"/>
              </a:rPr>
              <a:t>CRM Theory and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219320" y="5124600"/>
            <a:ext cx="6858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Bookman Old Style"/>
                <a:ea typeface="Microsoft YaHei"/>
              </a:rPr>
              <a:t>Chapter 2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Bookman Old Style"/>
                <a:ea typeface="Microsoft YaHei"/>
              </a:rPr>
              <a:t>The History and Development of CR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295280" y="0"/>
            <a:ext cx="6629400" cy="353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  <a:ea typeface="Microsoft YaHei"/>
              </a:rPr>
              <a:t>2.1 The Origins of C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Microsoft YaHei"/>
              </a:rPr>
              <a:t>Relationship Marke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focuses on maintaining a continuous relationship with customers and building long-term bond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long-term bonds teach companies more about the customer’s need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knowledge of a customer’s needs allows companies to provide personalized and one-on-one servic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Microsoft YaHei"/>
              </a:rPr>
              <a:t>Marketing Resear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measures customer satisfaction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focuses on market segments as opposed to individual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7000920" y="5562720"/>
            <a:ext cx="214308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  <a:ea typeface="Microsoft YaHei"/>
              </a:rPr>
              <a:t>2.1 The Origins of C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57200" y="1219320"/>
            <a:ext cx="8229600" cy="54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Microsoft YaHei"/>
              </a:rPr>
              <a:t>B2B Relationshi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underlying process involves relationships in which two parties are acquainted and through dialogue, associations become stronger and deep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Microsoft YaHei"/>
              </a:rPr>
              <a:t>Materials Resource Planning (MR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focuses on production planning and inventory systems in order to manage manufacturing process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Microsoft YaHei"/>
              </a:rPr>
              <a:t>Enterprise Resource Planning (ER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later version of MR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automates a company’s system integration through a software appli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7000920" y="5562720"/>
            <a:ext cx="214308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  <a:ea typeface="Microsoft YaHei"/>
              </a:rPr>
              <a:t>2.1 The Origins of C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57200" y="1219320"/>
            <a:ext cx="8229600" cy="58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Microsoft YaHei"/>
              </a:rPr>
              <a:t>SA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company that integrated traditional MRP functions with account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established customer data warehous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Microsoft YaHei"/>
              </a:rPr>
              <a:t>Customer Contact Cen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telemarketing technology led to developm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new technologies and evaluation metrics are constantly introduc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Microsoft YaHei"/>
              </a:rPr>
              <a:t>Sales-Force Auto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developed and introduced to improve the capture of customer and prospect inform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provides real-time inform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7000920" y="5562720"/>
            <a:ext cx="214308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  <a:ea typeface="Microsoft YaHei"/>
              </a:rPr>
              <a:t>2.1 The Origins of C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Microsoft YaHei"/>
              </a:rPr>
              <a:t>Campaign Management Too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introduced to contain excessive costs associated with media buys for mass-marketing promotional campaig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Microsoft YaHei"/>
              </a:rPr>
              <a:t>Point Solu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CRM systems started with the goal of satisfying the needs of a single department or func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Microsoft YaHei"/>
              </a:rPr>
              <a:t>CRM Suite Solu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developed to integrate all of the point solu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must be consistently upgrad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7000920" y="5562720"/>
            <a:ext cx="214308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  <a:ea typeface="Microsoft YaHei"/>
              </a:rPr>
              <a:t>2.1 The Origins of C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57200" y="1219320"/>
            <a:ext cx="8229600" cy="56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Microsoft YaHei"/>
              </a:rPr>
              <a:t>Diffusion of Personal Compu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every desktop had the capability to analyze customer d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led to company divisions having the ability to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2080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Microsoft YaHei"/>
              </a:rPr>
              <a:t>manipulate their own customer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2080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Microsoft YaHei"/>
              </a:rPr>
              <a:t>develop their own marketing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2080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Microsoft YaHei"/>
              </a:rPr>
              <a:t>assess their own performance (without regard to what headquarters was do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Microsoft YaHei"/>
              </a:rPr>
              <a:t>Analytical C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SPSS, SAS, and personal computers laid found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analysts are able to study product movement by multiple variabl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7000920" y="5562720"/>
            <a:ext cx="214308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  <a:ea typeface="Microsoft YaHei"/>
              </a:rPr>
              <a:t>2.1 The Origins of C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Microsoft YaHei"/>
              </a:rPr>
              <a:t>Direct-Response Marke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provides identification of individual target prospects, personalized communications and messages, and measures of succe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2080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Microsoft YaHei"/>
              </a:rPr>
              <a:t>toll-free ca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2080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Microsoft YaHei"/>
              </a:rPr>
              <a:t>direct 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Microsoft YaHei"/>
              </a:rPr>
              <a:t>Relational Datab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allow companies to identify, access, manipulate, and share customer information across departm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7000920" y="5562720"/>
            <a:ext cx="214308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  <a:ea typeface="Microsoft YaHei"/>
              </a:rPr>
              <a:t>2.1 The Origins of C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57200" y="1219320"/>
            <a:ext cx="8229600" cy="56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Microsoft YaHei"/>
              </a:rPr>
              <a:t>Industrial Marke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looks at interaction theories and relationship build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focuses on trust and commitment issu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Microsoft YaHei"/>
              </a:rPr>
              <a:t>Service Marke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looks at service quality, satisfaction, and the need to maintain one’s customer ba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Microsoft YaHei"/>
              </a:rPr>
              <a:t>4 P’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produc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plac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promo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pric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7000920" y="5562720"/>
            <a:ext cx="2143080" cy="1143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2T17:03:51Z</dcterms:created>
  <dc:creator>Lauren</dc:creator>
  <dc:description/>
  <dc:language>en-US</dc:language>
  <cp:lastModifiedBy>Lauren</cp:lastModifiedBy>
  <dcterms:modified xsi:type="dcterms:W3CDTF">2012-06-16T11:17:18Z</dcterms:modified>
  <cp:revision>39</cp:revision>
  <dc:subject/>
  <dc:title>Slide 1</dc:title>
</cp:coreProperties>
</file>