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30.png" ContentType="image/png"/>
  <Override PartName="/ppt/media/image11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7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25.wmf" ContentType="image/x-wmf"/>
  <Override PartName="/ppt/media/image1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8.wmf" ContentType="image/x-wmf"/>
  <Override PartName="/ppt/media/image26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49B-1118-48FE-A7F4-D7C90850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9360"/>
            <a:ext cx="4259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119-B918-41CC-B990-7F17F53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952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42A-D5C3-42E1-BFE9-F570636B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97200" y="159984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37200" y="159984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936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97200" y="405936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37200" y="4059360"/>
            <a:ext cx="13712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3BB-CB3A-4FCB-825C-8070A328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777-BCD4-4B69-B6FE-B616A8A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AE8-808F-4E11-A192-937035D3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4E5-791C-4DF0-8932-8A33047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1E2-7CFC-4578-B195-607F5F06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43308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D09-EBBE-4229-991D-3E84B28D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17A-D00C-4508-8FC4-2189C28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9520" y="405936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9E9-B106-4992-8217-080D820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9520" y="1599840"/>
            <a:ext cx="20782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9360"/>
            <a:ext cx="4259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992-EEE5-42CB-9842-E590A29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4259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0D30-3AA4-44DB-9890-F1A9A35C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tion 2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33019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BE1-944D-4302-917A-44C228224B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Management framework as a spreadshe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takeholder Lis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identification, engagement, requirement analysis, planning, implementation, control and evaluation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Work Breakdown Structur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a process of decomposition whereby a complex project is broken up into smaller units of work that can be easily managed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chedule: Milestone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dates that mark the conclusion of an important task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Deliverable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Each milestone and its deliverable is a mini project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84840" y="1052640"/>
            <a:ext cx="4259160" cy="160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84840" y="4600440"/>
            <a:ext cx="425916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303-3A94-4CCC-8843-5975FFA803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793116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6275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Management framework as a spreadshe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Resource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outsource /inhouse and make/buy/hire decisions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budg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program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risk register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ite map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event checklis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3280" y="1660680"/>
            <a:ext cx="4500720" cy="191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76840" y="3645000"/>
            <a:ext cx="526716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3708360" cy="248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1720" y="6093000"/>
            <a:ext cx="321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Peter Kagwa, Eventswarehouse, Ugan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E32-0964-42B8-9D66-FA0B7DF498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The developing event: a maturity mode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How events start and their pathway to growth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Informa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Accountabl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Adaptable and improvabl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618-8F01-4CBB-97E3-CA96952FC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cc3300"/>
                </a:solidFill>
                <a:latin typeface="Arial"/>
              </a:rPr>
              <a:t>From domains to a process mod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1. Domain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2. Phas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3. Processes that are employed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A process is series of step by step tasks or activities repeated in the management of an ev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cope: the integration and control of all the work flow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takeholders including sponsorship manage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Procure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Human Resources</a:t>
            </a: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1A1-2C4B-460F-9D7D-C94FE4762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83760" cy="59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6AB-5FDF-461A-8BE9-3F49549E02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27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52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Scope: the integration and control of all the work flow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787920" y="1125360"/>
          <a:ext cx="484956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7920" y="1125360"/>
                    <a:ext cx="48495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BEA-85E6-4B0E-9198-411FA8078C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3184560"/>
            <a:ext cx="231444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takeholders including sponsorship manage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43280" y="1197000"/>
          <a:ext cx="608652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197000"/>
                    <a:ext cx="608652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DCF-833C-4975-A94A-025B651B89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619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vent sit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ogramm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Marketing mix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omotio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448240" y="404640"/>
          <a:ext cx="36957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404640"/>
                    <a:ext cx="36957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26920" y="3311640"/>
          <a:ext cx="3959280" cy="35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311640"/>
                    <a:ext cx="39592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A0E-9AA0-44F5-BF32-488DFE5F9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9 Event management process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780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Process group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icing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Cash flow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ricing even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management service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95640" y="1341360"/>
          <a:ext cx="44611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341360"/>
                    <a:ext cx="44611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FAE-8676-42B3-B7D3-298C54688D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99"/>
                </a:solidFill>
                <a:latin typeface="Tahoma"/>
              </a:rPr>
              <a:t>Chapter 10 Event management processes – section</a:t>
            </a:r>
            <a:r>
              <a:rPr b="0" lang="en-AU" sz="2400" spc="-1" strike="noStrike">
                <a:solidFill>
                  <a:srgbClr val="333399"/>
                </a:solidFill>
                <a:latin typeface="Tahoma"/>
              </a:rPr>
              <a:t> tw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52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Time management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Event Dat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Deadline Managemen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11640" y="1341360"/>
          <a:ext cx="47642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341360"/>
                    <a:ext cx="47642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763-9C6F-4D2F-A119-ED6BDFABE6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tion Two Management : Top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59220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7CA-6B44-44C1-8377-B944EF190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deadl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immoveable deadline is one of the defining characteristic of most event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very decision and change must take into account the effect on the deadline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 deadline analysis flowchart is a universal process in the event management mod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87840" y="620640"/>
          <a:ext cx="45561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7840" y="620640"/>
                    <a:ext cx="4556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70C-04D8-4CB1-8B6D-D0D9CBAD6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0 Event management processes – secti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w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7480"/>
            <a:ext cx="3251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Risk Management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Operational Risk and Upstream Desig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95640" y="1052640"/>
          <a:ext cx="48546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052640"/>
                    <a:ext cx="4854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241800" cy="215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8840" y="622476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Queen’s Baton Relay 2010, Namibi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Maxxam Events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D5E-3299-4B61-A2D9-3F4ED800DC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0 Event management processes – secti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w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Communication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External Communication – Promotio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3300"/>
                </a:solidFill>
                <a:latin typeface="Arial"/>
              </a:rPr>
              <a:t>Internal Staff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Documentation/Office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dministration Manual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IT system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Internal Volunteer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Meetings, briefing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3300"/>
                </a:solidFill>
                <a:latin typeface="Arial"/>
              </a:rPr>
              <a:t>Internal – during event :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Onsite Communication system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Operation manual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3300"/>
                </a:solidFill>
                <a:latin typeface="Arial"/>
              </a:rPr>
              <a:t>External – stakeholders: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Progress Reporting such as legal requirements 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Promoting (audience)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Development (sponsors)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4720" y="1700280"/>
          <a:ext cx="4789440" cy="44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78944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EC4-A3D4-4111-BFB8-70A8EBBFF1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0 Event management processes – sectio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w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Procurement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Contract managemen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Human Resources Proces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c3300"/>
                </a:solidFill>
                <a:latin typeface="Arial"/>
              </a:rPr>
              <a:t>HR and Delegation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9520" y="2997360"/>
          <a:ext cx="346392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997360"/>
                    <a:ext cx="34639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425840" y="1486080"/>
          <a:ext cx="4216680" cy="45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5840" y="1486080"/>
                    <a:ext cx="42166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3CD-109A-4517-8831-DFA5DE9F34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330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11 Event metrics and checklis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321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Exposure Profil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cc3300"/>
                </a:solidFill>
                <a:latin typeface="Arial"/>
              </a:rPr>
              <a:t>Return on Investmen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(Income − Cost)/Cost</a:t>
            </a: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Compare investments – a commensurable variable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Return on Objectives (ROO)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The general process of ROI analysis is: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Establish the client of the ROI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Establish objective of the client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Create a system for correctly costing the event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nalyse the elements of the event that directly contribute to the income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nalysis of the elements that indirectly contribute to the income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Develop a measure for the intangible aspects 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Establish the time frame of the incoming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Analyse the efficiency of the elements of the event to deliver the incoming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345456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318-89FA-4D27-A18E-E445436044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A model, processes, system or a Body of Knowledg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Qualities of a good mod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The event management environment: Complexity and Uncertainty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81480" y="1700280"/>
          <a:ext cx="3400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00280"/>
                    <a:ext cx="3400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600720" cy="247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3520" y="649296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lympic Torch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Maxxam Events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34F-55BB-41D7-9241-B03319EDE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52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lexity due to: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Number of stakeholder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Number of reciprocal dependencie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Multi-objective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Number of changes or modifications to both the product and the project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Uncertainty of goal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Uncertainty of methods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00360" y="1424160"/>
          <a:ext cx="62294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24160"/>
                    <a:ext cx="62294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9B9-E218-4C5D-8B89-DAE114370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5636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ynamic System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ynamic – change on many level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ightly coupled – changes in one area of the management will quickly affect other area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Governed by feedback – any action will have a result that will influence other similar action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onlinear – effect and cause are rarely proportional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istory dependent – actions are mostly irreversible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Self-organising – semi-autonomous groups or teams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daptive – can quickly respond to changes to minimise their negative impac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unterintuitive – difficult to exactly predict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olicy resistive – difficult to comprehend and therefore control using linear method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haracterised by trade-offs – the effects of a decision in one area of event management will be traded against the results in other areas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716360" y="1197000"/>
          <a:ext cx="443088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197000"/>
                    <a:ext cx="443088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94E-186A-487B-9035-E791326FF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3300"/>
                </a:solidFill>
                <a:latin typeface="Arial"/>
              </a:rPr>
              <a:t>Phases of event management and the event life cycl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Idea – concept development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Feasibility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Shutdown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cc3300"/>
                </a:solidFill>
                <a:latin typeface="Arial"/>
              </a:rPr>
              <a:t>Intangibility of outcomes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ROO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cc3300"/>
                </a:solidFill>
                <a:latin typeface="Arial"/>
              </a:rPr>
              <a:t>RO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4324320" cy="2890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28800" y="6381720"/>
            <a:ext cx="259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hoto courtesy of Maxxam Events Interna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628-7805-4B30-B267-5C68701CC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7 Management models and the business c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The Business cas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The business case is the justification to proceed with an event from a business point of view.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A template for a business case will include the headings: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Date: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                         Event: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Event Description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Target Audienc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mpany Participation &amp; Staffing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Required resource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mpany benefits: Direc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Company benefits: Indirect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3300"/>
                </a:solidFill>
                <a:latin typeface="Arial"/>
              </a:rPr>
              <a:t>Action recommended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B43-5139-42DE-AE81-A613139720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663588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Event project methodology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Arial"/>
              </a:rPr>
              <a:t>Management framework during the feasibility/initiation phas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Scop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3300"/>
                </a:solidFill>
                <a:latin typeface="Arial"/>
              </a:rPr>
              <a:t>Drafting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2988" t="13239" r="0" b="0"/>
          <a:stretch/>
        </p:blipFill>
        <p:spPr>
          <a:xfrm>
            <a:off x="2916360" y="2200320"/>
            <a:ext cx="6227640" cy="46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96C-0AAF-45FB-954B-55798F19B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99"/>
                </a:solidFill>
                <a:latin typeface="Tahoma"/>
              </a:rPr>
              <a:t>Chapter 8 Setting up the management syste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Management framework as a spreadshee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Contents pag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Link to all spreadsheets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scop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The objectives of the event as well as the major responsibilities and assumptions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3300"/>
                </a:solidFill>
                <a:latin typeface="Arial"/>
              </a:rPr>
              <a:t>The organisation structure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cc3300"/>
                </a:solidFill>
                <a:latin typeface="Arial"/>
              </a:rPr>
              <a:t>Temporary organisation structure that is time based 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5267160" cy="13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65640" y="765000"/>
            <a:ext cx="3978360" cy="271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703-7F14-4C03-AB8C-485767D90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7:04:02Z</dcterms:created>
  <dc:creator>Bill</dc:creator>
  <dc:description/>
  <dc:language>en-US</dc:language>
  <cp:lastModifiedBy>Bill</cp:lastModifiedBy>
  <dcterms:modified xsi:type="dcterms:W3CDTF">2010-11-12T07:46:08Z</dcterms:modified>
  <cp:revision>37</cp:revision>
  <dc:subject/>
  <dc:title>Slide 1</dc:title>
</cp:coreProperties>
</file>