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8"/>
          </p:nvPr>
        </p:nvSpPr>
        <p:spPr>
          <a:xfrm>
            <a:off x="0" y="942192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9"/>
          </p:nvPr>
        </p:nvSpPr>
        <p:spPr>
          <a:xfrm>
            <a:off x="3848040" y="942192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6142-2EBA-4388-8394-4265B1A0D477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48040" y="94219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FF2F-F5AE-41A8-B561-6859DD258B6A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62B8-984C-4398-B36D-954BEB4FF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C5DA-9FA8-47B7-8A39-F9676ADD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FD53E-E450-4314-900B-0ED2BCA1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2386AB-2416-4128-A1E5-F86DDA19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BF2DF-D4FB-42FF-8DA8-61616660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84AD63-CE31-4BDB-84DE-8EA59CD6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94BD4F-70C8-41ED-8392-C4EE90E7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CEB941-66F8-40AB-ACC7-96FFB542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606F4-236D-4B28-8F3F-81592BAC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95805B-C106-4F72-9F29-967660CC6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29495-D7FF-4610-9F82-4C8826609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BCFDB2-8B25-4404-B608-6F466581A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392A-D267-43EA-BAB1-B822680EA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6EB2CE-7D1D-4243-9902-5A3BA4DC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513B8F-E579-40B3-990F-B6BCBF09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99E30C-6104-454C-AC10-F382E68B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FCC816-90B3-4555-9FE0-8D6935C3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EFCA41-141B-402B-8DE2-DCEA0ECA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043EBF-6243-4EE9-BA9E-DB3F78D0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565F3F-D716-4400-BCF2-E8367A56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1B3659-CE80-4190-BACD-66D03C3F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E35E60-D5C4-4CD6-8473-249C19FE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39EFC-0591-4402-B271-EA885FE9F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DCD5-A388-4FA6-9AF9-EB6CDED69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69D98-7AC5-4F4D-98A1-A215B617A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4C18F-D484-4EF1-B145-BCEE9036B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38890-A696-4B95-8489-FA68D787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04A33-40BA-4694-8BC6-A8D9FAE3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9B99A-E3C6-40D6-A6F9-68EACBA2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A1B99-2628-4D2A-94D7-67612CF4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D3328-1B09-498D-9821-B931EFC0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9B8B1-53D6-43AB-946F-DDDC7114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50A1C-F836-4F87-A1E6-F2F8FCCB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A6B1A-2A48-4D95-A9F0-3BB522B2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A5C0-958E-4696-AEF4-CD56AC2E0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22479-1981-4B29-A356-E6FB1F21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100CD-C84E-478A-B9CA-C6FB95B26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78C33-E633-404A-9B85-02611ABC5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A47F20-A45D-4F55-B190-A08B7AC94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BC41D2-D856-4EA9-BA0E-43148503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63C135-E5E1-4570-9D84-049DCE0C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0D4C72-F8C8-48C8-A0EB-6A8E748D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C71600-DA4F-4C69-B14E-8E3B57FE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5EDB10-4C2A-4BE5-887F-71374928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34331E-9DE5-4C78-BC8F-160045D2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CA89-8A40-4FEF-9342-8E8731AF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523C56-B906-4C9C-832D-404DFF36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3BDF85-B2DC-4E24-BFC8-FEF15260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0A8473-E604-4BA5-AE99-07E02E1A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EBD7B1-9B08-4A17-B6E2-141ECD47C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CAA98A-00A3-4AA6-B04C-D70DCA80C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0DA8-CC93-42AD-B722-C36504DF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2A76-3A88-4534-8A52-CF517F2B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D43C-C0FD-464D-9138-8883213A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A37E-D126-4CAE-84F9-AE604D06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E4BA-8740-4BAF-9441-159C8F79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99A6-81DC-4548-AD9D-BCED731C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9C53-4AEF-45CE-AF48-F608A907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1A47-2D55-48FC-817B-6A279613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A2E2-6A81-4606-A343-37AF3F28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BA12-48AB-4F50-91E3-7B272DAE6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9AD2-3CE3-44FE-B075-C2C93B4E9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09634-6503-48D1-8545-1D75ED6EA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62C64-5851-4A3D-9E3B-688A830D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08480-8DBD-4042-A0DD-E245EFB8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92FA3-6A28-45C2-9A0C-DE5CBD05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DAF2E-77DA-4B0D-9E4F-7EF6B7D2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675D-8806-448D-A028-A736AB03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5828B-CFD3-4B25-AB4D-8B231D8A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53DC2-39C4-4D6B-B6E1-3065FE75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0CB6F-8BB6-45C2-9B1D-2215E198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445BE-2459-4C8A-B0DF-ACF5400C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F1ED4-37DE-4DEE-AB46-3A66FC84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F42E0-4CF5-4D7D-A90D-76151C52A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A96E2-84F3-4C93-845B-09F5FB5FA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E2082-CF95-4CBD-95F1-4784EE418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92C45-1291-421C-8666-455360CF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DA268-43EB-47CB-87F3-2C32326A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7E2E-A943-43EE-A599-8CDCD932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A9553-DAEC-45D7-86DA-62171119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40B8A-6FFD-41D1-9EF6-1F78630D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D2737-4138-49B6-8B69-E9A5126A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1B301-D25B-4EEE-9066-FE4FBD62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AF61C-A4C9-4DB4-AF2E-F5612D2C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CBD2F-1B9E-48C8-81FB-1E432E0F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88D70-0962-471F-A9F2-23217F40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92EAD-3575-4C75-9C43-6BDF175FF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79462-667F-4148-9A16-A458C1B41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384D6-7382-4023-996F-F90106621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F477-EA15-4FC9-A8B5-F23F700A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F8D5C-F92D-4D56-9441-EA676FE5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C6970-EE1A-413F-BDFB-ACABC96C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03D6F-7847-499A-934D-508D527B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07593-9CD5-45DD-9DAA-56CF4F8F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BBD42-9456-43AC-B26A-B3216B10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13F5B-0EC5-4CC8-AE8E-4ED33BCD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6D01D-EDE6-40AF-AD43-2C87448C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A46F2-132E-439D-AB5B-2A9BB5F9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11460-558A-42CA-A69A-A8F54A70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13B2E-F414-4A5C-A698-61A2E9287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02B9-3F70-463E-BCCE-1708FC76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F91BD-C09D-4331-860F-212A16A2B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57BE8-348C-42AB-B0C8-FB5852C0D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6ACDB-1509-4570-A605-9F5CC688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B09FF-E5D5-4508-B48E-7D1BA768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E96F3-FF89-4235-89BB-8DF576CC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41DC0-1570-404B-A609-F93698CC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A3F37-BEFC-4E57-9FF8-EE5448B3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53847-2E92-49C0-B0B1-18C7614A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84CB3-8013-46A1-BD8B-EDC7F0A1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CDEB1-1E25-412A-B2B3-299834D9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F717-D5E5-41D6-8B27-7389F690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1BC45-0753-4CB0-ADA0-AE6423F3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168EF-FBE7-4253-B1F9-66BF29448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95048-7509-4161-98D5-64BAADD20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AD105-96E8-4462-A05C-D4E4AB22D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DF7E8-6F97-4511-BF89-EA78678E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E5A30-DF9C-47C9-9AF4-20086F56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3B347-8E9D-4CA0-A323-7F33E599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09B63-02E0-49F6-9472-CD43103A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17A12-14F4-48FB-B325-FE898CB0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15D84-EECC-4182-8171-63888DF8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D5FD-34EB-4F8F-B276-6CA7F274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69F4E-640C-40B9-88C5-A149D9B1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C6E5E-64E5-4C77-9B95-B09064F6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770CD-194C-44A3-9CBB-2BB96511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DA485-DF75-4301-9347-9D0213494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893E6-0427-4716-A5EC-80CBBAD7A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F92F3-A953-49B7-A965-1623FC796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5ED24-C8AA-4D98-868A-D9402957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3CE55-8754-41CC-BFCA-E23B23EE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D3B22-2EC7-41C2-A7E7-9DAC2A81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E8BBD-955A-4808-A307-DD4CCABD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A75F-D8E1-4CAD-B000-B4290B5F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67D36-A94B-41AA-AA9E-214E4F1D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AF85C-C64D-4808-A247-ED037641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F29ED-FE0A-4456-BDAE-DF475966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D8542-74C7-4A89-87B6-FD6C8D88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62022-9D4F-4E71-8189-2FF84A56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239D9-888A-46B5-8BD0-0FBA86E96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19395-3321-4389-B53F-A44D51101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282B23-0096-4FE8-AD72-1B676F6D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2090E-1675-461C-846C-EFF75919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72E4C-90FE-42A8-8ED1-2F370117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A407-EB3C-47CA-B11E-64B304E84DF4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183D-FBBF-48E9-A7DE-88429BA211B7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6A69-14CB-4BE1-A3CF-8C8B557676E0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0161-D5FA-4A1A-AF26-304D94A13004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00AC-8021-4F06-958C-029B213053CC}" type="slidenum">
              <a:rPr b="0" lang="en-US" sz="1200" spc="-1" strike="noStrike">
                <a:solidFill>
                  <a:srgbClr val="d1eaee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48A2-D895-4CB5-8440-A50701F76B16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7DD4-3837-49F1-8517-8B3EAE619B4D}" type="slidenum">
              <a:rPr b="0" lang="en-US" sz="1200" spc="-1" strike="noStrike">
                <a:solidFill>
                  <a:srgbClr val="d1eaee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83E9-1A8A-4F2C-B7FD-AE3BD390945F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C65F-940C-4BE0-85B5-08ECDA650F3B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ADBD-7273-4D44-9016-50E171236EB5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1BDE-5B68-4FAB-BD79-31D8306873BA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0CDF-EC8D-4255-A96E-D3FA76712AB1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Title 1" descr=""/>
          <p:cNvPicPr/>
          <p:nvPr/>
        </p:nvPicPr>
        <p:blipFill>
          <a:blip r:embed="rId1"/>
          <a:stretch/>
        </p:blipFill>
        <p:spPr>
          <a:xfrm>
            <a:off x="530280" y="1371600"/>
            <a:ext cx="785808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69880" y="498240"/>
            <a:ext cx="8183520" cy="664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4617b"/>
                </a:solidFill>
                <a:latin typeface="Calibri"/>
              </a:rPr>
              <a:t>Tower thrust (Fx) loads of 80m diameter wind turbine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22" name="Content Placeholder 3" descr=""/>
          <p:cNvPicPr/>
          <p:nvPr/>
        </p:nvPicPr>
        <p:blipFill>
          <a:blip r:embed="rId1"/>
          <a:srcRect l="0" t="2587" r="0" b="2587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439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0" lang="en-GB" sz="3200" spc="-1" strike="noStrike">
                <a:solidFill>
                  <a:srgbClr val="04617b"/>
                </a:solidFill>
                <a:latin typeface="Calibri"/>
              </a:rPr>
              <a:t>Rotating (Mx) loads giving useful torque of 80m diameter turbine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24" name="Content Placeholder 4" descr=""/>
          <p:cNvPicPr/>
          <p:nvPr/>
        </p:nvPicPr>
        <p:blipFill>
          <a:blip r:embed="rId1"/>
          <a:srcRect l="0" t="2587" r="0" b="2587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71600" y="461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4617b"/>
                </a:solidFill>
                <a:latin typeface="Calibri"/>
              </a:rPr>
              <a:t>Generator speed v. generator torque for 80m diameter wind  turbine. </a:t>
            </a:r>
            <a:br>
              <a:rPr sz="3200"/>
            </a:br>
            <a:r>
              <a:rPr b="0" lang="en-GB" sz="2000" spc="-1" strike="noStrike">
                <a:solidFill>
                  <a:srgbClr val="04617b"/>
                </a:solidFill>
                <a:latin typeface="Calibri"/>
              </a:rPr>
              <a:t>This characteristic is the basis of the variable speed control system.</a:t>
            </a:r>
            <a:r>
              <a:rPr b="0" lang="en-GB" sz="32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26" name="Content Placeholder 3" descr=""/>
          <p:cNvPicPr/>
          <p:nvPr/>
        </p:nvPicPr>
        <p:blipFill>
          <a:blip r:embed="rId1"/>
          <a:srcRect l="0" t="2587" r="0" b="2587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60360" y="679320"/>
            <a:ext cx="8229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4617b"/>
                </a:solidFill>
                <a:latin typeface="Calibri"/>
              </a:rPr>
              <a:t>Power curve of 80m diameter, variable speed, pitch regulated wind turbi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4" name="Rectangle 1"/>
          <p:cNvSpPr/>
          <p:nvPr/>
        </p:nvSpPr>
        <p:spPr>
          <a:xfrm>
            <a:off x="576360" y="2063880"/>
            <a:ext cx="78548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2" descr=""/>
          <p:cNvPicPr/>
          <p:nvPr/>
        </p:nvPicPr>
        <p:blipFill>
          <a:blip r:embed="rId1"/>
          <a:stretch/>
        </p:blipFill>
        <p:spPr>
          <a:xfrm>
            <a:off x="0" y="1463760"/>
            <a:ext cx="9144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711000"/>
            <a:ext cx="8229600" cy="618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Power curve of 55m diameter, stall regulated wind turbi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7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2" descr=""/>
          <p:cNvPicPr/>
          <p:nvPr/>
        </p:nvPicPr>
        <p:blipFill>
          <a:blip r:embed="rId1"/>
          <a:stretch/>
        </p:blipFill>
        <p:spPr>
          <a:xfrm>
            <a:off x="0" y="1714680"/>
            <a:ext cx="9144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98600" y="398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4617b"/>
                </a:solidFill>
                <a:latin typeface="Calibri"/>
              </a:rPr>
              <a:t>Pitch angle of 80m diameter, variable speed, pitch regulated wind turbi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10" name="Content Placeholder 3" descr=""/>
          <p:cNvPicPr/>
          <p:nvPr/>
        </p:nvPicPr>
        <p:blipFill>
          <a:blip r:embed="rId1"/>
          <a:srcRect l="0" t="2587" r="0" b="2587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12640" y="46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4617b"/>
                </a:solidFill>
                <a:latin typeface="Calibri"/>
              </a:rPr>
              <a:t>Pitch angle of 55m diameter, fixed speed, stall regulated wind turbine. </a:t>
            </a:r>
            <a:r>
              <a:rPr b="0" lang="en-GB" sz="1800" spc="-1" strike="noStrike">
                <a:solidFill>
                  <a:srgbClr val="04617b"/>
                </a:solidFill>
                <a:latin typeface="Calibri"/>
              </a:rPr>
              <a:t>Note pitch angle is fixed.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12" name="Content Placeholder 3" descr=""/>
          <p:cNvPicPr/>
          <p:nvPr/>
        </p:nvPicPr>
        <p:blipFill>
          <a:blip r:embed="rId1"/>
          <a:srcRect l="0" t="2587" r="0" b="2587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71600" y="398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4617b"/>
                </a:solidFill>
                <a:latin typeface="Calibri"/>
              </a:rPr>
              <a:t>Power and Thrust coefficients of 80m diameter variable speed, pitch regulated wind turbi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14" name="Content Placeholder 3" descr="C:\Users\scenj\Desktop\Power and thrust coefficients of 2 MW wind turbine.jpg"/>
          <p:cNvPicPr/>
          <p:nvPr/>
        </p:nvPicPr>
        <p:blipFill>
          <a:blip r:embed="rId1"/>
          <a:srcRect l="0" t="2578" r="0" b="2578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48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4617b"/>
                </a:solidFill>
                <a:latin typeface="Calibri"/>
              </a:rPr>
              <a:t>Power and Thrust coefficients of 55m diameter fixed speed, stall regulated wind turbi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16" name="Content Placeholder 3" descr=""/>
          <p:cNvPicPr/>
          <p:nvPr/>
        </p:nvPicPr>
        <p:blipFill>
          <a:blip r:embed="rId1"/>
          <a:srcRect l="0" t="5137" r="0" b="5137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85640" y="439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4617b"/>
                </a:solidFill>
                <a:latin typeface="Calibri"/>
              </a:rPr>
              <a:t>Power coefficient versus tip speed ratio of 80m diameter variable speed, wind turbi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18" name="Content Placeholder 3" descr=""/>
          <p:cNvPicPr/>
          <p:nvPr/>
        </p:nvPicPr>
        <p:blipFill>
          <a:blip r:embed="rId1"/>
          <a:srcRect l="0" t="2587" r="0" b="2587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28760" y="509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4617b"/>
                </a:solidFill>
                <a:latin typeface="Calibri"/>
              </a:rPr>
              <a:t>Power coefficient versus tip speed ratio of 55 m diameter, stall regulated, wind turbine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20" name="Content Placeholder 3" descr="C:\Users\scenj\Desktop\Power coefficient versus tip speed ratio of 1.3 MW turbine.jpg"/>
          <p:cNvPicPr/>
          <p:nvPr/>
        </p:nvPicPr>
        <p:blipFill>
          <a:blip r:embed="rId1"/>
          <a:srcRect l="0" t="2578" r="0" b="2578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14:54:58Z</dcterms:created>
  <dc:creator>John</dc:creator>
  <dc:description/>
  <dc:language>en-US</dc:language>
  <cp:lastModifiedBy>Nicholas  Jenkins</cp:lastModifiedBy>
  <dcterms:modified xsi:type="dcterms:W3CDTF">2016-05-28T09:40:43Z</dcterms:modified>
  <cp:revision>260</cp:revision>
  <dc:subject/>
  <dc:title>PhD Update Meeting</dc:title>
</cp:coreProperties>
</file>