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1E7B-F7BF-4B7D-A58A-70BE82204F8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C124-5D81-4D90-ABAF-7E28DD163AC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0D7-AA44-407C-9602-ADB0F9D2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EC8-AAA0-4766-B327-D8502776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22D6-5489-4500-AF0A-0B900A52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AC37B-1671-4235-8FFB-21408A6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24031-9997-4BDF-AD4A-9D8B77C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0C075-4665-415A-9E45-B6D2491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61041-3359-4970-9B0B-61138EF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D6CA-7DF2-4BB0-B41C-8A1A451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9F8F9-3EFC-4D60-B235-2C40A78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1724-360F-4714-8DF9-DA845D23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7CD0-8BF0-4D4A-B336-F2C9D8AE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1DEAC-A41A-4A99-9801-57C0A3A6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D3D-907C-4D6B-9B16-50A481A8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13F7A-65E1-44B8-AE4C-F58063F5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09223-A46D-4598-911A-A43D9F10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03681-38BA-4D06-B3FC-830FDCF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06456-40BF-4F67-B44D-ABEFEF6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78E16-B504-4956-89CF-DBFC209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E210-1349-4CA6-9E4C-EF29743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92E66-2D5F-4F7A-AD64-EAA3B89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8C69F-5083-4C33-AC5E-0E01425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89125-E6E8-47DE-A645-C68855DB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9D98-D139-4389-892E-34763B02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FCF-070D-4EB8-AF0E-ED938AAB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F4E82-1CA6-4A20-B2A4-EC386BC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5EB23-5E32-4B1C-8CFE-B139BC85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638A-81BA-476A-96AA-31CF73E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0E8B1-C37A-4F79-8E5C-D14756AE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9F244-F47B-47AB-AC59-AED869D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15AC6-7944-4C73-BA05-7F04957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8F653-2355-4EDA-9E1A-3F576367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C9BA6-A39A-41B1-A229-669677B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02DE8-BAD2-4F26-AA86-57F88F1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91AA2-D51B-4E14-862C-7349E30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7F9-ACC5-43DA-9364-08C411E0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23D79-0741-4CAE-9C92-EB16DC47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554F-C724-43E1-8893-01EBCDC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6DC9-D8C6-4E3A-9AD0-7ECEEE92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BBA47-0909-452D-A918-D1A775A9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F38A3-CD32-408D-8975-58D2E39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32C24-BE5E-4261-9F79-A7BF2EEF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BE9A6-D59F-45D7-8648-34FD2AF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9337A-C32A-4699-B1D9-D084A75B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61833-03F8-4691-ABE1-25F5D356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1971C-59D7-4F3A-8191-FA3F5713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256-8DDF-4F49-A3F8-F64E6F0D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BC2C8-D90B-4358-A823-EC09E07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96F95-E2B4-4F72-A309-76082E2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F75F5-EF79-4FA2-A730-AF9E2A06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98DBC-207C-45A1-B6BC-6461DC11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15DF5-6337-4B9C-8C2E-7F12E1B9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E1B2-E35C-410E-ACBC-BCB677BC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139-D7C4-492A-B62B-D999C796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CCFC-1A5C-4DCC-A576-0501D0A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037-9EA5-48EA-BE1A-CC162A02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1C26-50AE-4BC2-BAB1-5AD3FB2B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DE4-1208-43EE-BCA5-0F387D5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26E-3FD1-4E26-B5A7-30D9CA6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D82D-8257-4BB4-9502-2D12FE6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0ADA-7DFD-4ED2-AEB2-358DAC7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B39-3B53-4733-AA43-58E5814C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5EF1-496C-4A8C-ABE3-C2DE9F11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DA53-2583-4AD9-A796-DADC1232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90B5-32C5-4F37-B0A4-4D690B06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DAF4-BD24-4592-93E7-3EAB6BB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BEB8-0F6B-4E50-BCDF-6F135C66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D800-D3CE-46D2-AECC-AECBAF0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4F2-D495-420B-886F-E755C754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3718-AC5E-41E4-B1CB-11C51B0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4640-CF31-4377-9965-524833E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B513-D358-4E5C-A0B6-ADBA0E9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9164-FBD1-45B4-8B0D-2985C78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5EE5-DE59-474C-AC03-3DF870CF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DC13-38DE-4979-9CF2-D75D54E1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15C4-D18A-463F-9E8D-E1C3D68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D4C3-DE2A-4ABD-9D3F-6B123C1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942A-8DE8-41D7-9F83-A31F3437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AADB-3931-4961-81F4-2A143AB0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218-DEEA-4C63-A42C-F2CC26D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5028-0A7F-4BE2-AB72-F0AD8701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A233-E23B-4564-A161-34E6E993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96F7-F8D9-41CA-839D-C35EEF1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2BE8-5F01-4E56-98D6-9EC9048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C9EB-F9FD-47C7-BBD6-49F6E6AE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4FA1-BF84-47C3-BB14-B5E3E1B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A8DB-46AF-4D7F-8C77-31A6494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3C4C-53BF-4560-9FF4-3EEF5839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5152-EDFD-4A1A-B950-686B6B46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0727-DE64-4A82-9161-B7FCA440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0B9-1B7B-4A2F-A295-F9B6898F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4FF4-3614-4E45-B790-6BC78FC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E63D-059D-49F5-81E3-55C2D1FD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ED3A-F9BE-4389-9813-ECE640D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E6E5-AEAB-43B2-9033-068D236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26D3-F324-4C0E-9764-47245E67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E3BD-16EC-4F96-8118-7C0E4A4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22FB-69ED-4F4E-BD1B-6AA2663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E1BD-62B4-44EE-9F92-C9AFD192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9373-1999-4DA8-A85B-844A5CC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E90C-D7D8-4698-8D9E-B67D27DE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B97-0EDA-49B7-8B7C-3762A2A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4D1F-3936-4972-8782-6173D115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C320-9788-48A1-8D26-0478D8BF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C51C-4FBC-4795-954C-16EDC88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6BDB-BFDE-4099-84B0-E799A0E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846E-F8AF-4F7D-8185-AD2BDA1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2BAC-7422-4B11-AAEA-5033C458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7AC0-5E88-400B-802C-EEC1BC4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DCFC-C8F6-4385-8E05-092B67A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EB986-77FC-41DC-9EE5-82F6BE31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76AD-E7E0-40A2-A9AE-0D4A93C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EC3-82A2-4540-8AF1-D3F65005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23D5-7E9A-404B-AD5F-8FEC76AD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A35E-3471-429D-9B42-8F89A73B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A265-13D9-4A5D-B440-4C56AC0F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A720-7871-4F09-A866-2F8BFC30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B433-42D8-42E8-A776-172D719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EDCC-05CC-4EBE-802B-87845F9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DD0B-3F22-463C-A458-27A6F635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2C4DD-5957-4652-98DB-A63AD97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7D4E-5E47-4275-B8CF-A7093681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7968-43EE-4638-AAA2-FFA18E7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03F-85F9-46D2-960B-822257D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F2E30-6548-460B-8FA5-64829FB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90D8-A312-4AC3-BD3A-A5AF988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13D7-F309-4D01-8197-E6768A3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612F-46F7-43C5-8E6D-45C75874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D4763-CEED-49D3-B747-70F71263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F8AA-6411-4A52-A32B-B9CCC23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C4077-A0D4-44F3-905B-A45CD904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BA19-7405-4570-8C47-8F6206DF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B4D7-A1EB-404D-A4B6-D18A88E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D96A-0BDD-4F72-B2BB-0AE9692D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6AC-F13F-48BB-B999-FF08A7D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75B7-8DC4-440A-91F3-D7F681EB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A9D6-E314-4750-9D04-9AC29CC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578E-4512-4710-A28B-C7B171C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62CA-387D-4D38-8E61-AD8D291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0426E-5AD6-45E6-8419-5984468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624B-91F8-4372-B9D5-EB248115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05BBB-CC1B-4778-A7D4-D7A25EE9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28C5F-A2A5-4F02-87B2-61543B61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84F07-0C8F-4199-B80C-F0D103C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AA1A4-F7BA-4B84-A468-8DFC944F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F66-04D9-44E5-9468-0A4DBEA5C3FC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8AB5-68AB-4D6E-B4C6-400DEED964BF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C22-487A-42E3-BF2A-5A584A0ABB4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77A-96D9-40EF-B89D-4A72CA6208E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E99-CA60-4BDE-8901-56F97B279EFD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439-3F27-46DC-8E89-DC8BBD2A593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7F7A-D74E-4C2F-A516-9AA5A769AD7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0BD-FFFE-4A83-85C7-82E7CB5A32D5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683-CB82-4ED5-A9A5-FFDD289B9AC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15FB-FF87-4B14-A36E-DE649451713E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0E5-6F83-4B62-9655-19BEE78327A2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148-62B4-4189-8313-1295A3E471FA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352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Solutions prepared by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ahiru Thedaviku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Cardiff PhD stud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463680" y="1612800"/>
            <a:ext cx="83754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606600" y="746280"/>
            <a:ext cx="723564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195120" y="1096920"/>
            <a:ext cx="8780760" cy="5209560"/>
            <a:chOff x="195120" y="1096920"/>
            <a:chExt cx="8780760" cy="5209560"/>
          </a:xfrm>
        </p:grpSpPr>
        <p:pic>
          <p:nvPicPr>
            <p:cNvPr id="607" name="Picture 3" descr=""/>
            <p:cNvPicPr/>
            <p:nvPr/>
          </p:nvPicPr>
          <p:blipFill>
            <a:blip r:embed="rId1"/>
            <a:srcRect l="8588" t="0" r="8229" b="0"/>
            <a:stretch/>
          </p:blipFill>
          <p:spPr>
            <a:xfrm>
              <a:off x="195120" y="1096920"/>
              <a:ext cx="8780760" cy="51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4"/>
            <p:cNvSpPr/>
            <p:nvPr/>
          </p:nvSpPr>
          <p:spPr>
            <a:xfrm>
              <a:off x="195120" y="6138720"/>
              <a:ext cx="87807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44546a"/>
                  </a:solidFill>
                  <a:latin typeface="Calibri"/>
                  <a:ea typeface="Calibri"/>
                </a:rPr>
                <a:t>Figure 1 - Annual Energy Plot for 2MW Turb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181080" y="1090440"/>
            <a:ext cx="8891640" cy="5169240"/>
            <a:chOff x="181080" y="1090440"/>
            <a:chExt cx="8891640" cy="5169240"/>
          </a:xfrm>
        </p:grpSpPr>
        <p:pic>
          <p:nvPicPr>
            <p:cNvPr id="610" name="Picture 3" descr=""/>
            <p:cNvPicPr/>
            <p:nvPr/>
          </p:nvPicPr>
          <p:blipFill>
            <a:blip r:embed="rId1"/>
            <a:srcRect l="8945" t="0" r="7872" b="3252"/>
            <a:stretch/>
          </p:blipFill>
          <p:spPr>
            <a:xfrm>
              <a:off x="181080" y="1090440"/>
              <a:ext cx="8891640" cy="50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6"/>
            <p:cNvSpPr/>
            <p:nvPr/>
          </p:nvSpPr>
          <p:spPr>
            <a:xfrm>
              <a:off x="181080" y="6091920"/>
              <a:ext cx="88916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44546a"/>
                  </a:solidFill>
                  <a:latin typeface="Calibri"/>
                  <a:ea typeface="Calibri"/>
                </a:rPr>
                <a:t>Figure 2 - Annual Energy Plot for 1.3 MW Turb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41400" y="1096920"/>
            <a:ext cx="8967600" cy="5191200"/>
            <a:chOff x="41400" y="1096920"/>
            <a:chExt cx="8967600" cy="5191200"/>
          </a:xfrm>
        </p:grpSpPr>
        <p:pic>
          <p:nvPicPr>
            <p:cNvPr id="613" name="Picture 3" descr=""/>
            <p:cNvPicPr/>
            <p:nvPr/>
          </p:nvPicPr>
          <p:blipFill>
            <a:blip r:embed="rId1"/>
            <a:srcRect l="8588" t="0" r="6972" b="0"/>
            <a:stretch/>
          </p:blipFill>
          <p:spPr>
            <a:xfrm>
              <a:off x="41400" y="1096920"/>
              <a:ext cx="896760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8"/>
            <p:cNvSpPr/>
            <p:nvPr/>
          </p:nvSpPr>
          <p:spPr>
            <a:xfrm>
              <a:off x="41400" y="6120360"/>
              <a:ext cx="89676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44546a"/>
                  </a:solidFill>
                  <a:latin typeface="Calibri"/>
                  <a:ea typeface="Calibri"/>
                </a:rPr>
                <a:t>Figure 3 - Annual Energy Plot for 600kW Turb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54:58Z</dcterms:created>
  <dc:creator>John</dc:creator>
  <dc:description/>
  <dc:language>en-US</dc:language>
  <cp:lastModifiedBy>LahiruTJ</cp:lastModifiedBy>
  <dcterms:modified xsi:type="dcterms:W3CDTF">2016-07-11T08:58:17Z</dcterms:modified>
  <cp:revision>253</cp:revision>
  <dc:subject/>
  <dc:title>PhD Update Meeting</dc:title>
</cp:coreProperties>
</file>