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2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7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1.jpeg" ContentType="image/jpe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8"/>
          </p:nvPr>
        </p:nvSpPr>
        <p:spPr>
          <a:xfrm>
            <a:off x="0" y="942192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9"/>
          </p:nvPr>
        </p:nvSpPr>
        <p:spPr>
          <a:xfrm>
            <a:off x="3848040" y="942192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BB38-E2AE-4043-8A91-7C5F32E78F1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48040" y="94219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274F-1A64-4160-8C81-7BD8547C3634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48040" y="94219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D5D2-7426-44FE-A2E0-DAA796B0E346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1DFB-AF33-4FAE-AB50-2155F4B7F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7FF7-D56D-4613-AA32-CD699687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B22FD-180B-410E-B928-B970D200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D0CA4-1C37-4DDF-8577-0231BA35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1D6F5-291E-4B15-A7F7-ECBA6C50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7104A-E7B5-4BD8-B559-83BE0A83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D4EDE-52CC-4EAA-83C5-22AB1150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F367B-9FE7-48C5-AFF1-45B81952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5FC30-D67C-4114-BE32-5B0FE8DC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D6195-0197-4274-AF7C-DFA436E3B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DD4CA7-1675-442E-832E-CC4DF6133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55E370-E903-494E-9CA9-0A0392A59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2121-851D-46D3-8FEA-535AAB06C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FE6D8-2898-4559-A2EC-E210AB83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768B43-326B-4559-BCE2-8BD1AAC7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27749-02D9-4111-9B1F-5B5BA6A3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1B329C-ACB4-4600-B144-85D17F7D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53021-486B-47A3-9C6D-0442A592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A742A2-8202-4CC1-8CBF-06F1B857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14CD10-3D56-40AC-961D-0BEB2A4D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62E76E-2888-4FDA-8836-176878BD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0BC264-4CA5-4B13-8E4A-309ACAE4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09D71E-214B-4907-AEDD-B8365F41A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5E3C-FBCD-42FD-9B1F-C1AA1D6AD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307094-3417-4295-B77A-0B07E3FA5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DBAEF-A94A-4928-91E2-DC9E525D1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F02C9-7E0F-4896-99A2-B862CECA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3B10A-3ACA-4B3A-92A1-C9BCF5E0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25C63-DC66-4E3F-BA2E-19B246F8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961D0-F293-41E2-B869-8C674CC1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F9BAE-3FA4-4921-B4FF-CDE69916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798BF-9DFC-4ACA-9BB9-3754C39D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72F64-F098-4267-B582-A98E4B32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AFC63-4E62-462E-B3CB-617D0F4B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F3D9-3121-40A6-9CDC-925170F9B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1B086-70B2-4CCC-95E7-25FC1345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2267F-2FFF-4786-9BD2-8BB1FC24A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0A6E5-3442-450D-A115-E83E7F67E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81B489-4102-4D83-A3B8-49A94650B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534E6F-C31F-4602-BF18-441B867B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F1E235-667F-4806-96FB-A021AE8E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2A330A-2622-472C-9F41-7E7532AB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719ABB-56E6-4ED8-8DE9-77157667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8E744D-229D-4CC7-84D0-6F536D01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145E38-ED8C-46F0-8241-8561A02D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632E-8160-406C-9C81-3E2F7D4D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5D84C-2FCB-4550-BAFD-202CAD95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6CC691-CEA3-4A78-99C2-80C907F8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F11846-9DBD-4AF3-A8BD-6E6A7069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D72AEB-AD3D-439C-9E8A-F7D51B536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35FDA8-F6EB-4E7D-BA9B-8E00983F6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499E-4036-47D2-8FD0-A5612E69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8C12-B5DD-4675-A605-D575BDA6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19C8-419B-40F1-979A-3CF2D49E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80D3-96C3-486D-B0A6-B51764ED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4372-2A90-4A37-A096-2FF92E32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A5E0-6289-483E-B09A-B08CAE22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65B9-D899-43A7-ACC5-EDCCF563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9374-E4B9-4844-9244-4AB0EE91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4FF1-B62E-4060-9655-2DE3A8C0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D888-CCAE-4C2B-B1BE-E4F610248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630C-C2F2-494B-9E47-988A91728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3CFCE-7331-4187-8C39-1E41E1B4C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1CC26-72C1-426A-888E-F796DAA8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ECF06-0166-40E0-B7A5-C971D9D3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9593E-90B1-4294-90E8-05858FD0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46CBC-8235-44E6-BB89-183AA209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47DE-D8E2-41EE-B046-EDAC159F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15053-89EE-425A-A67E-88E664BF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18D7E-F7EB-409C-A3CA-DCC0E6EE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D8235-1E9C-4289-9962-8091BE31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B5204-DAE6-4C77-8C1B-B2160CCD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47EE7-53F7-4DD9-AF5B-40344852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A89A5-D794-4317-BAF9-7D3AE4BF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15649-68A6-4FC3-81E9-64AA144F3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ABE40-2EB9-4B7A-BA0A-E63BEF476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4A8CF-DB62-4C99-BE1E-E19448F7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04A24-0953-4E8F-9127-9E28055F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4D9B-2C94-4B99-92A6-87E46BB0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49A35-FC34-4CBB-A955-95D1B313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28D5E-DA42-4211-B380-DF484132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CCC56-B47B-4500-BA34-3E8A3152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E45C0-AEDE-4760-A230-271D6C2A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F5CC3-ED81-4FD9-83C6-385AE724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2ACB9-1276-4B54-8778-D2D8B3A0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A1951-5745-4CB8-A7CD-4FB70267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C9E50-DFC1-4BA2-92DE-E3F53A6CD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97541-CE34-4F14-B87B-FE61597EB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5AAB5-0946-4EEC-BE1A-E7FE08041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E31E-B16A-4D78-977E-9A4E85BC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75ABA-9C2C-49B9-803B-91EE4AAB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A836E-F1DD-4BB3-AA48-ABF41442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1F6E4-61CA-487E-97F9-08D80570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B8A40-C71E-417E-84CE-6ADBADC2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C6160-3A70-40E8-9F54-7BCE0028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56D7A-7E62-485B-8A92-830E1796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1438C-E666-4DA4-9040-C75954EE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B6277-9D07-4364-B252-76B38AEF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5F829-D24A-4C0A-A9C1-00E87286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F7785-1D2E-44FB-807F-837C14D4E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B575-E3FE-4DC6-8167-68FE19D3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EA319-5718-4933-8C4F-39D6125B1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FC9BB-FE3A-45C0-825C-986F87DD1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7C06A-7DEF-40FF-A877-CDAF82FA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ADCD3-6CD2-431A-9133-D565A68B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03EC5-F1E2-4E72-9F54-ABB612ED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B9450-35F0-45CB-9676-85399402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5117A-B683-409C-A78A-334FEF66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5F913-BE0F-4E4F-B07B-0BA9DF52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9EED9-8C85-4C55-BB31-745D8DED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2710C-4C80-438F-A2E0-7A9819F4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4A77-AE79-4C8A-837B-6E2CFA80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D0960-F9F5-4327-8129-CF7DFC8B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16928-A211-4C6C-905E-E7C8E7600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C141F-4ED1-4A62-973E-C9F250128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1C5D3-B9DE-417E-9782-384C0DAF4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477F2-C845-4E71-AB88-0939E012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8DA18-FCCD-4A96-81B7-31C922F5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EDF28-D022-4D01-BA6A-E6DFC12D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75028-67D1-4886-8BF1-E3BA3485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BA265-0088-4541-B00D-5B407284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876D8-69E9-4A83-AF18-0F4A8D24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3C38-A046-4852-9450-0E6F9A0B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63D93-A0CB-4A51-A53D-4DC5F974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3DD88-C12E-4DF3-B9E7-5AE6DA5C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3812E-850C-409F-B556-E99A9718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C35C1-D724-47A2-8B3E-7D7A438B6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8335E-AD89-48E3-9C83-3A4A39A28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F80D7-A201-4A1A-A586-29EE4B663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3F8CC-67FB-4E22-BCD2-D738E03E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13E7B-4D1D-42A1-BBDF-E42D88EB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A46ED-953C-4D7D-AA88-7CBA4AB1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9AEBD-3902-4AAE-ADB4-3FEB9E49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FDFA-7ACD-4B3D-A1CA-D327AEA9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27589-3FAE-4190-BE50-FB16C955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960D9-CEBA-4A05-AF04-1DB5BCC1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52AB9-C3C5-4E2B-9F97-DD3E7437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90EA7-1846-43ED-8AC7-E4FD0367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E3FC2-7EBA-406F-8711-9A5A430E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23FAB-92F7-4B0B-A1F4-2C95019F0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40ED5-1EA6-4936-95F6-309B3ED19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A56D1-ED09-407E-90D8-4AF7018D3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3D853-6EF7-477E-9EEF-E68CB5E8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EE510F-CDBB-4EE1-A637-EEF23AB2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41AD-78E3-4EA7-9613-C8DEF0E8A606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9A79-9CDB-4514-A36F-F11EC8A0C31A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296F-3B4E-43A0-8F95-69C9F9534C87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1974-7ACA-4FE2-BEB0-CBEAF816B9A3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97AE-1AF3-45C3-BB15-6D55608EB186}" type="slidenum"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D9DA-9583-4996-9BD4-97EC2689E2E7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0B5D-31F9-4688-9532-551CEEA738FC}" type="slidenum"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17AC-05CD-4EAC-B64F-FE808A451E20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13CD-84D9-431F-9CEF-B2150D75E5EA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0CAA-ACB2-43D9-9279-3E943B0A70E3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6E0B-4D1E-4FF1-B08C-BF9194E5351B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8B72-B7EA-4F2E-8B49-48CF56808AF5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Title 1" descr=""/>
          <p:cNvPicPr/>
          <p:nvPr/>
        </p:nvPicPr>
        <p:blipFill>
          <a:blip r:embed="rId1"/>
          <a:stretch/>
        </p:blipFill>
        <p:spPr>
          <a:xfrm>
            <a:off x="530280" y="1371600"/>
            <a:ext cx="7858080" cy="197496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533160" y="3228840"/>
            <a:ext cx="7854840" cy="22161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alibri"/>
              </a:rPr>
              <a:t>Solutions prepared by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Lahiru Thedaviku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alibri"/>
              </a:rPr>
              <a:t>Cardiff PhD stude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1" descr=""/>
          <p:cNvPicPr/>
          <p:nvPr/>
        </p:nvPicPr>
        <p:blipFill>
          <a:blip r:embed="rId1"/>
          <a:srcRect l="2985" t="0" r="6677" b="0"/>
          <a:stretch/>
        </p:blipFill>
        <p:spPr>
          <a:xfrm>
            <a:off x="452520" y="326880"/>
            <a:ext cx="8126280" cy="611208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6"/>
          <p:cNvSpPr/>
          <p:nvPr/>
        </p:nvSpPr>
        <p:spPr>
          <a:xfrm>
            <a:off x="1662120" y="6438960"/>
            <a:ext cx="57056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4546a"/>
                </a:solidFill>
                <a:latin typeface="Calibri"/>
                <a:ea typeface="Calibri"/>
              </a:rPr>
              <a:t>Figure 2 – PDF plot with Weibull Estimation for 50m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1"/>
          <p:cNvGrpSpPr/>
          <p:nvPr/>
        </p:nvGrpSpPr>
        <p:grpSpPr>
          <a:xfrm>
            <a:off x="914400" y="90360"/>
            <a:ext cx="7659720" cy="6436800"/>
            <a:chOff x="914400" y="90360"/>
            <a:chExt cx="7659720" cy="6436800"/>
          </a:xfrm>
        </p:grpSpPr>
        <p:pic>
          <p:nvPicPr>
            <p:cNvPr id="620" name="Picture 2" descr=""/>
            <p:cNvPicPr/>
            <p:nvPr/>
          </p:nvPicPr>
          <p:blipFill>
            <a:blip r:embed="rId1"/>
            <a:srcRect l="3989" t="0" r="5716" b="0"/>
            <a:stretch/>
          </p:blipFill>
          <p:spPr>
            <a:xfrm>
              <a:off x="914400" y="90360"/>
              <a:ext cx="7418520" cy="61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Text Box 8"/>
            <p:cNvSpPr/>
            <p:nvPr/>
          </p:nvSpPr>
          <p:spPr>
            <a:xfrm>
              <a:off x="1155600" y="6252480"/>
              <a:ext cx="741852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4546a"/>
                  </a:solidFill>
                  <a:latin typeface="Calibri"/>
                  <a:ea typeface="Calibri"/>
                </a:rPr>
                <a:t>Figure 3 - CDF plot with Weibull Estimation for 50m 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4617b"/>
                </a:solidFill>
                <a:uFillTx/>
                <a:latin typeface="Calibri"/>
              </a:rPr>
              <a:t>Exercise 2.2a Wind Shear</a:t>
            </a:r>
            <a:br>
              <a:rPr sz="2400"/>
            </a:b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Estimate the wind shear and compare the data with the 1/7th power law. Estimate best power law coefficient to fit the dat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05" name="Content Placeholder 2" descr=""/>
          <p:cNvPicPr/>
          <p:nvPr/>
        </p:nvPicPr>
        <p:blipFill>
          <a:blip r:embed="rId1"/>
          <a:stretch/>
        </p:blipFill>
        <p:spPr>
          <a:xfrm>
            <a:off x="457200" y="1809720"/>
            <a:ext cx="8229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TextBox 1" descr=""/>
          <p:cNvPicPr/>
          <p:nvPr/>
        </p:nvPicPr>
        <p:blipFill>
          <a:blip r:embed="rId1"/>
          <a:stretch/>
        </p:blipFill>
        <p:spPr>
          <a:xfrm>
            <a:off x="669960" y="1378080"/>
            <a:ext cx="740736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Rectangle 1" descr=""/>
          <p:cNvPicPr/>
          <p:nvPr/>
        </p:nvPicPr>
        <p:blipFill>
          <a:blip r:embed="rId1"/>
          <a:stretch/>
        </p:blipFill>
        <p:spPr>
          <a:xfrm>
            <a:off x="189000" y="347760"/>
            <a:ext cx="882180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1" descr=""/>
          <p:cNvPicPr/>
          <p:nvPr/>
        </p:nvPicPr>
        <p:blipFill>
          <a:blip r:embed="rId1"/>
          <a:stretch/>
        </p:blipFill>
        <p:spPr>
          <a:xfrm>
            <a:off x="0" y="901800"/>
            <a:ext cx="914400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51732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4617b"/>
                </a:solidFill>
                <a:uFillTx/>
                <a:latin typeface="Calibri"/>
              </a:rPr>
              <a:t>Ex.2.2b Weibull parameters</a:t>
            </a:r>
            <a:br>
              <a:rPr sz="2400"/>
            </a:b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Estimate the Weibull Parameters of the wind speed data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10" name="Content Placeholder 2" descr=""/>
          <p:cNvPicPr/>
          <p:nvPr/>
        </p:nvPicPr>
        <p:blipFill>
          <a:blip r:embed="rId1"/>
          <a:stretch/>
        </p:blipFill>
        <p:spPr>
          <a:xfrm>
            <a:off x="457200" y="1932120"/>
            <a:ext cx="822960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Rectangle 1" descr=""/>
          <p:cNvPicPr/>
          <p:nvPr/>
        </p:nvPicPr>
        <p:blipFill>
          <a:blip r:embed="rId1"/>
          <a:stretch/>
        </p:blipFill>
        <p:spPr>
          <a:xfrm>
            <a:off x="237960" y="811080"/>
            <a:ext cx="8704440" cy="55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"/>
          <p:cNvGrpSpPr/>
          <p:nvPr/>
        </p:nvGrpSpPr>
        <p:grpSpPr>
          <a:xfrm>
            <a:off x="828720" y="276120"/>
            <a:ext cx="7210440" cy="6319440"/>
            <a:chOff x="828720" y="276120"/>
            <a:chExt cx="7210440" cy="6319440"/>
          </a:xfrm>
        </p:grpSpPr>
        <p:pic>
          <p:nvPicPr>
            <p:cNvPr id="613" name="Picture 5" descr=""/>
            <p:cNvPicPr/>
            <p:nvPr/>
          </p:nvPicPr>
          <p:blipFill>
            <a:blip r:embed="rId1"/>
            <a:srcRect l="4583" t="0" r="6911" b="0"/>
            <a:stretch/>
          </p:blipFill>
          <p:spPr>
            <a:xfrm>
              <a:off x="828720" y="276120"/>
              <a:ext cx="7210440" cy="611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Text Box 1"/>
            <p:cNvSpPr/>
            <p:nvPr/>
          </p:nvSpPr>
          <p:spPr>
            <a:xfrm>
              <a:off x="828720" y="6320880"/>
              <a:ext cx="721044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4546a"/>
                  </a:solidFill>
                  <a:latin typeface="Calibri"/>
                  <a:ea typeface="Calibri"/>
                </a:rPr>
                <a:t>Figure 1 - Graphical Determination of Weibull Parameters for 50m 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Rectangle 3" descr=""/>
          <p:cNvPicPr/>
          <p:nvPr/>
        </p:nvPicPr>
        <p:blipFill>
          <a:blip r:embed="rId1"/>
          <a:stretch/>
        </p:blipFill>
        <p:spPr>
          <a:xfrm>
            <a:off x="249120" y="858960"/>
            <a:ext cx="7364520" cy="2590560"/>
          </a:xfrm>
          <a:prstGeom prst="rect">
            <a:avLst/>
          </a:prstGeom>
          <a:ln w="0">
            <a:noFill/>
          </a:ln>
        </p:spPr>
      </p:pic>
      <p:pic>
        <p:nvPicPr>
          <p:cNvPr id="616" name="Rectangle 4" descr=""/>
          <p:cNvPicPr/>
          <p:nvPr/>
        </p:nvPicPr>
        <p:blipFill>
          <a:blip r:embed="rId2"/>
          <a:stretch/>
        </p:blipFill>
        <p:spPr>
          <a:xfrm>
            <a:off x="249120" y="3200400"/>
            <a:ext cx="832824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14:54:58Z</dcterms:created>
  <dc:creator>John</dc:creator>
  <dc:description/>
  <dc:language>en-US</dc:language>
  <cp:lastModifiedBy>Nicholas  Jenkins</cp:lastModifiedBy>
  <dcterms:modified xsi:type="dcterms:W3CDTF">2016-08-06T15:19:38Z</dcterms:modified>
  <cp:revision>269</cp:revision>
  <dc:subject/>
  <dc:title>PhD Update Meeting</dc:title>
</cp:coreProperties>
</file>