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CEA4-43EB-4FBA-813B-76C1AD7A7E7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31EA-9A50-460D-ACAD-BA33EC3398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2602-C5F7-48E5-99B3-FAE72FCC6D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93A-6CAE-4FF9-8EF8-50A567B1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7C0-E1C2-4DE2-9DD7-35C1CE4E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43E9A-1E5D-467E-B89D-633A0258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413E3-3265-41B8-AC42-7AA39920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50AC4-8E41-43E0-83D5-D8B9A586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EF213-1A33-4FD9-B5E2-EACFB129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2EA4D-DAB5-4213-8AE6-3C2DD112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9F550-A871-40B4-A444-546A4E6A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9AE25-0CB0-4369-8854-F2CB6A72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710AF-4B67-4BE6-B143-053E120C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A9672-4445-4285-AB24-BBD1E2B0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DDE5F-E624-4B60-A234-D29F149A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D98-7DF7-4A8A-804A-8989E77E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07431-70C5-4990-8359-A8BDC1EE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9F88F-8673-470A-B9B0-61E25341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44934-4E44-4CA8-BA8D-41307885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C9071-92DA-4C62-98D6-0E8D3BE5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97E2C-025D-43AC-A9C9-748B959C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81131-EC36-4B17-AEDA-BA93FE12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017D3-6D66-4284-98D7-B8B7A6D9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31067-0EDD-43A0-A35C-BE405F9C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F5810-71E9-49C7-8D79-9AF97EF2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AC208-3196-4B04-81B3-CE58C528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717-5722-4C9A-B520-97B3B4B9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59ABC-A0A8-47ED-8E22-A6E4AAD7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1D926-20DE-48CA-A451-76A93456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D72D9-E9FF-482C-B745-4DE962F6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0A888-F433-4105-A868-5674111C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D8613-B680-42AE-A037-EEE0E2FB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D14B9-49D1-47FC-8B1C-83E35922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82806-8807-44E3-96CD-B24EC7B5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104B3-6C27-424E-BC05-11769FB6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D2A70-C5F3-4A66-9463-2EDCA189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3E416-01F9-42BA-AE91-433226A9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6F5B-8115-4E04-9A90-380C023C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46456-C299-4AF7-AC71-6FF51F6F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49FDE-5D70-4984-83AE-2BFD2CA2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1AE90-3659-486A-A68D-233A1457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C4FFA-4CD8-4FAE-B554-4DC6138D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20981-417D-427D-894E-CF859C3D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0E2E0-A61E-4BD9-9BD3-3CCF3A5C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5F2B1-F301-4545-8E66-C40E65DF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99F08-F74E-407A-83EB-FEA302C8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BA12D-C843-4662-A6D0-D36872A6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C596A-298C-41FB-B1E9-80CDA973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5067-A6A5-42B7-8639-C6269DD5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1DD94-3C48-4BB1-B210-B376839D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FE085-1221-49F1-A0B7-E5F0DBF7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2A83A-E53D-40C8-A448-6DACEB59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F866D-009E-48E8-86EB-058F0715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91326-E873-4B2B-BCCD-5D8D25BA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1E6E-9570-4E1B-977D-EE5DED8B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B381-26A5-46FF-804E-3E321F86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8F18-7799-434B-B18A-9AF9274E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EF8-D006-4696-81EB-C4354BE2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67D0-4D90-42AF-ADD2-E157C519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3C2-28F5-47ED-94E9-5F35FFF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91BD-D2F7-41E7-82CA-4640500E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4ABB-6BE3-4F54-9C51-15E800EF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3D9E-7C9A-4225-90DB-BFBC2F15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8B06-2233-4A2E-8522-D6C300FF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F453-28A2-4EE2-A247-89B9B223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E3B1-4B14-4735-86B7-4D36FCF4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279E-44EE-49B0-BA5E-357B4F5C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D958-76E3-498B-811C-31F6972B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CA3F-93F7-45C7-BCA6-555C66F4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260F-F995-433F-9D11-958CC389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E9D-61DA-4048-A26C-9B2A034D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4349-0372-425E-BA58-9147B78F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3078-13AF-4D29-83E4-7C038D38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0943-7426-4265-9025-B6E3741C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3AA5-946F-4C4F-BBC3-8647FC94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C9D4-E8B5-4231-B8D1-1423F0E0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F4CB1-C2DE-440C-A819-26AB43DC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59484-A2E3-4C2A-A3F1-5630211F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8B137-3F44-4895-8209-C2A8F3E0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F5FAA-7D19-4310-A11D-7217CE90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07007-A645-4F0A-B0D4-68AD59A6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203-B547-452B-9745-AB15F96A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6F5DC-D30F-4273-BBC0-00A57C8C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1F6E-B8F0-4543-8224-C475CBA2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EE662-1F42-421F-A740-9A02CC9A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46EBC-943A-4985-876F-CD30528C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99B1B-3B5F-4258-BA78-E2216542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89FCB-2D36-4BA6-AD5D-947ABF98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16D56-A12D-4797-A444-5049202D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9540-845D-4F98-9FFE-B949EEC0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6034-ABBA-4876-BB12-2D82BC47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D4B56-80C6-480C-94FD-EBF0FB35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C2E-BAF2-426C-B03E-2B32CBF1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5011A-0057-474F-B992-687BAAC5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337EF-2C18-46BB-B561-B4838D21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CC1FB-953D-4733-B4CF-24BC2D80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65821-DEA0-4B33-B6B2-FB2A8CF7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BD73-5117-400F-80A3-F8E8649C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65550-4227-4751-834F-032E28D1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BA3D2-94C0-4520-AC69-6CFB3E10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ED50B-058F-4F98-9193-E0464FEF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879DE-4C18-4EF6-A69F-13DEEA96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2B74A-4E0A-4355-B6C9-9D4A7646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1CF-7A0B-4F07-821B-5F85D425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E540-0FF3-4808-B18A-5B22B3F3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3C6E7-0E10-47F4-B313-09714495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71682-35FD-484F-B1F6-230B8806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C7426-A5AB-44A0-9C6F-D75C8040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2CBB5-CE64-46EF-932B-776D35CD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2315C-698F-4680-83C7-F4077EFD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A8DC6-64C4-4725-A5A2-39DB1F88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89BB3-8B58-45E7-8D74-6F9F4F09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1041-5333-44A7-A38B-D778FF1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C0735-D253-40EC-B045-E0C83A92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106-7A63-40E8-B990-B53D794C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B1426-3951-4FCC-969A-5F972663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A2097-2522-4381-91F5-DE92A846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FEF05-30E8-4655-826F-557FF58B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1255F-11B4-4BAA-BCD6-80A9B04D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B4F33-6469-4639-A285-E9783E80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254DF-59B7-4731-BC5E-0404ECBE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8CC32-ACC4-49DB-B749-029C67A0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C5D4C-42B3-40B1-8118-B263B541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BE734-FCC7-4F78-9AC7-1389F753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97576-3131-4B4E-9EFE-ED8793A3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176-E291-4745-9A87-E3F506A7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51B2D-1C2E-43DE-8B0D-F4C5C7AE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2E04C-D3E0-46AC-9525-27EB9319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3009E-700E-4E5B-982D-94D44F54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C9C26-7B6D-4424-A866-618F4541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D3ECA-C610-443E-8E7F-3EF7F5F2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7E2A3-41F8-4362-9A06-CD3C213E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8206B-241F-4895-83B0-E66C329F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EE525-8063-43A5-98DC-F1FF7D12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0E1FE-B557-412B-A664-7722D207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FA238-7105-4CDF-A67C-EF7025CC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90F-648C-460A-A7A0-C92A5E2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CF044-2D0E-443C-A132-83B6EDB4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2D19D-1C26-46D6-8278-2A47004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49363-F5BB-4909-B170-E20D55C1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B61E6-B92D-4E9A-9846-89ABD591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92F65-8ACB-4ABC-AEC5-002EB7ED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A0EDC-507E-4790-AE4D-DE2FC40D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91EC4-D7DD-4CE7-8C80-8D7E22C2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2D7BC-86C7-43A6-9513-3694A21B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D4BB1-A28D-408C-B4ED-3F864151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14A8B-8195-4657-8AD3-533B5217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5C56-DAA6-4B51-B523-287ACEC3B21D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BF83-A77C-4B11-B82D-F2E0572F205F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AAD1-1CE3-4E98-88FE-D361775FA177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530B-78BB-4FF9-B084-7E55FDC6F961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AE3-4E61-4D23-82FB-3673E39CE86C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86A2-0F5A-4682-A336-CACCFF255BBE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CF9E-C651-40EA-98CF-4C353626FE35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6FDE-D9E6-414C-B88C-6DF5A2897BA3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2F2F-8EF7-4E73-BD5D-8A6B37AAAC92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B4E8-0523-40D6-920D-78A89AA3D29B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806F-80E0-418C-9851-2039DDAFBBD8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F0D6-4D50-4EEA-B0EE-969793A83B72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858080" cy="197496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Solutions prepared by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Lahiru Thedaviku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Cardiff PhD stud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nemometer 1: 50m, NW cross arm</a:t>
            </a:r>
            <a:br>
              <a:rPr sz="4400"/>
            </a:b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(1 year of data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05" name="Content Placeholder 3" descr=""/>
          <p:cNvPicPr/>
          <p:nvPr/>
        </p:nvPicPr>
        <p:blipFill>
          <a:blip r:embed="rId1"/>
          <a:srcRect l="4228" t="0" r="4228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nemometer 2: 50m, SE cross arm</a:t>
            </a:r>
            <a:br>
              <a:rPr sz="4400"/>
            </a:b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(1 year of data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07" name="Content Placeholder 4" descr=""/>
          <p:cNvPicPr/>
          <p:nvPr/>
        </p:nvPicPr>
        <p:blipFill>
          <a:blip r:embed="rId1"/>
          <a:srcRect l="4228" t="0" r="4228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verage 50m</a:t>
            </a:r>
            <a:br>
              <a:rPr sz="4400"/>
            </a:b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(1 year of data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09" name="Content Placeholder 3" descr=""/>
          <p:cNvPicPr/>
          <p:nvPr/>
        </p:nvPicPr>
        <p:blipFill>
          <a:blip r:embed="rId1"/>
          <a:srcRect l="4228" t="0" r="4228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nemometer 3: 40m</a:t>
            </a:r>
            <a:br>
              <a:rPr sz="4400"/>
            </a:b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(1 year of data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1" name="Content Placeholder 3" descr=""/>
          <p:cNvPicPr/>
          <p:nvPr/>
        </p:nvPicPr>
        <p:blipFill>
          <a:blip r:embed="rId1"/>
          <a:srcRect l="4228" t="0" r="4228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nemometer 4: 15m</a:t>
            </a:r>
            <a:br>
              <a:rPr sz="4400"/>
            </a:b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(1 year of data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3" name="Content Placeholder 3" descr=""/>
          <p:cNvPicPr/>
          <p:nvPr/>
        </p:nvPicPr>
        <p:blipFill>
          <a:blip r:embed="rId1"/>
          <a:srcRect l="4228" t="0" r="4228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15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4617b"/>
                </a:solidFill>
                <a:uFillTx/>
                <a:latin typeface="Calibri"/>
              </a:rPr>
              <a:t>The Wind Rose (50m anemometers, 48 m wind direction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54:58Z</dcterms:created>
  <dc:creator>John</dc:creator>
  <dc:description/>
  <dc:language>en-US</dc:language>
  <cp:lastModifiedBy>Nicholas  Jenkins</cp:lastModifiedBy>
  <dcterms:modified xsi:type="dcterms:W3CDTF">2016-04-09T19:08:29Z</dcterms:modified>
  <cp:revision>245</cp:revision>
  <dc:subject/>
  <dc:title>PhD Update Meeting</dc:title>
</cp:coreProperties>
</file>