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908B-BC1E-40E7-A177-6457CF53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F1D-2CB8-4669-8EE9-B8CA7B4E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457DC-471D-4D6D-B69B-1C00EC52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9DA10-04EF-4AA6-8293-E2B3B53A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EA041-0377-4B59-B4F0-3C427274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B89D1-2E9C-46C3-B0CD-8002632F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8370B-35E0-40BD-8BA2-46B5099A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6ED92-D5C9-4405-A9FA-CF3042D2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0771F-9C1F-43F6-9086-D4E5B6A2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18B38-3DC5-49D4-8894-DB3CCFA8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829BB-931C-451A-AF7A-E91861F6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97E12-2F88-452F-805A-4EB3EB95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7DD-2138-49A9-838F-7A856206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1EEF3-8148-4A5E-9BB1-AB227A27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D2F7B-F942-4513-AF64-315EBF50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A057E-4C03-47E1-887E-81789372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7264A-6429-47AF-ACA0-A42C3B78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AFFE1-A6A0-4523-9AF0-416C965E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1878C-8DC8-4404-8C71-756DBA73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9C336-C0BE-4B24-8A3D-56FF6E1D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3A75D-2ABC-41C3-AAF7-C52CCDC6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B68F5-1E50-49E9-96E3-7FCE8F52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F8CD8-5B2D-4442-B326-5E4EC3DE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958A-7800-42D2-96B5-1350D65F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F861ED-A0A0-491D-93E5-D17A81EE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D379C-5327-49F9-95AD-C4384C62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50313-D1AA-4685-879A-F61DB9B1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D13A3-2090-4C70-A78D-2F0F6339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24F94-D78A-42E1-B1F1-8BFE9D14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8B699-A11F-499F-AD36-2CC20055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E374D-C9E8-4AE8-8EF5-28747F6A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73FA9-AE96-417D-A58F-67511B3F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BDE5C-D4A8-47B8-AC4F-804CB7D8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6F10B-4CB2-43EE-BED9-500BD503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9BC5-7288-4F76-92A2-315516D7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CA392-A57E-4DBB-89E4-378F55CF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E7111-CA59-4922-9C4D-F558E52D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D3D72-1D0E-4E68-890B-7517663C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C75CE-57F5-4FBE-A6F2-8FF1F62C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E34A84-98F4-4035-8E0C-961CA3A3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64DB5-24DF-4724-A2C8-4FB6374A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22A442-B5DD-414A-9E03-DA845D8F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FDD14-8C9F-4989-8DBF-C2D66C6F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0F9A1-AD9F-4CC3-B674-4CB74809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9A323-12DB-4FF2-8EC9-3A931ED8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F710-6B22-4F2D-BE7F-DD56474E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CEDE4-3A8F-48C4-AA61-C0BD9ACC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5DA6D-AFED-4EB0-9AF8-59FFD437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7E262-8139-448A-B6CB-417987FF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2C5A4-BD39-4528-8EA6-9E1A0085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515A2-D31F-4A44-B3E6-034B3F0A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B319-CCBE-4674-AAD3-309CFFD9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67A0-CD35-49BD-94A2-33236289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E61F-9D00-4387-AC2E-BA5E170A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DA5A-8E4C-4EEC-9F66-25BC7BA2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4A92-05E1-4D3A-9BC4-058B05AC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0AB-7830-4809-A42E-FC4675A8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51F5-336E-44AD-880F-91D34869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FB5F-FA4B-44AB-B825-45A9B2AF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D81D-178F-44DF-BB09-8F6B964D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7547-BBB5-453B-BC64-9A802A70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A724-E025-4718-98C3-A667C5E6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96EA-2C85-4D38-B2BC-12F712E6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250A-6D92-42FF-B054-A33A74C7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40976-B159-48D3-9EF7-DFF299A4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F975C-947B-4CEA-9654-E02B57D0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A61FF-CA9E-4960-B304-E75DC1FC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9D3-355C-48CD-933E-16EAC74A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62EF2-FD24-4D03-92DE-0463112F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5DADA-1907-4F1F-A9EF-88370AD8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06283-B908-4E04-9619-E7C34F20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6B72-594D-4099-9873-74DFE18F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AD6A8-EFBE-4E3D-ABB4-FB41165D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1E992-0242-4B39-9712-7CEF1D11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107C3-C12B-4F68-8588-ECC4C720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B329C-0D11-4E1E-8784-61C2B53C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44B07-E7A8-4F65-A2A2-4F803F2F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D16F7-4B43-4CEE-AE4E-00773769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0D4-BA5F-476A-9210-24AD513C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4C5E4-EA03-413A-A997-8B4CFEDB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3B60B-E195-4985-82A8-720F43D7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28EE8-E2C9-4164-AB1F-416AA314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9ADDA-5C58-4712-89D7-AB7AFE8A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0F976-187B-4118-B512-FBC6F61B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9FB5A-5B7C-4B69-94FB-7E8A5807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E82B0-8CA8-485C-8204-59961CFD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98C3F-8F52-449A-B463-9F11FDFF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02801-3C0A-4B6F-873F-9FA0CCD9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58650-B898-4DA0-8819-70D1FA79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1E5-A76E-49A2-95F6-BAA399F0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857AD-23D0-4E5E-BF11-39969D5E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85111-3F5D-4F5B-B239-3B2ED5A3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E85ED-579A-4B9D-A701-94495EAB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7DF7F-2AED-4DCD-B336-2E596C3C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92C50-882C-4E38-B720-99BC05B3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6816C-D8AA-4B23-9E57-21051D3C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93226-D81F-4E93-ADF1-CDA38DE5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1603A-E3F0-44B4-8C4E-AC17BF52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48BF7-2555-49CC-A122-273CD6C8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25FFC-593E-4B04-9968-2843ADDF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69D-0496-41BD-9E92-3572E323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9C95D-C271-4377-96E4-9904EB19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F33C9-7695-451D-88FA-51BE6BAF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D6CE1-B957-44A8-A20B-C1E17E41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10F85-0896-400F-B8E5-57E406E3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EE613-1888-4179-9D5A-5EA49232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A4973-519B-41BB-9B67-9F045F70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382B5-817E-463B-8752-855ACF75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35849-C89F-448C-85D8-6D27FC0B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436BF-EF43-403C-8174-BABE0AD2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B7E43-9140-4FF4-991B-D40D7113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701E-2112-4053-BE38-72D16595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71D27-3385-44C5-B686-F1E14F0A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F9238-D8D2-442F-99EB-EA59003D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2DAE3-8F66-4FE0-9146-9F439F78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F201C-F5A0-44FD-98B0-1C9C9FA5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DC8C9-BFC9-4120-990C-CC1A140E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695A4-33EA-4DA2-87A0-7F3653CB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EAA6D-7547-496E-9809-A968FB6F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BF358-9794-4D19-AF96-A68C4202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708EE-ECA7-43D5-A636-C5041A2E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250EC-F4BA-4312-84C6-B57738F0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A80-6EF8-4E3E-9072-CF7AB124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F7B70-BD75-4876-999D-D9010187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7DC2F-8259-4C28-A19E-7F786F8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67E50-94B3-4091-BA1A-56F744A5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FD4B2-69A3-4CFE-95D6-5D2F8938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B691B-73A4-45B6-BAC1-F81563A3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0FF71-35E0-4B95-85BA-A983BA4B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F88C9-994B-4FBB-8813-98618DF2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CD184-A619-4E60-BE49-B6097D62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0A00B-DE3C-4639-8241-11975DB5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B9B15-82D8-41FE-8BC1-7B520A65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6B5-AB78-4196-B71A-1FED16FB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BB26C-043A-4143-93A5-8289A47E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C86B7-4174-4C07-B771-419B87F2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95C60-6F30-4C46-9543-83667429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57E3C-690F-4694-B89A-1F2B8C9A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DFF58-0CFD-482B-8A0A-7AFD623E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97E58-423D-46D4-B12A-046C510A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541AA-C8A8-4C07-84BC-C75DB6EC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EF125-4261-4929-92B6-75CC80C7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ED139-434E-48E6-9364-4FB7BF8C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1905D-AFC5-405E-9F94-E4EB2B24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472C-4866-4246-A2BC-05B4795CA62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18FE-B6AB-4C2F-963A-46AA005F98A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9833-27F1-4139-8052-26E013B6B74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6045-6F6F-437E-918B-046F1C61B17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474F-2B8D-4901-9350-E0F172E9983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CE85-1356-4F81-8885-5ECB300061B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2A5F-5082-4654-8FF2-16BA3C376F7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6140-1729-41DD-96A0-995BD020539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2111-84B0-4E50-9DC0-A82A6BC86FE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3339-6717-4E43-83A4-ABA78C7283D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019C-423C-44D9-924A-B60416963CD4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DA2A-A37F-4F6A-A1F5-F382431FED6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: PHILIP PURPUR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SECURITY:  An Introduction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983960"/>
            <a:ext cx="85042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 Business of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rivatization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Professionalism and Security Association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International Foundation for Protection Officer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ASIS International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ecurity Industry Association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National Burglar &amp; Fire Alarm Association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Additional Associations and Certificatio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Ethic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905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egulation of the Security Industr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curity Train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Methodologies for Preparing Instructional Program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Instructional Strategie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Higher Education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 Benefits of College Education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Care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ROTECTING PEOPLE AND ASSETS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SECTION II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ECURITY METHODOLOG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4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Methodology Defined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curity Business Proposal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curity Master Plan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orie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ecurity-Relevant Criminology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Ecological Theories of Crim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Defensible Space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rime Prevention through Environmental Desig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Broken-Windows Theor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tuational Crime Preven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Rational-Choice Theory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Routine-Activity Theor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rime-Pattern Theory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isk-Analysis Methodolog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General Security Risk-Assessment Guidelin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Applying Security-Relevant Criminology to Risk Analyse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Quantitative versus Qualitative Methodologi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Metric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Practical Application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esearch and Evalu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ECURITY STRATEGI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5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5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Generic and Specific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Generic Securi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Objectives of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curity Layers and Redundanc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curity Level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curity Maxim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Force Multipli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Violence in the Workplac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heories of Violence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trategies to Counter Violence in the Workplace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5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ft in the Workplac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ories of Thef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trategies to Counter Theft in the Workplac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Drugs in the Workplac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Drug-Free Workplace Strategie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ERSONNEL SECURITY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6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HE HISTORY AND PROFESSION OF SECUR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SECTION 1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6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 Insider Threa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ypologies of Insider Threat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sychology of the Inside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 Challenges of Confronting Insider Threat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Research Need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trategies to Counter the Insider Threat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Preemployment Screening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Why is Preemployment Screening Important?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Legal Guidelines for Preemployment Screen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reemployment Screening Method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6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otivating Personnel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ories of Motivation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ountering Complacency and Promoting Reliability and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Excellence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Executive and Personnel Prote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trategies of Executive and Personnel Protection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 Web and Identity Thef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HYSICAL SECUR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7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7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Physical Security Defined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esearch Directions for Physical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Challenges of Physical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Challenges of Vulnerability Assessment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curity Standard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Information Technology and Physical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Physical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erimeter Barrier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Blast Prot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Electronic Security System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7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Electronic Entry-Control System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Lock and Key System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Door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Window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Light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losed-Circuit Television System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ecurity Operations Cente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NFORMATION AND INFORMATION TECHNOLOGY SECURITY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8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8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Information as an Asse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Laws Protecting Proprietary Inform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reats to Information Technology and Dat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Malwar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Botnet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 Variety of Threat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teganograph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Voice over Internet Protocol and Cellular Phone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yber Warfar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Information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8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Standards and Guidelin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Polici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Classification Syste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Destruction of Proprietary Inform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Tangible Asset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Strategies of Information Securit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Technical Control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Communications Secur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Competitive Intelligence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ECURITY LAW AND LIABILITIES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9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9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9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 Development of Law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Federalism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Law Defined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oretical Models of Law and Societ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Criminal and Civil Law and Procedur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ubstantive Criminal Law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rocedural Criminal Law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ubstantive Civil Law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rocedural Civil Law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Law of Arres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DEFINITION, ROLE, AND HISTORY OF SECUR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1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TextBox 4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9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Weights of Evidenc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arch and Seizure: Public Polic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arch and Seizure: Private Securi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NVESTIGATION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10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Investigation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ypes and Guidelines of Investigation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Fraud Investigation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Internal Theft Investigatio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hoplifting Investigatio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Robbery Investigatio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echniques of Investig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Interviewing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Interrogations and Suspect Right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rotecting the Crime Scen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ources of Informa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urveillanc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Undercover Investigatio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Report Writ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estify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echnolog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Forensic Science 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RISK AND ALL-HAZARDS PROTECTION 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SECTION III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7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ENTERPRISE RISK MANAGEMENT AND RESILIENCE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11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isk Managemen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Risk Management in the Private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Risk Management in the Public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omparing and Contrasting Private and Public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Risk Management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Enterprise Risk Management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Enterprise Security Risk Management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isk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Natural Disaster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Human-Made Events/Hazard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Business Continuity and Enterprise Resilienc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Business Continuit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Enterprise Resilienc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Emergency Management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Life Safe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Fire Protection 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ROTECTION OF CRITICAL INFRASTRUCTURES AND KEY RESOURCES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12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9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01320" y="1526760"/>
            <a:ext cx="86137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Protection Challeng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Early Critical Infrastructure Protec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National Infrastructure Protection Pla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Assessing Vulnerability of Critical Infrastructures and Key Resourc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Critical Infrastructures and Key Resourc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Agriculture and Food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Water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Health-Care and Public Health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Emergency Services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Defense Industry Base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ommunications Sector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832040"/>
            <a:ext cx="850428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ecurity Define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 Contexts of Securi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 Roles of Security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ecurity Methodolog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ecurity Strategie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 Role of Security is Pervasive and Global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 History of Securi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he Importance of History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rends in the Historical Development of Securit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rehistoric Times and Early Histor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 Development of Security in the United State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301320" y="1526760"/>
            <a:ext cx="86137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Information Technology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Energy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ransportation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Banking and Finance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hemical Industry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Postal and Shipping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ritical Manufacturing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National Monuments and Icons Sector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Nuclear Sector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Dams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Government Facilities Sector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ommercial Facilities Sec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HE FUTU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SECTION IV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8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WENTY-FIRST CENTURY SECURITY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13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1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01320" y="1526760"/>
            <a:ext cx="86137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Futures Studie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Methodologies for Anticipating the Futur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rend Analysi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yclical Pattern Analysi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Environmental Scann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ross-Impact Analysi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Delphi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Additional Methodologie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Evaluating Futures Research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Predictions from the World Future Societ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301320" y="1526760"/>
            <a:ext cx="86137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Predictions and Issu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echnolog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ecurity Technolog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ecurity Officer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Law Enforcement Technology  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680" y="1828800"/>
            <a:ext cx="884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Industry Forma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echnological Impac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Security Trade Association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ECURITY IN AN ENVIRONMENT OF THREATS, TERRORISM, AND ALL-HAZARD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2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832040"/>
            <a:ext cx="850428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reats and Hazard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erroris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he Difficulty of Defining Terrorism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errorism: A History of Violenc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lassifying Terrorist Group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onflicts in the Name of Relig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Causes of Terrorism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International Terrorism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Domestic Terrorism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Terrorist Attacks and Weapo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ill Sans MT"/>
              </a:rPr>
              <a:t>CHAPTER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832040"/>
            <a:ext cx="850428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National Strategie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Federal Legislation for Counterterrorism and All-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azards Prot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Homeland Securit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Department of Homeland Securit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Federal Emergency Management Agency and All-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azards Prot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HE PROFESSION AND BUSINESS OF SECURIT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6349"/>
                </a:solidFill>
                <a:latin typeface="Gill Sans MT"/>
              </a:rPr>
              <a:t>CHAPTER 3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TextBox 3"/>
          <p:cNvSpPr/>
          <p:nvPr/>
        </p:nvSpPr>
        <p:spPr>
          <a:xfrm>
            <a:off x="5638680" y="601992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 2011 - CRC Press/Taylor &amp; Franc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0:40:29Z</dcterms:created>
  <dc:creator>Student</dc:creator>
  <dc:description/>
  <dc:language>en-US</dc:language>
  <cp:lastModifiedBy>listewnikm</cp:lastModifiedBy>
  <dcterms:modified xsi:type="dcterms:W3CDTF">2010-10-04T15:29:39Z</dcterms:modified>
  <cp:revision>17</cp:revision>
  <dc:subject/>
  <dc:title>SECURITY:  An Introduction</dc:title>
</cp:coreProperties>
</file>