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9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3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87B-F29C-4404-89D7-F9257160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C6A-0B48-4F6D-B00D-09B8B96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013E4-AF39-4ECD-9D67-91D11A8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E77FF-944B-4702-96ED-FF55AA8A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02B88-C06B-4859-8264-871ED88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645C7-345C-4D95-BC7D-E276735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CE34C-2917-4864-92B2-AA322D4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694D0-50E1-432E-B382-39B0000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59E83-7B3A-4A22-820E-7074CC07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A2F82-8AB6-474E-9CA1-5CCB32EC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6D094-58E6-43A0-8C39-19CD04C9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1816F-08B6-406A-86BC-B30C6F7B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542-9A00-4411-AFFB-270C9DAF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3EA81-6882-48DF-8C11-87AAA84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88027-4119-4258-865C-3F826A55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518E-D36B-4A56-8A04-B473CDF9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71763-4EF4-463C-AE3D-986D549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C6539-522A-47C6-B35F-670D8989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BCE5B-1889-460A-BE0D-FC68255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0BCB6-91FB-425B-981A-3CAA8DC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FC75C-4366-4A49-9DF8-CD4AA28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ED8E0-75D8-4B4C-9330-BF4DDB3C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C7BB1-5E7B-4925-87E4-DB6AAA54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CEA-5570-444C-9D9B-38AADEE8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8EC35-F76A-4981-9BBA-4FA82A27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051E-7CFA-40CC-BB18-1DA1DBEF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AD14B-12B6-48B6-BC8D-03E0FC75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3527-C420-4A7A-A4E2-354F93D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AB530-F734-41AB-8D65-7029554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E0D1-9E48-4723-ABEC-8EEECA3C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9E78C-9656-4242-A107-98EA29CB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FB5C4-24D9-478B-A91B-0E1DAA5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18F71-B3DE-4B7F-A6EF-9102CCF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3D712-3308-47B8-9FE8-B3839850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DF67-8C15-4A6B-8264-D6C921D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E44A7-AD27-4C18-A131-5BF56A24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0360E-515E-4614-AA01-DF123F15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3978D-0682-465E-885B-198DF2DE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A75E-D786-450E-BA7C-F230AE4E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21172-5E18-405B-B0A8-AA97E295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3C784-583C-4F3A-ACDA-4DCEF3F7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C7531-157C-4A3D-8A07-66742F4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992B2-22C0-4769-8B57-FEB31EC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A60A9-3928-4BA1-8804-00C4AF4B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EDE9F-E4B7-4B3D-9C53-40D9D532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A62-9130-48F2-8047-9C95689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096D-89D6-497F-8287-139F3D8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BDE0B-CB8F-4509-8503-B664835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F2EC3-E166-43D5-B32A-69917B33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A6932-2B68-4B9A-959F-8CE2F7A6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4954-3CD6-4A49-A566-4C484BF2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0D5F1-C8E5-41D4-89B7-3B27DD19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F2B3-87D3-4596-8A63-F6FDABC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4B19E-24D5-4C14-BF99-2F8D569A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B6E7F-6E61-4007-BD43-FD58C69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5D501-D59E-4B2B-9533-8A237B82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58F-C47D-43AE-AE81-A0D1A85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33EF1-1C97-469A-BAF1-62E6B48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30406-F894-440F-942D-E3E9681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37972-A157-443A-A6BC-681453CB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27A1A-54AD-4CEF-8D97-2659D25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ACFD4-3A4D-4028-AE1B-1A9507F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B27DD-9D2A-4A4F-9670-1C7BBFDC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9D970-F35B-4C31-ABEA-E9767CE5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7D9-D189-4A6F-AFB6-3AAFC161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E16-5378-4A70-99C0-321452A0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BFE5-CD90-4AD7-B3A0-16C7C27D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C487-022F-4A0A-8B1B-873C11D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407-62AA-4729-8B77-ACF63552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32C-5570-446A-9C0F-58A6448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693C-1EB5-42D6-8AB0-E8D45EF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A5A4-E738-4286-97E8-726615D9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342E-EDB1-47CD-9C94-54C89D09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6CFB-D2C3-4602-A335-32A869F3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33B7-A222-4509-8501-7E756FE1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2406-BFC3-4E28-9466-EDF0D68B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D5F4-9F24-4100-A83D-6B277A0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A19A-60B3-48F0-B1DE-2167DE7F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AD84-410F-4640-8509-FA74009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445-01EB-4203-84CC-A3EE55B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8CFC-04FF-4755-B10C-74048A56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CAB1-CF6E-416A-B8D1-5463CD3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61C5-9B72-4E52-B77A-D051A2F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710A-9C9C-46CD-A2EB-57894A8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260E-70CE-4B86-8CAF-3B7E3BFB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7777-AE9A-44C3-BCA1-28F0FE85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A28B-68E8-4E7B-941E-0FE0350A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1879-AC5D-4425-87E7-E24C1475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A933-B0EE-4729-876E-F220DAAA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64F4-6969-4014-A154-5A3C167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841-9A85-45D8-952D-8C56D898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67B1-A7E8-406A-9B4B-E3C738F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BFCC-A4EC-4F11-854E-16252A92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0712-3577-4E08-9328-4546B59F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BE88-98C2-4318-9EA3-6AB0DBB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A58B-F688-466F-836A-B29F672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1A65-7296-43C5-85A5-30D0167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65B6-0B3B-403F-A249-D3943C43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CF3A-249A-4B5A-B7EE-5923DC93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EBA4-2684-489E-A226-91176AED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45A1-FE5C-4CDC-99AE-8CE6A551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6C8-45C7-4A0C-93F0-000FC69F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B4E3-6158-4AF1-A686-7E8F332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09951-955D-4EE9-AC68-21BB823F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7C73-8A7E-4F73-9A16-D899F172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25EC3-0C66-49E6-BAE3-7A06C66D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4C16-FD70-4DF4-BB93-B642642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D1447-5024-4A39-9924-0B2FD5F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9B3F-491F-4D6B-B8E3-1E4A6129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A1E2-7A18-44BD-A292-149F49D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186C-3482-40F0-87CB-EECAFE0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19D2-E9EC-4F2C-AF43-20BDED98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800-BDB7-4673-98FD-14F35AFA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83DC-6B5C-4E48-9993-57BD1E05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E1C82-2099-4835-BC10-863FBA23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0794-FC33-4117-B716-362AA71F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C28AF-9DD5-4492-9065-428D597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4FE5-16B6-4424-9705-758A0E38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0EEB-94AA-491F-951A-2D922ED2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F881-56BA-49E4-82A9-89AAEE1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2742-7AE6-45E5-A0BA-1E5BB57C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36BD-370D-4A0F-844E-0696074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2D01-3C0D-45C4-9645-A982427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061-49EE-4D30-80A7-777A2BC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6943-874E-49A8-8868-C6580E4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4F30-F63C-4AA0-B7A9-0AE47D2F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67946-EF20-40A2-A43E-5FC83F06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59BF4-17E6-4B5E-AEAD-23C591AC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1801-5555-4200-9CF1-862A4AA2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67362-62EA-437F-A6E7-F09319E2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6783-1009-4384-AB9C-0E7CEFB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7A78-5ED4-40E3-9BEF-EAD0E24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613EA-0760-4E50-9A76-92EC9E8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6ABBC-1DEB-4F9F-96FA-A01F172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2CC-62C0-486C-8F06-D82D301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A2800-7F3A-437B-8EE5-1E1A0E9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3A34D-CB28-4570-B523-C08192F8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0E89-4BA4-490A-8BCF-D29A7B92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FF786-48FB-4544-8E3A-CE32465D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7B73B-58C0-4BFE-A3D6-6957E302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CA0E1-C422-4853-B0AC-12ECCEAD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72551-1B1A-475C-BBC8-23F200E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3A8C-0018-42D5-A3AD-53ABFF6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05BC-8C5F-4D11-8265-0A41732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23CA7-FDFC-41BD-B6ED-9CB2712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7D4-8B68-4CDB-8CCE-F89DF7B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63645-D79A-4ABA-8FE4-DB5F0D5C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56F90-3310-45AA-BA4F-B011492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3AAD3-A41F-487C-9480-A223DF7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0136D-68CD-4A5C-927E-2E82940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247B9-6B7F-4758-8241-C0D9919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A616-6B23-4E89-BDA9-E3DBF471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C3280-77EA-41DB-9738-627B4C34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6A39F-E88B-434F-96F6-CE126C68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F8E9D-1FAB-4487-A77E-63E40A74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3BB5D-EF94-4EDB-8DD8-53761A2A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F63-CEE3-49FF-9080-D760CF52E4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F6F7-FDA9-4227-BDF8-1C76838D89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EB4-4DAC-423F-A78D-7130AF0911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8508-A845-4311-9477-4F9657906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11CB-EE8D-458C-B26B-09B14AD12A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762360" cy="249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169-44CF-4EEC-A78B-3AA67B7F2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2B8-C5C9-43A4-A9E2-AF4798CBF1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FE1-E1B8-4A70-BE90-8D3F2D1B5F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AF7-3962-453C-860B-9EDD21300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F954-D7BA-4D8E-B82B-2E035E50EC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1AC-1AFB-40F4-AAEF-654C8B67CC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7FB-3F23-4BB3-8E4F-AF512E5E8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8069400" y="152280"/>
            <a:ext cx="998280" cy="4701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schemes of switching 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7134-FD92-4C1E-95F8-22A388B7D6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1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techniques for power factor corrector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tinuous conduction mode (CCM) </a:t>
            </a:r>
            <a:br>
              <a:rPr sz="3000"/>
            </a:b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iscontinuous conduction mode (DCM)</a:t>
            </a:r>
            <a:br>
              <a:rPr sz="3000"/>
            </a:b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Boundary conduction mode (BC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E444-72F8-40D0-8E71-363CE0E60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techniques for power factor corrector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eak current mode control (PC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verage current mo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Hysteresis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BC73-A1E7-42B5-942E-49516DAC8F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eak current mode control (PCM)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A46-8F59-47C4-A72F-12DD898060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2227320" y="1066680"/>
            <a:ext cx="46893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verage current mode control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75A-9B32-4458-8F11-591C4796FE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3" descr=""/>
          <p:cNvPicPr/>
          <p:nvPr/>
        </p:nvPicPr>
        <p:blipFill>
          <a:blip r:embed="rId1"/>
          <a:stretch/>
        </p:blipFill>
        <p:spPr>
          <a:xfrm>
            <a:off x="2268360" y="1066680"/>
            <a:ext cx="46072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ysteresis control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A888-8B24-4044-B7EA-6D0E226E9E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2244600" y="1066680"/>
            <a:ext cx="465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Borderline or boundary control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3CB0-7463-435A-B54C-DF5EAD1B82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2138400" y="914400"/>
            <a:ext cx="486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scontinuous current PWM control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5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8969-0622-4FBF-95DC-F4ADB7E88E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2171880" y="849240"/>
            <a:ext cx="48006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000000"/>
                </a:solidFill>
                <a:latin typeface="Arial"/>
              </a:rPr>
              <a:t>Power factorcorrection circuits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A09-6213-48A3-9101-51BDBE85BF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4724280" y="43434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asic boost-based PFC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4191120" y="2076480"/>
            <a:ext cx="4724280" cy="2266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2"/>
          <a:stretch/>
        </p:blipFill>
        <p:spPr>
          <a:xfrm>
            <a:off x="96840" y="3429000"/>
            <a:ext cx="3789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actical AC-DC converter with power factor correction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670-8BC7-4708-8094-3D0F0118AB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"/>
          <p:cNvPicPr/>
          <p:nvPr/>
        </p:nvPicPr>
        <p:blipFill>
          <a:blip r:embed="rId1"/>
          <a:stretch/>
        </p:blipFill>
        <p:spPr>
          <a:xfrm>
            <a:off x="738360" y="1752480"/>
            <a:ext cx="7667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000000"/>
                </a:solidFill>
                <a:latin typeface="Arial"/>
              </a:rPr>
              <a:t>Low noise DC-DC converters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ar power supplies produce low EMI but have low power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itched mode power supplies have higher power efficiency but produce E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 noise switching power supplies use several techniques to reduce the conducted and radiated EMI while achieving acceptable power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AD88-1BF9-4F71-A2ED-D2C1EDA3CB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4641-4828-4F4C-A94B-D6D3AB4E9F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ower factor correction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040" y="16765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Review of basic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1057320" cy="304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2133720" cy="266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714240" cy="409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1533600" cy="466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5"/>
          <a:stretch/>
        </p:blipFill>
        <p:spPr>
          <a:xfrm>
            <a:off x="1371600" y="4724280"/>
            <a:ext cx="1266840" cy="6382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"/>
          <p:cNvPicPr/>
          <p:nvPr/>
        </p:nvPicPr>
        <p:blipFill>
          <a:blip r:embed="rId6"/>
          <a:stretch/>
        </p:blipFill>
        <p:spPr>
          <a:xfrm>
            <a:off x="1371600" y="5562720"/>
            <a:ext cx="25146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echniques to reduce EMI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Inductive coup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Input filt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utput Filt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lew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CDBF-4C49-41C7-80F1-047A34AB5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ck converter with practical input and output capacitors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D04-274D-471C-812F-B3569107E1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2674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performance between one and two output filters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5A7-C13E-421C-8968-02E11EDEF5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0" y="2511360"/>
            <a:ext cx="4402080" cy="30607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" descr=""/>
          <p:cNvPicPr/>
          <p:nvPr/>
        </p:nvPicPr>
        <p:blipFill>
          <a:blip r:embed="rId2"/>
          <a:stretch/>
        </p:blipFill>
        <p:spPr>
          <a:xfrm>
            <a:off x="4665600" y="2457360"/>
            <a:ext cx="4402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voltage waveforms with and without slew rate limitation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3C78-966B-4748-BBC3-42B85A1900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1623960" y="1719360"/>
            <a:ext cx="58960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solar cell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A89-1EBA-4164-939B-0EF059A5CA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4332240" y="1413000"/>
            <a:ext cx="4278240" cy="475920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7"/>
          <p:cNvSpPr/>
          <p:nvPr/>
        </p:nvSpPr>
        <p:spPr>
          <a:xfrm>
            <a:off x="91440" y="205740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configurations of PV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olar cell model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0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D830-5FEB-45C9-A885-83D079D74F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1535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4800600" y="3191040"/>
            <a:ext cx="4184640" cy="307152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8"/>
          <p:cNvSpPr/>
          <p:nvPr/>
        </p:nvSpPr>
        <p:spPr>
          <a:xfrm>
            <a:off x="705600" y="320040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circuit of a sola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5202720" y="26668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V and power curves of a sola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fuel cell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8BC-5F91-4521-B047-8421576473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899400" cy="152424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0"/>
          <p:cNvSpPr/>
          <p:nvPr/>
        </p:nvSpPr>
        <p:spPr>
          <a:xfrm>
            <a:off x="1849320" y="39625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iagram representation of a fuel cel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fuel cell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2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4CA-A09B-4DF5-8931-2340DA2DC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695160" y="1447920"/>
            <a:ext cx="7753680" cy="441144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7"/>
          <p:cNvSpPr/>
          <p:nvPr/>
        </p:nvSpPr>
        <p:spPr>
          <a:xfrm>
            <a:off x="2303280" y="579132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iagram of a fue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fuel cell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2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701-9A7C-4552-8477-64F1044B10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2907000" cy="24004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2492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" descr=""/>
          <p:cNvPicPr/>
          <p:nvPr/>
        </p:nvPicPr>
        <p:blipFill>
          <a:blip r:embed="rId3"/>
          <a:stretch/>
        </p:blipFill>
        <p:spPr>
          <a:xfrm>
            <a:off x="5181480" y="3406680"/>
            <a:ext cx="3645000" cy="23623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1"/>
          <p:cNvSpPr/>
          <p:nvPr/>
        </p:nvSpPr>
        <p:spPr>
          <a:xfrm>
            <a:off x="1298520" y="17524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t circuit of a fuel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31480" y="579132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-current characteristic of a fuel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5406120" y="5791320"/>
            <a:ext cx="35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-current characteristic of a fuel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LED drivers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487B-BF17-4FA7-B6B9-5AA48BA715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"/>
          <p:cNvPicPr/>
          <p:nvPr/>
        </p:nvPicPr>
        <p:blipFill>
          <a:blip r:embed="rId1"/>
          <a:stretch/>
        </p:blipFill>
        <p:spPr>
          <a:xfrm>
            <a:off x="1442880" y="2362320"/>
            <a:ext cx="6258240" cy="312408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9"/>
          <p:cNvSpPr/>
          <p:nvPr/>
        </p:nvSpPr>
        <p:spPr>
          <a:xfrm>
            <a:off x="472680" y="17524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uck-based LED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82E-94AA-4CF8-8D6A-ED5D290A20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MS PGothic"/>
              </a:rPr>
              <a:t>Principle of power factor correction</a:t>
            </a:r>
            <a:endParaRPr b="1" lang="en-US" sz="35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The main goal of a power factor correction (PFC) circuits is to force the load to draw a quasi-sinusoidal current from the AC power line to be in phase with the line voltage; thus, behaving as a resistive load or a controlled current source to the AC mai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LED drivers</a:t>
            </a:r>
            <a:endParaRPr b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4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8C1-B0F8-43B8-9BDF-3933FFD82C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543600" y="183996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oost-based LED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2428920" y="2554200"/>
            <a:ext cx="4286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witching converter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LED drivers</a:t>
            </a:r>
            <a:endParaRPr b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4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2B9-0F9B-495E-BAB0-40F3C546B7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574560" y="183996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uk-based LED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2533680" y="2649600"/>
            <a:ext cx="4076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ADE4-AD80-4295-AE67-9585100047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lock diagram of a typical AC-DC converter with a power factor pre-regulator 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pic>
        <p:nvPicPr>
          <p:cNvPr id="585" name="Picture 10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9280" cy="1946520"/>
          </a:xfrm>
          <a:prstGeom prst="rect">
            <a:avLst/>
          </a:prstGeom>
          <a:ln w="0">
            <a:noFill/>
          </a:ln>
        </p:spPr>
      </p:pic>
      <p:sp>
        <p:nvSpPr>
          <p:cNvPr id="586" name="Footer Placeholder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power factor correction properties of switching converters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74320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itching converters exhibit self-power factor correction characteristics when operating in their discontinuous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169-B7C4-4200-BD1B-00339235BB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000000"/>
                </a:solidFill>
                <a:latin typeface="Arial"/>
              </a:rPr>
              <a:t>Buck converter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1295-638D-40A0-8684-167C33B83E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629160" cy="1171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214800" cy="2057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"/>
          <p:cNvPicPr/>
          <p:nvPr/>
        </p:nvPicPr>
        <p:blipFill>
          <a:blip r:embed="rId3"/>
          <a:stretch/>
        </p:blipFill>
        <p:spPr>
          <a:xfrm>
            <a:off x="5181480" y="2863800"/>
            <a:ext cx="3575160" cy="2698920"/>
          </a:xfrm>
          <a:prstGeom prst="rect">
            <a:avLst/>
          </a:prstGeom>
          <a:ln w="0">
            <a:noFill/>
          </a:ln>
        </p:spPr>
      </p:pic>
      <p:pic>
        <p:nvPicPr>
          <p:cNvPr id="599" name="Object 6" descr=""/>
          <p:cNvPicPr/>
          <p:nvPr/>
        </p:nvPicPr>
        <p:blipFill>
          <a:blip r:embed="rId4"/>
          <a:stretch/>
        </p:blipFill>
        <p:spPr>
          <a:xfrm>
            <a:off x="1143000" y="5743440"/>
            <a:ext cx="857160" cy="200160"/>
          </a:xfrm>
          <a:prstGeom prst="rect">
            <a:avLst/>
          </a:prstGeom>
          <a:ln w="0">
            <a:noFill/>
          </a:ln>
        </p:spPr>
      </p:pic>
      <p:pic>
        <p:nvPicPr>
          <p:cNvPr id="600" name="Object 7" descr=""/>
          <p:cNvPicPr/>
          <p:nvPr/>
        </p:nvPicPr>
        <p:blipFill>
          <a:blip r:embed="rId5"/>
          <a:stretch/>
        </p:blipFill>
        <p:spPr>
          <a:xfrm>
            <a:off x="5791320" y="5743440"/>
            <a:ext cx="1374480" cy="2001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"/>
          <p:cNvPicPr/>
          <p:nvPr/>
        </p:nvPicPr>
        <p:blipFill>
          <a:blip r:embed="rId6"/>
          <a:stretch/>
        </p:blipFill>
        <p:spPr>
          <a:xfrm>
            <a:off x="304920" y="2819520"/>
            <a:ext cx="4038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000000"/>
                </a:solidFill>
                <a:latin typeface="Arial"/>
              </a:rPr>
              <a:t>Boost converter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76C-9BCD-4676-8EFF-5266F168B3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943080" cy="4478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65680" cy="12477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533520" y="3732120"/>
            <a:ext cx="3152520" cy="2259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4952880" y="3048120"/>
            <a:ext cx="35496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000000"/>
                </a:solidFill>
                <a:latin typeface="Arial"/>
              </a:rPr>
              <a:t>Buck-boost converter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7C90-2EE9-46EC-9A00-534E7D51DF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1447560" cy="390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2209680" y="1417680"/>
            <a:ext cx="4195800" cy="13539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149640" cy="2257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4"/>
          <a:stretch/>
        </p:blipFill>
        <p:spPr>
          <a:xfrm>
            <a:off x="4952880" y="2975040"/>
            <a:ext cx="3546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000000"/>
                </a:solidFill>
                <a:latin typeface="Arial"/>
              </a:rPr>
              <a:t>Flyback converter</a:t>
            </a:r>
            <a:endParaRPr b="1" lang="en-US" sz="39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of switching conver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957-5276-400E-86C0-E7DEC3BE72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447560" cy="438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2174760" y="1371600"/>
            <a:ext cx="3883320" cy="1523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3"/>
          <a:stretch/>
        </p:blipFill>
        <p:spPr>
          <a:xfrm>
            <a:off x="500040" y="3884760"/>
            <a:ext cx="3067200" cy="2198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"/>
          <p:cNvPicPr/>
          <p:nvPr/>
        </p:nvPicPr>
        <p:blipFill>
          <a:blip r:embed="rId4"/>
          <a:stretch/>
        </p:blipFill>
        <p:spPr>
          <a:xfrm>
            <a:off x="4354560" y="3276720"/>
            <a:ext cx="34527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mon S. Ang</dc:creator>
  <dc:description/>
  <dc:language>en-US</dc:language>
  <cp:lastModifiedBy>Alejandro</cp:lastModifiedBy>
  <dcterms:modified xsi:type="dcterms:W3CDTF">2014-01-05T14:31:57Z</dcterms:modified>
  <cp:revision>184</cp:revision>
  <dc:subject/>
  <dc:title>PowerPoint Presentation</dc:title>
</cp:coreProperties>
</file>