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8.gif" ContentType="image/gi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9.wmf" ContentType="image/x-wmf"/>
  <Override PartName="/ppt/media/image21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B85-CE69-4477-B56D-AF99B65F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1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01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867-8B9E-4208-A94A-97F401BE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3360" y="1598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63360" y="3947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6D2-FBFC-4986-AABD-68D5DC27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5812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6200" y="1598760"/>
            <a:ext cx="25812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876640" y="1598760"/>
            <a:ext cx="25812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5812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6200" y="3947760"/>
            <a:ext cx="25812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876640" y="3947760"/>
            <a:ext cx="25812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2CD-0658-4E90-AAD1-5DE32F71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75B0-DC76-4F84-89F2-BAC64531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0168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2853-093A-4A73-A8D8-758F22B8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1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49B7-F938-4700-B632-281E584B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12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63360" y="1598760"/>
            <a:ext cx="3912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0B22-83C1-4784-A75E-C022C4C9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D3AA-A8C2-4F13-8C54-1668D03E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C9E3-EE04-41AB-843A-7707AE52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63360" y="1598760"/>
            <a:ext cx="3912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0D34-4AE1-4774-94E7-30572500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0168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838-B23F-48E6-9BF9-537499A2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12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63360" y="1598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3360" y="3947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B257-15D4-4AB2-BB19-4866121F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3360" y="1598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01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78B7-E8C6-496E-99D7-E626A184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1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01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7751-7601-4D43-BF8E-BC3F0EEC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63360" y="1598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63360" y="3947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781B-AE1C-49F0-A642-60C2A93B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5812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166200" y="1598760"/>
            <a:ext cx="25812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876640" y="1598760"/>
            <a:ext cx="25812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5812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166200" y="3947760"/>
            <a:ext cx="25812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876640" y="3947760"/>
            <a:ext cx="25812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BE37-0CD8-4557-8D55-6DE2BFF1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1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C60-0DBA-4B45-A4E8-122BD9C8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12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3360" y="1598760"/>
            <a:ext cx="3912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0C4-7B53-4B8B-9179-F1CF4508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B688-4544-40CD-9B17-BF95488C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262-2278-47C2-8C94-5BC97B16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3360" y="1598760"/>
            <a:ext cx="3912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743C-54EB-474D-8620-7B557203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12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3360" y="1598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3360" y="3947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071-BA87-47AB-B009-B7AC06D8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63360" y="1598760"/>
            <a:ext cx="3912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01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27D-33DA-48B3-BBE7-C18047B6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5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6418080" y="625104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342960" y="6249600"/>
            <a:ext cx="2895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 Tummala &amp; C W Therrien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5400" y="1598760"/>
            <a:ext cx="801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858160" y="6600960"/>
            <a:ext cx="285840" cy="257040"/>
          </a:xfrm>
          <a:custGeom>
            <a:avLst/>
            <a:gdLst>
              <a:gd name="textAreaLeft" fmla="*/ 16560 w 285840"/>
              <a:gd name="textAreaRight" fmla="*/ 269280 w 285840"/>
              <a:gd name="textAreaTop" fmla="*/ 16560 h 257040"/>
              <a:gd name="textAreaBottom" fmla="*/ 240480 h 257040"/>
            </a:gdLst>
            <a:ahLst/>
            <a:rect l="textAreaLeft" t="textAreaTop" r="textAreaRight" b="textAreaBottom"/>
            <a:pathLst>
              <a:path w="24017" h="21600">
                <a:moveTo>
                  <a:pt x="0" y="0"/>
                </a:moveTo>
                <a:lnTo>
                  <a:pt x="24017" y="0"/>
                </a:lnTo>
                <a:lnTo>
                  <a:pt x="24017" y="21600"/>
                </a:lnTo>
                <a:lnTo>
                  <a:pt x="0" y="21600"/>
                </a:lnTo>
                <a:close/>
              </a:path>
              <a:path fill="lightenLess" w="24017" h="21600">
                <a:moveTo>
                  <a:pt x="0" y="0"/>
                </a:moveTo>
                <a:lnTo>
                  <a:pt x="24017" y="0"/>
                </a:lnTo>
                <a:lnTo>
                  <a:pt x="22617" y="1400"/>
                </a:lnTo>
                <a:lnTo>
                  <a:pt x="1400" y="1400"/>
                </a:lnTo>
                <a:close/>
              </a:path>
              <a:path fill="darken" w="24017" h="21600">
                <a:moveTo>
                  <a:pt x="24017" y="0"/>
                </a:moveTo>
                <a:lnTo>
                  <a:pt x="24017" y="21600"/>
                </a:lnTo>
                <a:lnTo>
                  <a:pt x="22617" y="20200"/>
                </a:lnTo>
                <a:lnTo>
                  <a:pt x="22617" y="1400"/>
                </a:lnTo>
                <a:close/>
              </a:path>
              <a:path fill="darkenLess" w="24017" h="21600">
                <a:moveTo>
                  <a:pt x="240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7" y="20200"/>
                </a:lnTo>
                <a:close/>
              </a:path>
              <a:path fill="lighten" w="240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7" h="21600">
                <a:moveTo>
                  <a:pt x="5002" y="3794"/>
                </a:moveTo>
                <a:lnTo>
                  <a:pt x="19015" y="10800"/>
                </a:lnTo>
                <a:lnTo>
                  <a:pt x="500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7548-BA77-43F1-B0BC-382276F6EB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372360" y="6254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25728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 Tummala &amp; C W Therrien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858160" y="6600960"/>
            <a:ext cx="285840" cy="257040"/>
          </a:xfrm>
          <a:custGeom>
            <a:avLst/>
            <a:gdLst>
              <a:gd name="textAreaLeft" fmla="*/ 16560 w 285840"/>
              <a:gd name="textAreaRight" fmla="*/ 269280 w 285840"/>
              <a:gd name="textAreaTop" fmla="*/ 16560 h 257040"/>
              <a:gd name="textAreaBottom" fmla="*/ 240480 h 257040"/>
            </a:gdLst>
            <a:ahLst/>
            <a:rect l="textAreaLeft" t="textAreaTop" r="textAreaRight" b="textAreaBottom"/>
            <a:pathLst>
              <a:path w="24017" h="21600">
                <a:moveTo>
                  <a:pt x="0" y="0"/>
                </a:moveTo>
                <a:lnTo>
                  <a:pt x="24017" y="0"/>
                </a:lnTo>
                <a:lnTo>
                  <a:pt x="24017" y="21600"/>
                </a:lnTo>
                <a:lnTo>
                  <a:pt x="0" y="21600"/>
                </a:lnTo>
                <a:close/>
              </a:path>
              <a:path fill="lightenLess" w="24017" h="21600">
                <a:moveTo>
                  <a:pt x="0" y="0"/>
                </a:moveTo>
                <a:lnTo>
                  <a:pt x="24017" y="0"/>
                </a:lnTo>
                <a:lnTo>
                  <a:pt x="22617" y="1400"/>
                </a:lnTo>
                <a:lnTo>
                  <a:pt x="1400" y="1400"/>
                </a:lnTo>
                <a:close/>
              </a:path>
              <a:path fill="darken" w="24017" h="21600">
                <a:moveTo>
                  <a:pt x="24017" y="0"/>
                </a:moveTo>
                <a:lnTo>
                  <a:pt x="24017" y="21600"/>
                </a:lnTo>
                <a:lnTo>
                  <a:pt x="22617" y="20200"/>
                </a:lnTo>
                <a:lnTo>
                  <a:pt x="22617" y="1400"/>
                </a:lnTo>
                <a:close/>
              </a:path>
              <a:path fill="darkenLess" w="24017" h="21600">
                <a:moveTo>
                  <a:pt x="240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7" y="20200"/>
                </a:lnTo>
                <a:close/>
              </a:path>
              <a:path fill="lighten" w="240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7" h="21600">
                <a:moveTo>
                  <a:pt x="5002" y="3794"/>
                </a:moveTo>
                <a:lnTo>
                  <a:pt x="19015" y="10800"/>
                </a:lnTo>
                <a:lnTo>
                  <a:pt x="5002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B838-719D-4DCB-B144-673B23C998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.wmf"/><Relationship Id="rId2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55640" y="895320"/>
            <a:ext cx="8388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robability Mode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gebra of event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ility and conditional probability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Network reli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Binary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nformation and co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DC6-FAB3-4AC5-B66A-BCD036CEC3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88960" y="533520"/>
            <a:ext cx="83930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crete Sample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sample space &lt;=&gt; Discrete valued signa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 of an 8-bit ADC contains only 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256 value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 = {-5, -4.9609375, …, -0.0390625,0,0.0390625, …, 4.9609375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 = {-128, -127, …, -1, 0, 1, …, 127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ecimal equivalent of 2’s  complement representation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sample space has a finite or countably infinite number of outco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this example we have 256 outcomes  (finit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527840" y="1863720"/>
            <a:ext cx="4372200" cy="845280"/>
            <a:chOff x="1527840" y="1863720"/>
            <a:chExt cx="4372200" cy="845280"/>
          </a:xfrm>
        </p:grpSpPr>
        <p:sp>
          <p:nvSpPr>
            <p:cNvPr id="198" name=""/>
            <p:cNvSpPr/>
            <p:nvPr/>
          </p:nvSpPr>
          <p:spPr>
            <a:xfrm>
              <a:off x="3178080" y="1863720"/>
              <a:ext cx="1359000" cy="74916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33520" y="2238120"/>
              <a:ext cx="8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43560" y="2238120"/>
              <a:ext cx="83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35920" y="1955520"/>
              <a:ext cx="613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8-bi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D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27840" y="1984320"/>
              <a:ext cx="112212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(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5V to +5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99640" y="2003400"/>
              <a:ext cx="50040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[n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36A-C025-403A-96EE-6DBBA47981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50960" y="237960"/>
            <a:ext cx="839304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ous Sample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inuous sample space &lt;=&gt; Continuous magnitude sig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 of the radio receiver is measured at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The dynamic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nge of the receiver output is -5V to +5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{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-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5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continuous sample space has uncountably infinite values or outc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uld take values like 4.9326784531432677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amples of events and probability assignme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495160" y="1355760"/>
            <a:ext cx="4100040" cy="961560"/>
            <a:chOff x="2495160" y="1355760"/>
            <a:chExt cx="4100040" cy="961560"/>
          </a:xfrm>
        </p:grpSpPr>
        <p:sp>
          <p:nvSpPr>
            <p:cNvPr id="206" name=""/>
            <p:cNvSpPr/>
            <p:nvPr/>
          </p:nvSpPr>
          <p:spPr>
            <a:xfrm>
              <a:off x="3568680" y="1568160"/>
              <a:ext cx="1359000" cy="74916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24120" y="1942920"/>
              <a:ext cx="8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34160" y="1942920"/>
              <a:ext cx="83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95120" y="1660320"/>
              <a:ext cx="905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adi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ecei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94280" y="135576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724120" y="148536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724120" y="1485720"/>
              <a:ext cx="22860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2495160" y="1485720"/>
              <a:ext cx="22860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724120" y="16376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73080" y="1508040"/>
              <a:ext cx="112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5V to +5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95640" y="1793520"/>
              <a:ext cx="454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(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7" name=""/>
          <p:cNvGraphicFramePr/>
          <p:nvPr/>
        </p:nvGraphicFramePr>
        <p:xfrm>
          <a:off x="1114560" y="5602320"/>
          <a:ext cx="651348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5602320"/>
                    <a:ext cx="65134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130400" y="4641840"/>
          <a:ext cx="634824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0400" y="4641840"/>
                    <a:ext cx="63482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103400" y="5118120"/>
          <a:ext cx="6402240" cy="4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3400" y="5118120"/>
                    <a:ext cx="64022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99A-C38F-4208-A99A-9A9014D7AB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587680" y="2384280"/>
            <a:ext cx="3981240" cy="3938040"/>
            <a:chOff x="2587680" y="2384280"/>
            <a:chExt cx="3981240" cy="3938040"/>
          </a:xfrm>
        </p:grpSpPr>
        <p:sp>
          <p:nvSpPr>
            <p:cNvPr id="224" name=""/>
            <p:cNvSpPr/>
            <p:nvPr/>
          </p:nvSpPr>
          <p:spPr>
            <a:xfrm>
              <a:off x="3753000" y="5024520"/>
              <a:ext cx="12204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87680" y="490860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16200" y="598500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68560" y="597528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64200" y="598500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11840" y="598500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8840" y="598500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97760" y="598500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87680" y="559440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87680" y="4299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87680" y="363204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87680" y="300348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87680" y="238428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05640" y="2490840"/>
              <a:ext cx="12204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90920" y="250020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95640" y="250020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43280" y="250020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29200" y="249084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34200" y="3119400"/>
              <a:ext cx="12204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90920" y="311940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95640" y="311940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3280" y="311940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311004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5640" y="3738600"/>
              <a:ext cx="12204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34200" y="3747960"/>
              <a:ext cx="12204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90920" y="374796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95640" y="374796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43280" y="374796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05640" y="4405320"/>
              <a:ext cx="12204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34200" y="4414680"/>
              <a:ext cx="12204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43280" y="441468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29200" y="440532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15000" y="501480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43560" y="502452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00640" y="5024520"/>
              <a:ext cx="12204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05000" y="502452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38560" y="501480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15000" y="570060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43560" y="571032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53000" y="5710320"/>
              <a:ext cx="12204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38560" y="570060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34200" y="2500200"/>
              <a:ext cx="12204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05640" y="3110040"/>
              <a:ext cx="12204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29200" y="373860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90920" y="441468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95640" y="441468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00640" y="5710320"/>
              <a:ext cx="12204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05000" y="5710320"/>
              <a:ext cx="122400" cy="123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936880" y="2286000"/>
            <a:ext cx="3700440" cy="3706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748040" y="2413080"/>
            <a:ext cx="1806840" cy="1739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919240" y="4243320"/>
            <a:ext cx="1811520" cy="1774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750960" y="685800"/>
            <a:ext cx="8393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wo Dimensional Sample Space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ll two dic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discrete sample space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 = {(i,j): (1,1), (1,2), (1,3), …, (4,3), …, (6,4), (6,5), (6,6)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825480" y="2440080"/>
            <a:ext cx="1090800" cy="13492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7248600" y="3271680"/>
            <a:ext cx="552240" cy="428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837800" y="4132440"/>
            <a:ext cx="916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oll 4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37320" y="2227320"/>
            <a:ext cx="1587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oll Dou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637320" y="2779560"/>
            <a:ext cx="18162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oll 10 or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5F1-B5C1-4AE0-A587-4ACC91AB5A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00280" y="1009800"/>
            <a:ext cx="8343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xioms of Prob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630440" y="1763640"/>
          <a:ext cx="5497560" cy="19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0440" y="1763640"/>
                    <a:ext cx="5497560" cy="19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4" name=""/>
          <p:cNvGrpSpPr/>
          <p:nvPr/>
        </p:nvGrpSpPr>
        <p:grpSpPr>
          <a:xfrm>
            <a:off x="3227400" y="4232160"/>
            <a:ext cx="2770200" cy="1249200"/>
            <a:chOff x="3227400" y="4232160"/>
            <a:chExt cx="2770200" cy="1249200"/>
          </a:xfrm>
        </p:grpSpPr>
        <p:sp>
          <p:nvSpPr>
            <p:cNvPr id="285" name=""/>
            <p:cNvSpPr/>
            <p:nvPr/>
          </p:nvSpPr>
          <p:spPr>
            <a:xfrm>
              <a:off x="3227400" y="4232160"/>
              <a:ext cx="2770200" cy="124920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90720" y="4518000"/>
              <a:ext cx="728640" cy="70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05280" y="4518000"/>
              <a:ext cx="728640" cy="70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95920" y="4678200"/>
              <a:ext cx="3862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31000" y="4673520"/>
              <a:ext cx="3862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FD1-DDA8-4D83-9C20-ECCD8F68DA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1330200" y="3586320"/>
          <a:ext cx="534204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3586320"/>
                    <a:ext cx="53420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1330200" y="3586320"/>
          <a:ext cx="534204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0200" y="3586320"/>
                    <a:ext cx="5342040" cy="407880"/>
                  </a:xfrm>
                  <a:prstGeom prst="rect">
                    <a:avLst/>
                  </a:prstGeom>
                  <a:ln w="9360">
                    <a:solidFill>
                      <a:srgbClr val="d3e61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335240" y="1614600"/>
          <a:ext cx="392256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5240" y="1614600"/>
                    <a:ext cx="39225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332000" y="2019240"/>
          <a:ext cx="3584520" cy="36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2019240"/>
                    <a:ext cx="35845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1332000" y="3139920"/>
          <a:ext cx="4824360" cy="40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32000" y="3139920"/>
                    <a:ext cx="48243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1335240" y="2781360"/>
          <a:ext cx="3065400" cy="36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5240" y="2781360"/>
                    <a:ext cx="3065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336680" y="2376360"/>
          <a:ext cx="5996160" cy="408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36680" y="2376360"/>
                    <a:ext cx="59961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800280" y="933480"/>
            <a:ext cx="834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Coroll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35240" y="1614600"/>
          <a:ext cx="3922560" cy="407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35240" y="1614600"/>
                    <a:ext cx="39225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7" name=""/>
          <p:cNvGrpSpPr/>
          <p:nvPr/>
        </p:nvGrpSpPr>
        <p:grpSpPr>
          <a:xfrm>
            <a:off x="1728720" y="4390920"/>
            <a:ext cx="5614920" cy="1120680"/>
            <a:chOff x="1728720" y="4390920"/>
            <a:chExt cx="5614920" cy="1120680"/>
          </a:xfrm>
        </p:grpSpPr>
        <p:sp>
          <p:nvSpPr>
            <p:cNvPr id="308" name=""/>
            <p:cNvSpPr/>
            <p:nvPr/>
          </p:nvSpPr>
          <p:spPr>
            <a:xfrm>
              <a:off x="4827240" y="4397400"/>
              <a:ext cx="2516400" cy="111420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43200" y="4703760"/>
              <a:ext cx="660600" cy="63000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27400" y="4719600"/>
              <a:ext cx="660600" cy="6318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92880" y="4824360"/>
              <a:ext cx="3862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83360" y="4819680"/>
              <a:ext cx="3862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28720" y="4390920"/>
              <a:ext cx="2516040" cy="111456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96880" y="4514760"/>
              <a:ext cx="944640" cy="91296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47720" y="4662360"/>
              <a:ext cx="660240" cy="63180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45080" y="4740120"/>
              <a:ext cx="3862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83080" y="4781520"/>
              <a:ext cx="3862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1332000" y="2019240"/>
          <a:ext cx="3584520" cy="362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332000" y="2019240"/>
                    <a:ext cx="35845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1332000" y="3139920"/>
          <a:ext cx="482436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332000" y="3139920"/>
                    <a:ext cx="48243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1335240" y="2781360"/>
          <a:ext cx="3065400" cy="361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335240" y="2781360"/>
                    <a:ext cx="3065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336680" y="2376360"/>
          <a:ext cx="5996160" cy="408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336680" y="2376360"/>
                    <a:ext cx="59961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BFA-A092-4A9D-A3C4-9E9A4F44E9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34920" y="4710240"/>
            <a:ext cx="416880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[B] = Pr[B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+ Pr[B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 + Pr[B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34920" y="4710240"/>
            <a:ext cx="39402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[B] = Pr[B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+ Pr[B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 + Pr[B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54520" y="4819680"/>
            <a:ext cx="1771920" cy="885960"/>
          </a:xfrm>
          <a:prstGeom prst="ellipse">
            <a:avLst/>
          </a:prstGeom>
          <a:solidFill>
            <a:srgbClr val="d3e61c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99200" y="4703760"/>
            <a:ext cx="2643120" cy="1225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04240" y="5477040"/>
            <a:ext cx="386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13240" y="4719600"/>
            <a:ext cx="782640" cy="781200"/>
          </a:xfrm>
          <a:custGeom>
            <a:avLst/>
            <a:gdLst/>
            <a:ahLst/>
            <a:rect l="l" t="t" r="r" b="b"/>
            <a:pathLst>
              <a:path w="493" h="492">
                <a:moveTo>
                  <a:pt x="493" y="0"/>
                </a:moveTo>
                <a:cubicBezTo>
                  <a:pt x="467" y="154"/>
                  <a:pt x="398" y="290"/>
                  <a:pt x="278" y="390"/>
                </a:cubicBezTo>
                <a:cubicBezTo>
                  <a:pt x="266" y="399"/>
                  <a:pt x="259" y="413"/>
                  <a:pt x="247" y="420"/>
                </a:cubicBezTo>
                <a:cubicBezTo>
                  <a:pt x="243" y="425"/>
                  <a:pt x="282" y="416"/>
                  <a:pt x="253" y="423"/>
                </a:cubicBezTo>
                <a:cubicBezTo>
                  <a:pt x="224" y="430"/>
                  <a:pt x="114" y="451"/>
                  <a:pt x="72" y="462"/>
                </a:cubicBezTo>
                <a:cubicBezTo>
                  <a:pt x="48" y="470"/>
                  <a:pt x="19" y="473"/>
                  <a:pt x="0" y="49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50080" y="5126040"/>
            <a:ext cx="831600" cy="799920"/>
          </a:xfrm>
          <a:custGeom>
            <a:avLst/>
            <a:gdLst/>
            <a:ahLst/>
            <a:rect l="l" t="t" r="r" b="b"/>
            <a:pathLst>
              <a:path w="450" h="433">
                <a:moveTo>
                  <a:pt x="0" y="0"/>
                </a:moveTo>
                <a:cubicBezTo>
                  <a:pt x="49" y="13"/>
                  <a:pt x="44" y="31"/>
                  <a:pt x="88" y="44"/>
                </a:cubicBezTo>
                <a:cubicBezTo>
                  <a:pt x="116" y="63"/>
                  <a:pt x="137" y="90"/>
                  <a:pt x="167" y="106"/>
                </a:cubicBezTo>
                <a:cubicBezTo>
                  <a:pt x="190" y="119"/>
                  <a:pt x="238" y="141"/>
                  <a:pt x="238" y="141"/>
                </a:cubicBezTo>
                <a:cubicBezTo>
                  <a:pt x="291" y="225"/>
                  <a:pt x="213" y="106"/>
                  <a:pt x="282" y="194"/>
                </a:cubicBezTo>
                <a:cubicBezTo>
                  <a:pt x="361" y="295"/>
                  <a:pt x="293" y="209"/>
                  <a:pt x="326" y="274"/>
                </a:cubicBezTo>
                <a:cubicBezTo>
                  <a:pt x="345" y="311"/>
                  <a:pt x="382" y="346"/>
                  <a:pt x="405" y="380"/>
                </a:cubicBezTo>
                <a:cubicBezTo>
                  <a:pt x="416" y="396"/>
                  <a:pt x="428" y="433"/>
                  <a:pt x="450" y="433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80000" y="4729320"/>
            <a:ext cx="857520" cy="755640"/>
          </a:xfrm>
          <a:custGeom>
            <a:avLst/>
            <a:gdLst/>
            <a:ahLst/>
            <a:rect l="l" t="t" r="r" b="b"/>
            <a:pathLst>
              <a:path w="462" h="406">
                <a:moveTo>
                  <a:pt x="4" y="406"/>
                </a:moveTo>
                <a:cubicBezTo>
                  <a:pt x="20" y="343"/>
                  <a:pt x="0" y="396"/>
                  <a:pt x="48" y="336"/>
                </a:cubicBezTo>
                <a:cubicBezTo>
                  <a:pt x="146" y="213"/>
                  <a:pt x="10" y="356"/>
                  <a:pt x="136" y="230"/>
                </a:cubicBezTo>
                <a:cubicBezTo>
                  <a:pt x="165" y="201"/>
                  <a:pt x="158" y="220"/>
                  <a:pt x="189" y="203"/>
                </a:cubicBezTo>
                <a:cubicBezTo>
                  <a:pt x="229" y="181"/>
                  <a:pt x="253" y="155"/>
                  <a:pt x="295" y="142"/>
                </a:cubicBezTo>
                <a:cubicBezTo>
                  <a:pt x="313" y="130"/>
                  <a:pt x="333" y="121"/>
                  <a:pt x="348" y="106"/>
                </a:cubicBezTo>
                <a:cubicBezTo>
                  <a:pt x="385" y="69"/>
                  <a:pt x="415" y="25"/>
                  <a:pt x="462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13560" y="4729320"/>
            <a:ext cx="4269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53080" y="4818240"/>
            <a:ext cx="1771560" cy="8856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140680" y="4976640"/>
            <a:ext cx="442800" cy="33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424280" y="5172120"/>
            <a:ext cx="709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23960" y="285840"/>
            <a:ext cx="84200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rinciple of Total Prob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t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…,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e a set of mutually exclusive and collectiv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haustive eve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w let B b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n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vent in S. The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538960" y="2641680"/>
          <a:ext cx="214920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8960" y="2641680"/>
                    <a:ext cx="21492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5304240" y="4729320"/>
            <a:ext cx="386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922480" y="2084400"/>
                <a:ext cx="33577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919240" y="2668680"/>
                <a:ext cx="1711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/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723960" y="1486080"/>
            <a:ext cx="84200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4770360"/>
            <a:ext cx="1216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[B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38320" y="4770360"/>
            <a:ext cx="1578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 Pr[B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4520" y="4896000"/>
            <a:ext cx="395280" cy="501480"/>
          </a:xfrm>
          <a:custGeom>
            <a:avLst/>
            <a:gdLst/>
            <a:ahLst/>
            <a:rect l="l" t="t" r="r" b="b"/>
            <a:pathLst>
              <a:path w="249" h="316">
                <a:moveTo>
                  <a:pt x="249" y="0"/>
                </a:moveTo>
                <a:lnTo>
                  <a:pt x="188" y="22"/>
                </a:lnTo>
                <a:lnTo>
                  <a:pt x="125" y="55"/>
                </a:lnTo>
                <a:lnTo>
                  <a:pt x="69" y="94"/>
                </a:lnTo>
                <a:lnTo>
                  <a:pt x="30" y="139"/>
                </a:lnTo>
                <a:lnTo>
                  <a:pt x="6" y="190"/>
                </a:lnTo>
                <a:lnTo>
                  <a:pt x="0" y="246"/>
                </a:lnTo>
                <a:lnTo>
                  <a:pt x="9" y="288"/>
                </a:lnTo>
                <a:lnTo>
                  <a:pt x="23" y="316"/>
                </a:lnTo>
                <a:lnTo>
                  <a:pt x="65" y="280"/>
                </a:lnTo>
                <a:lnTo>
                  <a:pt x="122" y="223"/>
                </a:lnTo>
                <a:lnTo>
                  <a:pt x="170" y="166"/>
                </a:lnTo>
                <a:lnTo>
                  <a:pt x="209" y="103"/>
                </a:lnTo>
                <a:lnTo>
                  <a:pt x="240" y="33"/>
                </a:lnTo>
                <a:lnTo>
                  <a:pt x="249" y="0"/>
                </a:lnTo>
                <a:close/>
              </a:path>
            </a:pathLst>
          </a:custGeom>
          <a:solidFill>
            <a:srgbClr val="d3e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97360" y="5122800"/>
            <a:ext cx="905040" cy="579600"/>
          </a:xfrm>
          <a:custGeom>
            <a:avLst/>
            <a:gdLst/>
            <a:ahLst/>
            <a:rect l="l" t="t" r="r" b="b"/>
            <a:pathLst>
              <a:path w="570" h="365">
                <a:moveTo>
                  <a:pt x="570" y="365"/>
                </a:moveTo>
                <a:lnTo>
                  <a:pt x="528" y="293"/>
                </a:lnTo>
                <a:lnTo>
                  <a:pt x="537" y="285"/>
                </a:lnTo>
                <a:lnTo>
                  <a:pt x="457" y="189"/>
                </a:lnTo>
                <a:lnTo>
                  <a:pt x="436" y="165"/>
                </a:lnTo>
                <a:lnTo>
                  <a:pt x="331" y="111"/>
                </a:lnTo>
                <a:lnTo>
                  <a:pt x="265" y="51"/>
                </a:lnTo>
                <a:lnTo>
                  <a:pt x="231" y="42"/>
                </a:lnTo>
                <a:lnTo>
                  <a:pt x="187" y="9"/>
                </a:lnTo>
                <a:lnTo>
                  <a:pt x="159" y="0"/>
                </a:lnTo>
                <a:lnTo>
                  <a:pt x="118" y="57"/>
                </a:lnTo>
                <a:lnTo>
                  <a:pt x="75" y="104"/>
                </a:lnTo>
                <a:lnTo>
                  <a:pt x="0" y="173"/>
                </a:lnTo>
                <a:lnTo>
                  <a:pt x="43" y="221"/>
                </a:lnTo>
                <a:lnTo>
                  <a:pt x="103" y="264"/>
                </a:lnTo>
                <a:lnTo>
                  <a:pt x="154" y="293"/>
                </a:lnTo>
                <a:lnTo>
                  <a:pt x="249" y="327"/>
                </a:lnTo>
                <a:lnTo>
                  <a:pt x="357" y="351"/>
                </a:lnTo>
                <a:lnTo>
                  <a:pt x="462" y="362"/>
                </a:lnTo>
                <a:lnTo>
                  <a:pt x="570" y="365"/>
                </a:lnTo>
                <a:close/>
              </a:path>
            </a:pathLst>
          </a:custGeom>
          <a:solidFill>
            <a:srgbClr val="d3e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70720" y="60181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91240" y="4889520"/>
            <a:ext cx="361800" cy="509400"/>
          </a:xfrm>
          <a:custGeom>
            <a:avLst/>
            <a:gdLst/>
            <a:ahLst/>
            <a:rect l="l" t="t" r="r" b="b"/>
            <a:pathLst>
              <a:path w="228" h="321">
                <a:moveTo>
                  <a:pt x="228" y="0"/>
                </a:moveTo>
                <a:lnTo>
                  <a:pt x="207" y="61"/>
                </a:lnTo>
                <a:lnTo>
                  <a:pt x="171" y="129"/>
                </a:lnTo>
                <a:lnTo>
                  <a:pt x="137" y="180"/>
                </a:lnTo>
                <a:lnTo>
                  <a:pt x="92" y="234"/>
                </a:lnTo>
                <a:lnTo>
                  <a:pt x="35" y="288"/>
                </a:lnTo>
                <a:lnTo>
                  <a:pt x="0" y="321"/>
                </a:ln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943600" y="5124600"/>
            <a:ext cx="650880" cy="576000"/>
          </a:xfrm>
          <a:custGeom>
            <a:avLst/>
            <a:gdLst/>
            <a:ahLst/>
            <a:rect l="l" t="t" r="r" b="b"/>
            <a:pathLst>
              <a:path w="410" h="363">
                <a:moveTo>
                  <a:pt x="0" y="0"/>
                </a:moveTo>
                <a:lnTo>
                  <a:pt x="39" y="12"/>
                </a:lnTo>
                <a:lnTo>
                  <a:pt x="78" y="44"/>
                </a:lnTo>
                <a:lnTo>
                  <a:pt x="108" y="53"/>
                </a:lnTo>
                <a:lnTo>
                  <a:pt x="158" y="95"/>
                </a:lnTo>
                <a:lnTo>
                  <a:pt x="182" y="114"/>
                </a:lnTo>
                <a:lnTo>
                  <a:pt x="233" y="143"/>
                </a:lnTo>
                <a:lnTo>
                  <a:pt x="284" y="165"/>
                </a:lnTo>
                <a:lnTo>
                  <a:pt x="303" y="198"/>
                </a:lnTo>
                <a:lnTo>
                  <a:pt x="314" y="201"/>
                </a:lnTo>
                <a:lnTo>
                  <a:pt x="378" y="285"/>
                </a:lnTo>
                <a:lnTo>
                  <a:pt x="371" y="294"/>
                </a:lnTo>
                <a:lnTo>
                  <a:pt x="410" y="363"/>
                </a:ln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5040" y="4927680"/>
            <a:ext cx="639720" cy="576360"/>
          </a:xfrm>
          <a:custGeom>
            <a:avLst/>
            <a:gdLst/>
            <a:ahLst/>
            <a:rect l="l" t="t" r="r" b="b"/>
            <a:pathLst>
              <a:path w="403" h="363">
                <a:moveTo>
                  <a:pt x="403" y="0"/>
                </a:moveTo>
                <a:lnTo>
                  <a:pt x="352" y="36"/>
                </a:lnTo>
                <a:lnTo>
                  <a:pt x="307" y="55"/>
                </a:lnTo>
                <a:lnTo>
                  <a:pt x="204" y="121"/>
                </a:lnTo>
                <a:lnTo>
                  <a:pt x="174" y="126"/>
                </a:lnTo>
                <a:lnTo>
                  <a:pt x="93" y="204"/>
                </a:lnTo>
                <a:lnTo>
                  <a:pt x="94" y="214"/>
                </a:lnTo>
                <a:lnTo>
                  <a:pt x="36" y="291"/>
                </a:lnTo>
                <a:lnTo>
                  <a:pt x="12" y="309"/>
                </a:lnTo>
                <a:lnTo>
                  <a:pt x="0" y="363"/>
                </a:ln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483D-03C2-46C6-96FB-CED652FFC7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14240" y="914400"/>
            <a:ext cx="84297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dependence of Events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events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 said to be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tistically independ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nd only 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= Pr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Pr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situation claims that events are “independent,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the one and only test.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421-E4DC-4FE7-91D1-E4E5EC9D73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762120" y="277920"/>
            <a:ext cx="838188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Reliability Calc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ies connection of switch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ume that switch failures ar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depend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; and fail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s in an open conne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= {no connection between x and y} = 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obability that the connection fail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[F] =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=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+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-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+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-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(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independ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p + p -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2p -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020680" y="1719360"/>
            <a:ext cx="5083560" cy="496800"/>
            <a:chOff x="2020680" y="1719360"/>
            <a:chExt cx="5083560" cy="496800"/>
          </a:xfrm>
        </p:grpSpPr>
        <p:sp>
          <p:nvSpPr>
            <p:cNvPr id="356" name=""/>
            <p:cNvSpPr/>
            <p:nvPr/>
          </p:nvSpPr>
          <p:spPr>
            <a:xfrm>
              <a:off x="3039840" y="1719360"/>
              <a:ext cx="976320" cy="496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68720" y="1719360"/>
              <a:ext cx="993960" cy="496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03560" y="2009880"/>
              <a:ext cx="965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51520" y="1990800"/>
              <a:ext cx="866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14520" y="1982880"/>
              <a:ext cx="620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21280" y="1798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20680" y="1798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62120" y="442800"/>
            <a:ext cx="83818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07D-CD5B-48F7-9F13-4113CA3F87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762120" y="306360"/>
            <a:ext cx="838188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Reliability Calc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llel Connection of swit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{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ails},   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= p,   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= 1 - p =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{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ails},   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= p,   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= 1 - p =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= {no connection between x and y} = 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obability that the connection fail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[F] =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=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 =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(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independ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572920" y="1847880"/>
            <a:ext cx="4034160" cy="1444680"/>
            <a:chOff x="2572920" y="1847880"/>
            <a:chExt cx="4034160" cy="1444680"/>
          </a:xfrm>
        </p:grpSpPr>
        <p:sp>
          <p:nvSpPr>
            <p:cNvPr id="366" name=""/>
            <p:cNvSpPr/>
            <p:nvPr/>
          </p:nvSpPr>
          <p:spPr>
            <a:xfrm>
              <a:off x="4044960" y="1847880"/>
              <a:ext cx="995400" cy="504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1720" y="2787480"/>
              <a:ext cx="1012680" cy="505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4120" y="2373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08120" y="2116080"/>
              <a:ext cx="63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06680" y="3035160"/>
              <a:ext cx="63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92280" y="2117520"/>
              <a:ext cx="0" cy="9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038200" y="3017160"/>
              <a:ext cx="6318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5030280" y="2097720"/>
              <a:ext cx="6318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5658480" y="2108160"/>
              <a:ext cx="11520" cy="9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65680" y="2533680"/>
              <a:ext cx="65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8480" y="2570040"/>
              <a:ext cx="523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72920" y="23684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ED9-3A56-4B4E-8EF5-0D4978FC62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62120" y="590400"/>
            <a:ext cx="8381880" cy="59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binatio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 a simple switching network as follow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{switch 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s open},  k = 1,2,3,4       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=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t   F = {no connection between x and y} = (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137600" y="2052720"/>
            <a:ext cx="6772680" cy="1279440"/>
            <a:chOff x="1137600" y="2052720"/>
            <a:chExt cx="6772680" cy="1279440"/>
          </a:xfrm>
        </p:grpSpPr>
        <p:sp>
          <p:nvSpPr>
            <p:cNvPr id="380" name=""/>
            <p:cNvSpPr/>
            <p:nvPr/>
          </p:nvSpPr>
          <p:spPr>
            <a:xfrm>
              <a:off x="1515960" y="2913120"/>
              <a:ext cx="571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87280" y="2506680"/>
              <a:ext cx="0" cy="82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87280" y="2525760"/>
              <a:ext cx="97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03120" y="3278160"/>
              <a:ext cx="1766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84360" y="2525760"/>
              <a:ext cx="1377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3063600" y="2425320"/>
              <a:ext cx="50472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81400" y="2525760"/>
              <a:ext cx="100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06520" y="3282840"/>
              <a:ext cx="198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868560" y="3179520"/>
              <a:ext cx="504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4743360" y="2438280"/>
              <a:ext cx="504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87960" y="2520720"/>
              <a:ext cx="0" cy="77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90840" y="2878200"/>
              <a:ext cx="52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48360" y="2878200"/>
              <a:ext cx="672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625800" y="2771640"/>
              <a:ext cx="5050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94120" y="2054160"/>
              <a:ext cx="352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741920" y="2052720"/>
              <a:ext cx="352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32560" y="2792160"/>
              <a:ext cx="352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07440" y="2373120"/>
              <a:ext cx="352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7600" y="2711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27320" y="2681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068-7249-4666-8D89-DB22A6371E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97040" y="857160"/>
            <a:ext cx="66643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mple Space and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340000" y="2227320"/>
            <a:ext cx="4254120" cy="3690720"/>
            <a:chOff x="2340000" y="2227320"/>
            <a:chExt cx="4254120" cy="3690720"/>
          </a:xfrm>
        </p:grpSpPr>
        <p:sp>
          <p:nvSpPr>
            <p:cNvPr id="152" name=""/>
            <p:cNvSpPr/>
            <p:nvPr/>
          </p:nvSpPr>
          <p:spPr>
            <a:xfrm rot="20218200">
              <a:off x="3795840" y="4322880"/>
              <a:ext cx="1211040" cy="712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05400" y="4610160"/>
              <a:ext cx="1211040" cy="611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07880" y="46753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09320" y="44877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27960" y="2739960"/>
              <a:ext cx="49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●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62520" y="37544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ven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940280" y="4071960"/>
              <a:ext cx="846000" cy="37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427360" y="4100400"/>
              <a:ext cx="315720" cy="536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25840" y="37987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ligraphyNew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40000" y="2227320"/>
              <a:ext cx="3848040" cy="3690720"/>
            </a:xfrm>
            <a:custGeom>
              <a:avLst/>
              <a:gdLst/>
              <a:ahLst/>
              <a:rect l="l" t="t" r="r" b="b"/>
              <a:pathLst>
                <a:path w="1761" h="2022">
                  <a:moveTo>
                    <a:pt x="124" y="853"/>
                  </a:moveTo>
                  <a:cubicBezTo>
                    <a:pt x="31" y="716"/>
                    <a:pt x="0" y="576"/>
                    <a:pt x="41" y="497"/>
                  </a:cubicBezTo>
                  <a:cubicBezTo>
                    <a:pt x="82" y="418"/>
                    <a:pt x="276" y="418"/>
                    <a:pt x="371" y="378"/>
                  </a:cubicBezTo>
                  <a:cubicBezTo>
                    <a:pt x="466" y="338"/>
                    <a:pt x="541" y="311"/>
                    <a:pt x="608" y="259"/>
                  </a:cubicBezTo>
                  <a:cubicBezTo>
                    <a:pt x="675" y="207"/>
                    <a:pt x="695" y="99"/>
                    <a:pt x="773" y="67"/>
                  </a:cubicBezTo>
                  <a:cubicBezTo>
                    <a:pt x="851" y="35"/>
                    <a:pt x="990" y="0"/>
                    <a:pt x="1075" y="67"/>
                  </a:cubicBezTo>
                  <a:cubicBezTo>
                    <a:pt x="1160" y="134"/>
                    <a:pt x="1235" y="320"/>
                    <a:pt x="1285" y="469"/>
                  </a:cubicBezTo>
                  <a:cubicBezTo>
                    <a:pt x="1335" y="618"/>
                    <a:pt x="1303" y="820"/>
                    <a:pt x="1376" y="963"/>
                  </a:cubicBezTo>
                  <a:cubicBezTo>
                    <a:pt x="1449" y="1106"/>
                    <a:pt x="1687" y="1187"/>
                    <a:pt x="1724" y="1329"/>
                  </a:cubicBezTo>
                  <a:cubicBezTo>
                    <a:pt x="1761" y="1471"/>
                    <a:pt x="1742" y="1699"/>
                    <a:pt x="1596" y="1813"/>
                  </a:cubicBezTo>
                  <a:cubicBezTo>
                    <a:pt x="1450" y="1927"/>
                    <a:pt x="1021" y="2022"/>
                    <a:pt x="846" y="2014"/>
                  </a:cubicBezTo>
                  <a:cubicBezTo>
                    <a:pt x="671" y="2006"/>
                    <a:pt x="585" y="1883"/>
                    <a:pt x="544" y="1767"/>
                  </a:cubicBezTo>
                  <a:cubicBezTo>
                    <a:pt x="503" y="1651"/>
                    <a:pt x="669" y="1470"/>
                    <a:pt x="599" y="1319"/>
                  </a:cubicBezTo>
                  <a:cubicBezTo>
                    <a:pt x="529" y="1168"/>
                    <a:pt x="217" y="990"/>
                    <a:pt x="124" y="85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417-2B0D-4B06-B960-6A6385203A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762120" y="847800"/>
            <a:ext cx="8381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) Find the probability that the path between x and y is establish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obability of path failure is given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[F] = Pr[(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+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-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+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+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-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-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+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p +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p + 2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3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3560" y="3894120"/>
            <a:ext cx="73422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+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Pr[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+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+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+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-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Pr[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] - Pr[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] + Pr[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128240" y="976320"/>
            <a:ext cx="6772680" cy="1279440"/>
            <a:chOff x="1128240" y="976320"/>
            <a:chExt cx="6772680" cy="1279440"/>
          </a:xfrm>
        </p:grpSpPr>
        <p:sp>
          <p:nvSpPr>
            <p:cNvPr id="403" name=""/>
            <p:cNvSpPr/>
            <p:nvPr/>
          </p:nvSpPr>
          <p:spPr>
            <a:xfrm>
              <a:off x="1506600" y="1836720"/>
              <a:ext cx="571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77920" y="1430280"/>
              <a:ext cx="0" cy="82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77920" y="1449360"/>
              <a:ext cx="97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93760" y="2201760"/>
              <a:ext cx="1766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75000" y="1449360"/>
              <a:ext cx="1377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054240" y="1348920"/>
              <a:ext cx="50472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72040" y="1449360"/>
              <a:ext cx="100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97160" y="2206440"/>
              <a:ext cx="198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859200" y="2103120"/>
              <a:ext cx="504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4734000" y="1361880"/>
              <a:ext cx="504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78600" y="1444320"/>
              <a:ext cx="0" cy="77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81480" y="1801800"/>
              <a:ext cx="52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39000" y="1801800"/>
              <a:ext cx="672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616440" y="1695240"/>
              <a:ext cx="5050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84760" y="977760"/>
              <a:ext cx="352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32560" y="976320"/>
              <a:ext cx="352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23200" y="1715760"/>
              <a:ext cx="352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98080" y="1296720"/>
              <a:ext cx="352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28240" y="1635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17960" y="1604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4352760" y="3543480"/>
            <a:ext cx="3057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Pr[(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120" y="3895560"/>
            <a:ext cx="725796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[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-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+ Pr[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] + Pr[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] - Pr[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85880" y="277920"/>
            <a:ext cx="64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bination   Example          (cont’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8B8-9199-4F9A-AD62-32F7903A33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762120" y="685800"/>
            <a:ext cx="8381880" cy="64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) Find the probability that the path between x and y is establish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obability of path failure is given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[F] = Pr[(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+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-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+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+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-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-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+ Pr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p +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p + 2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3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desired probability is then given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[path established] = 1 - Pr[F] = 1 - p - 2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3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128240" y="814320"/>
            <a:ext cx="6772680" cy="1279440"/>
            <a:chOff x="1128240" y="814320"/>
            <a:chExt cx="6772680" cy="1279440"/>
          </a:xfrm>
        </p:grpSpPr>
        <p:sp>
          <p:nvSpPr>
            <p:cNvPr id="428" name=""/>
            <p:cNvSpPr/>
            <p:nvPr/>
          </p:nvSpPr>
          <p:spPr>
            <a:xfrm>
              <a:off x="1506600" y="1674720"/>
              <a:ext cx="571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77920" y="1268280"/>
              <a:ext cx="0" cy="82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77920" y="1287360"/>
              <a:ext cx="97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93760" y="2039760"/>
              <a:ext cx="1766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75000" y="1287360"/>
              <a:ext cx="1377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54240" y="1186920"/>
              <a:ext cx="50472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72040" y="1287360"/>
              <a:ext cx="100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97160" y="2044440"/>
              <a:ext cx="198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859200" y="1941120"/>
              <a:ext cx="504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734000" y="1199880"/>
              <a:ext cx="504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78600" y="1282320"/>
              <a:ext cx="0" cy="77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81480" y="1639800"/>
              <a:ext cx="52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39000" y="1639800"/>
              <a:ext cx="672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6616440" y="1533240"/>
              <a:ext cx="5050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84760" y="815760"/>
              <a:ext cx="352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32560" y="814320"/>
              <a:ext cx="352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23200" y="1553760"/>
              <a:ext cx="352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98080" y="1134720"/>
              <a:ext cx="352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28240" y="1473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17960" y="144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352760" y="3381480"/>
            <a:ext cx="3057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Pr[(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85880" y="277920"/>
            <a:ext cx="64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bination   Example          (cont’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A20-574E-46B0-91C5-060AC88FEC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762120" y="952560"/>
            <a:ext cx="838188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ability as a function of parameter ‘p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- Pr[F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88290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989802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998998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000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99989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52800" y="2241720"/>
            <a:ext cx="699120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57360" y="302256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64240" y="1784520"/>
            <a:ext cx="67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[path established] = 1 - Pr[F] = 1 - p - 2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3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F79-6146-4977-8001-AF0E0699A6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533520" y="1270080"/>
            <a:ext cx="834372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eated Independent Trials  (Bernoulli Tri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andom experiment, E, consists of several sub-experi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trials,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sub-experiments have the same sample space,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nts from all sub-experiments are mutually independ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= Pr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Pr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Pr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...Pr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an event from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ple space of E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=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3520" y="2720880"/>
            <a:ext cx="8343720" cy="33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3e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All sub-experiments have the same sample space, S</a:t>
            </a:r>
            <a:r>
              <a:rPr b="0" lang="en-US" sz="2400" spc="-1" strike="noStrike" baseline="-25000">
                <a:solidFill>
                  <a:srgbClr val="d3e61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3e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Events from all sub-experiments are mutually independ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Pr[A</a:t>
            </a:r>
            <a:r>
              <a:rPr b="0" lang="en-US" sz="2400" spc="-1" strike="noStrike" baseline="-25000">
                <a:solidFill>
                  <a:srgbClr val="d3e61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3e61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3e61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...A</a:t>
            </a:r>
            <a:r>
              <a:rPr b="0" lang="en-US" sz="2400" spc="-1" strike="noStrike" baseline="-25000">
                <a:solidFill>
                  <a:srgbClr val="d3e61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] = Pr[A</a:t>
            </a:r>
            <a:r>
              <a:rPr b="0" lang="en-US" sz="2400" spc="-1" strike="noStrike" baseline="-25000">
                <a:solidFill>
                  <a:srgbClr val="d3e61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]Pr[A</a:t>
            </a:r>
            <a:r>
              <a:rPr b="0" lang="en-US" sz="2400" spc="-1" strike="noStrike" baseline="-25000">
                <a:solidFill>
                  <a:srgbClr val="d3e61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]Pr[A</a:t>
            </a:r>
            <a:r>
              <a:rPr b="0" lang="en-US" sz="2400" spc="-1" strike="noStrike" baseline="-25000">
                <a:solidFill>
                  <a:srgbClr val="d3e61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]...Pr[A</a:t>
            </a:r>
            <a:r>
              <a:rPr b="0" lang="en-US" sz="2400" spc="-1" strike="noStrike" baseline="-25000">
                <a:solidFill>
                  <a:srgbClr val="d3e61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]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where A</a:t>
            </a:r>
            <a:r>
              <a:rPr b="0" lang="en-US" sz="2400" spc="-1" strike="noStrike" baseline="-25000">
                <a:solidFill>
                  <a:srgbClr val="d3e61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 is an event from S</a:t>
            </a:r>
            <a:r>
              <a:rPr b="0" lang="en-US" sz="2400" spc="-1" strike="noStrike" baseline="-25000">
                <a:solidFill>
                  <a:srgbClr val="d3e61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3e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The sample space of E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S = S</a:t>
            </a:r>
            <a:r>
              <a:rPr b="0" lang="en-US" sz="2400" spc="-1" strike="noStrike" baseline="-25000">
                <a:solidFill>
                  <a:srgbClr val="d3e61c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d3e61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 S</a:t>
            </a:r>
            <a:r>
              <a:rPr b="0" lang="en-US" sz="2400" spc="-1" strike="noStrike" baseline="-25000">
                <a:solidFill>
                  <a:srgbClr val="d3e61c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d3e61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 S</a:t>
            </a:r>
            <a:r>
              <a:rPr b="0" lang="en-US" sz="2400" spc="-1" strike="noStrike" baseline="-25000">
                <a:solidFill>
                  <a:srgbClr val="d3e61c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d3e61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d3e61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d3e61c"/>
                </a:solidFill>
                <a:latin typeface="Times New Roman"/>
              </a:rPr>
              <a:t> S</a:t>
            </a:r>
            <a:r>
              <a:rPr b="0" lang="en-US" sz="2400" spc="-1" strike="noStrike" baseline="-25000">
                <a:solidFill>
                  <a:srgbClr val="d3e61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7B7-F582-4889-B98E-EC9B438A4A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89000" y="1598760"/>
            <a:ext cx="8780400" cy="38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equence of 4 bits is transmitted over a channel.  Bit errors occur with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ility 0.05.  What is the sample space and what are the probabiliti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the outcomes?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a single bit we have 2 sub-events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rr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[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0.95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[E] = 0.05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ample space and probabilities are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611280"/>
            <a:ext cx="68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ample of Bernoulli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266840" y="4884840"/>
          <a:ext cx="7507440" cy="1373040"/>
        </p:xfrm>
        <a:graphic>
          <a:graphicData uri="http://schemas.openxmlformats.org/drawingml/2006/table">
            <a:tbl>
              <a:tblPr/>
              <a:tblGrid>
                <a:gridCol w="927360"/>
                <a:gridCol w="1492200"/>
                <a:gridCol w="2104920"/>
                <a:gridCol w="1574640"/>
                <a:gridCol w="412920"/>
                <a:gridCol w="995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ΦΦΦ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ΦΦΦ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ΦΦ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ΦΦ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E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95)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95)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95)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5)(0.9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95)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5)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5)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1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4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4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0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25E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685-5B3C-4DEA-8BFB-D804DD2867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581040" y="685800"/>
            <a:ext cx="84200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unting Methods and Probabill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ssignment of probability is given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rule of produc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 an experiment with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utcomes; repeat it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im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total number of outcomes is given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 in the general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908520" y="51274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521000" y="2035080"/>
          <a:ext cx="598464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1000" y="2035080"/>
                    <a:ext cx="598464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3605040" y="4629240"/>
          <a:ext cx="193212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05040" y="4629240"/>
                    <a:ext cx="19321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3586320" y="5286240"/>
          <a:ext cx="193176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6320" y="5286240"/>
                    <a:ext cx="193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705-4708-4D45-BC32-542108ADC0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723960" y="581040"/>
            <a:ext cx="84200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ll a die 4 times sequentially. The total number of outcomes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 5-letter words using 26 English alphabet characters. Character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be repeated, and the words so formed do not have to be meaningfu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uct variable names of length 3 using a letter, a number, and a let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, A2C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3525840" y="3990960"/>
                <a:ext cx="20844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8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3948120" y="5489640"/>
                <a:ext cx="12542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3289320" y="2179800"/>
                <a:ext cx="2612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96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018-62E7-4EBB-91E2-2DC87B7002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762120" y="685800"/>
            <a:ext cx="838188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m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products without replac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bjects from among a given set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inct obj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w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y attention to the or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which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 select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special cas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 = 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946680" y="55087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722680" y="3351240"/>
                <a:ext cx="439740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⋯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for  </m:t>
                        </m:r>
                        <m:r>
                          <m:t xml:space="preserve">r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100480" y="5383080"/>
                <a:ext cx="1203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439-9BDD-40CA-8A8E-7B2A02399C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762120" y="895320"/>
            <a:ext cx="838188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mutatio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 5-letter words using the English alphabet. The charac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n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 repeated, and the words do not have to be meaningfu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tal number of words that can be formed is: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646280" y="3513240"/>
                <a:ext cx="603864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9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E9D-64C0-41AC-A8FC-45E49D48FA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787320" y="965160"/>
            <a:ext cx="83566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bi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bjects from among a given set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inct obj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w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y no attention to the or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which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 sel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557360" y="3524400"/>
          <a:ext cx="600696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7360" y="3524400"/>
                    <a:ext cx="60069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1930320" y="51274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omial coefficient       “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hoo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D18-DE50-49DD-A986-5B379055C8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36560" y="971640"/>
            <a:ext cx="84074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ents and Event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rtain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ll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…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r defined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ion operation   (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section operation (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lement 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6560" y="1349280"/>
            <a:ext cx="840744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rtain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ll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…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r defined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ion operation   (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section operation (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lement 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C99-8B85-41E4-94A2-10CD338186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787320" y="546120"/>
            <a:ext cx="835668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mutations and Combinations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 5 workstations having equal capabilities: {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, b, c, d, 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ermuta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elect two workstations where one will be a serv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the other a graphics workstation. The possible selection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ba  ac  ca  ad  da  ae  ea  bc  cb  bd  db  be  eb  cd  dc  ce ec  de  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ombina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elect two workstations where both will be use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 graphics workstations. The possible selection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c   ad   ae   bc   bd   be   cd   ce  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176560" y="3149640"/>
          <a:ext cx="248292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6560" y="3149640"/>
                    <a:ext cx="24829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20840" y="5421240"/>
                <a:ext cx="27957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5695920" y="3200400"/>
            <a:ext cx="131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b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ba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936040" y="5522760"/>
            <a:ext cx="12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b = ba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75F6-570F-4028-AFA4-5407189DFD5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480960" y="542880"/>
            <a:ext cx="818208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 marL="319680" indent="-31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ying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 plan to buy 5 personal computers. The computer store has a stock of 10 foreign-made PCs and 15 US-made PCs that meet our specification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) Assuming that the 5 computers are randomly chosen from this lot, wha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is the probability that exactly 3 US-made computers are selecte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3800" indent="-319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ample space is given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624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 = {combinations of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5 chosen fro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25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624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3800" indent="-319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03800" indent="-319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desired event A = {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xactl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3 of the 5 selected are US-made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921040" y="4013280"/>
                <a:ext cx="25718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2282760" y="5322960"/>
                <a:ext cx="41734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682-2E2B-4CF4-974D-E937DAF128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743040" y="1009800"/>
            <a:ext cx="8400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ying Computers     (cont’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obability that we have 3 US-made computers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569960" y="2543040"/>
          <a:ext cx="6002280" cy="23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9960" y="2543040"/>
                    <a:ext cx="6002280" cy="23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1733400" y="5238720"/>
            <a:ext cx="8401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Hyper geometric distributio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0E8-E113-45F0-8A05-869C22CBD6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743040" y="828720"/>
            <a:ext cx="840096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ying Computers     (cont’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b)  Assuming that the 5 computers are randomly chosen from this lot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hat is the probability that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t lea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1 is foreign made?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desired event B = {one or more of the 5 are foreign made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t event C = {none of the 5 selected computers is foreign-made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ce B = C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we can write Pr[B] = 1 - Pr[C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274760" y="3541680"/>
          <a:ext cx="7392960" cy="20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3541680"/>
                    <a:ext cx="739296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58F-1EF3-410D-860A-74BF8CD546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561960" y="122400"/>
            <a:ext cx="834408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 a box of 25 modem chips; 5 of them are known to be defectiv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lect 6 from the box at random and test them. What is the probabilit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exactly 2 are defectiv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 Space: S = {combinations of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6 chosen fro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25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ent:  A = {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xactl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 of the 6 selected chips are defective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number of outcomes in S is given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selected 6 chips, we are interested in the case, where 2 are defective (i.e., they are from the 5 defective chips in the box)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 are non-defective (i.e., they are from the 20 non-defective chip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the box).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3030480" y="3989520"/>
                <a:ext cx="307980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DA8-2252-4D91-A215-1753425A2E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800280" y="750960"/>
            <a:ext cx="834372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ample     (cont’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number of outcomes in A is given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obability that exactly 2 of the 6 selected chips are defective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2330280" y="1903320"/>
                <a:ext cx="448344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!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01" name=""/>
          <p:cNvGraphicFramePr/>
          <p:nvPr/>
        </p:nvGraphicFramePr>
        <p:xfrm>
          <a:off x="1641600" y="3597120"/>
          <a:ext cx="71625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1600" y="3597120"/>
                    <a:ext cx="71625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1ED-849D-49F3-AEEC-CE428465176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5043600" y="2616120"/>
            <a:ext cx="2643120" cy="1225800"/>
          </a:xfrm>
          <a:prstGeom prst="rect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89440" y="2952720"/>
            <a:ext cx="693720" cy="6937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3040" y="723960"/>
            <a:ext cx="84009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ditional Prob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ability of occurrence of one event (say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subject to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ledge that another event (say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has occur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|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is read as “probability of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iven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0920" y="3110040"/>
            <a:ext cx="386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469560" y="3122640"/>
            <a:ext cx="386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242480" y="2664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263600" y="2814480"/>
          <a:ext cx="313236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2814480"/>
                    <a:ext cx="313236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1292400" y="5473800"/>
          <a:ext cx="6556320" cy="8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2400" y="5473800"/>
                    <a:ext cx="65563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6199200" y="3070080"/>
            <a:ext cx="182520" cy="471600"/>
          </a:xfrm>
          <a:custGeom>
            <a:avLst/>
            <a:gdLst/>
            <a:ahLst/>
            <a:rect l="l" t="t" r="r" b="b"/>
            <a:pathLst>
              <a:path w="115" h="297">
                <a:moveTo>
                  <a:pt x="52" y="297"/>
                </a:moveTo>
                <a:lnTo>
                  <a:pt x="27" y="261"/>
                </a:lnTo>
                <a:lnTo>
                  <a:pt x="4" y="202"/>
                </a:lnTo>
                <a:lnTo>
                  <a:pt x="0" y="153"/>
                </a:lnTo>
                <a:lnTo>
                  <a:pt x="4" y="106"/>
                </a:lnTo>
                <a:lnTo>
                  <a:pt x="30" y="43"/>
                </a:lnTo>
                <a:lnTo>
                  <a:pt x="61" y="0"/>
                </a:lnTo>
                <a:lnTo>
                  <a:pt x="82" y="27"/>
                </a:lnTo>
                <a:lnTo>
                  <a:pt x="102" y="66"/>
                </a:lnTo>
                <a:lnTo>
                  <a:pt x="115" y="120"/>
                </a:lnTo>
                <a:lnTo>
                  <a:pt x="115" y="157"/>
                </a:lnTo>
                <a:lnTo>
                  <a:pt x="105" y="216"/>
                </a:lnTo>
                <a:lnTo>
                  <a:pt x="82" y="262"/>
                </a:lnTo>
                <a:lnTo>
                  <a:pt x="52" y="297"/>
                </a:lnTo>
                <a:close/>
              </a:path>
            </a:pathLst>
          </a:custGeom>
          <a:solidFill>
            <a:srgbClr val="d3e61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199200" y="2970360"/>
            <a:ext cx="693720" cy="693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5"/>
          <a:stretch/>
        </p:blipFill>
        <p:spPr>
          <a:xfrm>
            <a:off x="6194520" y="2963880"/>
            <a:ext cx="717480" cy="7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C03-54D8-469E-B8F0-0B2FD89D17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781200" y="237960"/>
            <a:ext cx="83628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ditional Probability Examp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 a sequence of 3 binary numbers (occurring randoml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ple space:    S = {000, 001, 010, 011, 100, 101, 110, 111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the probability of more 1’s than 0’s given the first bit is a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wo ev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{more 1’s than 0’s} = {011, 101, 110, 111}   (0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{the first bit is a 1} = {100, 101, 110, 111}   (0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 interse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{101, 110, 111}  (0.37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444760" y="5518080"/>
          <a:ext cx="46735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760" y="5518080"/>
                    <a:ext cx="46735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758-631D-4784-93C7-48D94F49405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901800" y="771480"/>
            <a:ext cx="66643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nt Tree Used to Form a Sample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49240" y="2746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653200" y="5013360"/>
            <a:ext cx="4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111480" y="2287080"/>
            <a:ext cx="1116000" cy="67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11480" y="2962440"/>
            <a:ext cx="1114560" cy="676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111480" y="4564080"/>
            <a:ext cx="1116000" cy="67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122640" y="5251320"/>
            <a:ext cx="1114560" cy="67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542960" y="3006360"/>
            <a:ext cx="1038240" cy="1089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42960" y="4095720"/>
            <a:ext cx="1038240" cy="1090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74280" y="200484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289400" y="3400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289400" y="42829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278240" y="5746680"/>
            <a:ext cx="9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18938400">
            <a:off x="1426320" y="317160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[A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749000">
            <a:off x="3036240" y="3273480"/>
            <a:ext cx="8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[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|A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381280" y="3400560"/>
            <a:ext cx="27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[A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= Pr[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A] Pr[A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4928760" y="3670200"/>
            <a:ext cx="43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19797600">
            <a:off x="2985120" y="221580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[B|A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2813400">
            <a:off x="1489680" y="459720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[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19869000">
            <a:off x="3088080" y="4485960"/>
            <a:ext cx="106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[B|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825200">
            <a:off x="3043800" y="553356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[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CC9-8059-436A-99A0-9960FBF383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901800" y="771480"/>
            <a:ext cx="66643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utation of Prob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2171880" y="1328760"/>
            <a:ext cx="5207040" cy="4654080"/>
            <a:chOff x="2171880" y="1328760"/>
            <a:chExt cx="5207040" cy="4654080"/>
          </a:xfrm>
        </p:grpSpPr>
        <p:sp>
          <p:nvSpPr>
            <p:cNvPr id="542" name=""/>
            <p:cNvSpPr/>
            <p:nvPr/>
          </p:nvSpPr>
          <p:spPr>
            <a:xfrm>
              <a:off x="3253320" y="2793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67000" y="489672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3683160" y="2351160"/>
              <a:ext cx="1113480" cy="62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683160" y="2988000"/>
              <a:ext cx="1111320" cy="62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93960" y="4483440"/>
              <a:ext cx="1113120" cy="626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93960" y="5120640"/>
              <a:ext cx="1111320" cy="626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171880" y="3078720"/>
              <a:ext cx="1035000" cy="101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71880" y="4089960"/>
              <a:ext cx="1035000" cy="1010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92760" y="2117160"/>
              <a:ext cx="58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 R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96360" y="3429360"/>
              <a:ext cx="64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 R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98520" y="423972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c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92400" y="555372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c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09760" y="318816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/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64600" y="338040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.2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341800" y="459324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/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73240" y="21877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.7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64600" y="438948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.1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73240" y="553356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.8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829840" y="2106720"/>
              <a:ext cx="151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1/5)(0.75)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98520" y="3420720"/>
              <a:ext cx="151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1/5)(0.25)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97800" y="4229640"/>
              <a:ext cx="158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4/5)(0.15)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97800" y="5583960"/>
              <a:ext cx="158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4/5)(0.85)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53160" y="1328760"/>
              <a:ext cx="243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ampl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Space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Probabil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DFF-BB82-4E9E-A9CE-E06CACEE43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36560" y="933480"/>
            <a:ext cx="8407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 a sample space represented by  S = {1,2,3,4,5,6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t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{1,3,5},  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{1,2},   and 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{2,4,6} be user-defined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75280" y="4519440"/>
            <a:ext cx="2595600" cy="1546560"/>
          </a:xfrm>
          <a:prstGeom prst="rect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6360" y="4808520"/>
            <a:ext cx="1071360" cy="10429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9160" y="4987800"/>
            <a:ext cx="8830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{1, 3, 5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4120" y="5184720"/>
            <a:ext cx="8830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{2, 4, 6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3800" y="417204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 = {1,2,3,4,5,6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90800" y="3048120"/>
            <a:ext cx="270504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({1,3,5}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{1,2,4,6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{1,2,3,4,5,6} =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{1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{1,3,5} =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2960" y="301788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{2,4,6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7480" y="3049560"/>
            <a:ext cx="116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F9F-B4F1-40D0-BF4D-DF0389EDE8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2093040" y="622440"/>
            <a:ext cx="2225160" cy="2797920"/>
            <a:chOff x="2093040" y="622440"/>
            <a:chExt cx="2225160" cy="2797920"/>
          </a:xfrm>
        </p:grpSpPr>
        <p:sp>
          <p:nvSpPr>
            <p:cNvPr id="566" name=""/>
            <p:cNvSpPr/>
            <p:nvPr/>
          </p:nvSpPr>
          <p:spPr>
            <a:xfrm>
              <a:off x="4019400" y="17132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73480" y="1824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24040" y="1557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67000" y="1208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42680" y="1214280"/>
              <a:ext cx="585720" cy="133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83040" y="6224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59120" y="102564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74000" y="74016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03560" y="1086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78360" y="1321200"/>
              <a:ext cx="82440" cy="824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84840" y="1479960"/>
              <a:ext cx="82440" cy="82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612160" y="26481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82840" y="2394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03560" y="3083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79600" y="2953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219400" y="1560240"/>
              <a:ext cx="504720" cy="52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26960" y="2152440"/>
              <a:ext cx="528120" cy="48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65400" y="2071800"/>
              <a:ext cx="82800" cy="82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2757960" y="2389680"/>
              <a:ext cx="649080" cy="2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47160" y="2639160"/>
              <a:ext cx="654480" cy="30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22680" y="2603880"/>
              <a:ext cx="82440" cy="82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2752920" y="1204200"/>
              <a:ext cx="631440" cy="335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34920" y="1522080"/>
              <a:ext cx="683280" cy="290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14760" y="1503720"/>
              <a:ext cx="84240" cy="82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3364560" y="913320"/>
              <a:ext cx="656280" cy="295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3407040" y="1516320"/>
              <a:ext cx="610920" cy="290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20360" y="1821960"/>
              <a:ext cx="615960" cy="113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373560" y="1770480"/>
              <a:ext cx="82440" cy="82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427560" y="2151360"/>
              <a:ext cx="600480" cy="23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420720" y="2392560"/>
              <a:ext cx="614880" cy="12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73560" y="2349720"/>
              <a:ext cx="82440" cy="82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3386160" y="2681640"/>
              <a:ext cx="617760" cy="282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414960" y="2950920"/>
              <a:ext cx="614160" cy="15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380040" y="2918160"/>
              <a:ext cx="82440" cy="82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093040" y="152892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19320" y="232740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60560" y="219276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57320" y="280368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016160" y="1427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035240" y="2005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22640" y="2632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019400" y="2283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84840" y="1479960"/>
              <a:ext cx="82440" cy="824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84840" y="3065760"/>
              <a:ext cx="82440" cy="824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83040" y="1886040"/>
              <a:ext cx="82800" cy="828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83040" y="2097360"/>
              <a:ext cx="82800" cy="824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88080" y="2476800"/>
              <a:ext cx="82440" cy="824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80160" y="2638800"/>
              <a:ext cx="82440" cy="824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365640" y="1151280"/>
              <a:ext cx="82440" cy="824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84840" y="884520"/>
              <a:ext cx="82440" cy="824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3273480" y="1711440"/>
            <a:ext cx="1078920" cy="488520"/>
            <a:chOff x="3273480" y="1711440"/>
            <a:chExt cx="1078920" cy="488520"/>
          </a:xfrm>
        </p:grpSpPr>
        <p:sp>
          <p:nvSpPr>
            <p:cNvPr id="617" name=""/>
            <p:cNvSpPr/>
            <p:nvPr/>
          </p:nvSpPr>
          <p:spPr>
            <a:xfrm>
              <a:off x="4019400" y="1711440"/>
              <a:ext cx="3330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73480" y="1825560"/>
              <a:ext cx="3330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4200480" y="352440"/>
            <a:ext cx="298152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a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p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ob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0.1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0.1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0.1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0.1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0.1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0.1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0.1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0.1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915240" y="1076400"/>
            <a:ext cx="22287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t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{more 1’s than 0’s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794120" y="1285920"/>
            <a:ext cx="60012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622600" y="1558800"/>
            <a:ext cx="285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34320" y="1838160"/>
            <a:ext cx="205740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t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{the first bit is a 1}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81200" y="3562200"/>
            <a:ext cx="8362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8 events in the sample space have probability 1/8, ther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onditional probability is obtained as follow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2054160" y="5438880"/>
          <a:ext cx="441972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5438880"/>
                    <a:ext cx="441972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2035080" y="4057560"/>
          <a:ext cx="4902120" cy="82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35080" y="4057560"/>
                    <a:ext cx="49021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"/>
          <p:cNvSpPr/>
          <p:nvPr/>
        </p:nvSpPr>
        <p:spPr>
          <a:xfrm>
            <a:off x="438120" y="1905120"/>
            <a:ext cx="1809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ee dia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31800" y="34596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ample   (cont’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794120" y="1835280"/>
            <a:ext cx="6858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794120" y="1012680"/>
            <a:ext cx="6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962760" y="2619360"/>
            <a:ext cx="905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3263760" y="620640"/>
            <a:ext cx="1003320" cy="979560"/>
            <a:chOff x="3263760" y="620640"/>
            <a:chExt cx="1003320" cy="979560"/>
          </a:xfrm>
        </p:grpSpPr>
        <p:sp>
          <p:nvSpPr>
            <p:cNvPr id="635" name=""/>
            <p:cNvSpPr/>
            <p:nvPr/>
          </p:nvSpPr>
          <p:spPr>
            <a:xfrm>
              <a:off x="3263760" y="1206360"/>
              <a:ext cx="28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981240" y="620640"/>
              <a:ext cx="285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9F7-A1A0-47C0-90CF-AE45E99BBCC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set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787320" y="874800"/>
            <a:ext cx="835668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inciple of Total Probability Revis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 mutually exclusive and collective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haustive events. Let B be an event in 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46240" y="2570040"/>
            <a:ext cx="2741760" cy="1271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172040" y="2597040"/>
            <a:ext cx="887400" cy="782640"/>
          </a:xfrm>
          <a:custGeom>
            <a:avLst/>
            <a:gdLst/>
            <a:ahLst/>
            <a:rect l="l" t="t" r="r" b="b"/>
            <a:pathLst>
              <a:path w="462" h="406">
                <a:moveTo>
                  <a:pt x="4" y="406"/>
                </a:moveTo>
                <a:cubicBezTo>
                  <a:pt x="20" y="343"/>
                  <a:pt x="0" y="396"/>
                  <a:pt x="48" y="336"/>
                </a:cubicBezTo>
                <a:cubicBezTo>
                  <a:pt x="146" y="213"/>
                  <a:pt x="10" y="356"/>
                  <a:pt x="136" y="230"/>
                </a:cubicBezTo>
                <a:cubicBezTo>
                  <a:pt x="165" y="201"/>
                  <a:pt x="158" y="220"/>
                  <a:pt x="189" y="203"/>
                </a:cubicBezTo>
                <a:cubicBezTo>
                  <a:pt x="229" y="181"/>
                  <a:pt x="253" y="155"/>
                  <a:pt x="295" y="142"/>
                </a:cubicBezTo>
                <a:cubicBezTo>
                  <a:pt x="313" y="130"/>
                  <a:pt x="333" y="121"/>
                  <a:pt x="348" y="106"/>
                </a:cubicBezTo>
                <a:cubicBezTo>
                  <a:pt x="385" y="69"/>
                  <a:pt x="415" y="25"/>
                  <a:pt x="462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1547640" y="4251240"/>
          <a:ext cx="590724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251240"/>
                    <a:ext cx="59072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"/>
          <p:cNvSpPr/>
          <p:nvPr/>
        </p:nvSpPr>
        <p:spPr>
          <a:xfrm>
            <a:off x="3314880" y="2689200"/>
            <a:ext cx="1836720" cy="9190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549440" y="2690640"/>
            <a:ext cx="5064120" cy="2005200"/>
            <a:chOff x="1549440" y="2690640"/>
            <a:chExt cx="5064120" cy="2005200"/>
          </a:xfrm>
        </p:grpSpPr>
        <p:sp>
          <p:nvSpPr>
            <p:cNvPr id="644" name=""/>
            <p:cNvSpPr/>
            <p:nvPr/>
          </p:nvSpPr>
          <p:spPr>
            <a:xfrm>
              <a:off x="3314880" y="2690640"/>
              <a:ext cx="1836720" cy="919440"/>
            </a:xfrm>
            <a:prstGeom prst="ellipse">
              <a:avLst/>
            </a:prstGeom>
            <a:solidFill>
              <a:srgbClr val="d3e61c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45" name=""/>
            <p:cNvGraphicFramePr/>
            <p:nvPr/>
          </p:nvGraphicFramePr>
          <p:xfrm>
            <a:off x="1549440" y="4245120"/>
            <a:ext cx="506412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49440" y="4245120"/>
                      <a:ext cx="506412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7" name=""/>
          <p:cNvSpPr/>
          <p:nvPr/>
        </p:nvSpPr>
        <p:spPr>
          <a:xfrm>
            <a:off x="3008880" y="3389400"/>
            <a:ext cx="386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962440" y="2587680"/>
            <a:ext cx="811080" cy="809640"/>
          </a:xfrm>
          <a:custGeom>
            <a:avLst/>
            <a:gdLst/>
            <a:ahLst/>
            <a:rect l="l" t="t" r="r" b="b"/>
            <a:pathLst>
              <a:path w="424" h="423">
                <a:moveTo>
                  <a:pt x="424" y="0"/>
                </a:moveTo>
                <a:cubicBezTo>
                  <a:pt x="402" y="132"/>
                  <a:pt x="342" y="249"/>
                  <a:pt x="239" y="335"/>
                </a:cubicBezTo>
                <a:cubicBezTo>
                  <a:pt x="229" y="343"/>
                  <a:pt x="223" y="355"/>
                  <a:pt x="212" y="361"/>
                </a:cubicBezTo>
                <a:cubicBezTo>
                  <a:pt x="169" y="385"/>
                  <a:pt x="109" y="389"/>
                  <a:pt x="62" y="397"/>
                </a:cubicBezTo>
                <a:cubicBezTo>
                  <a:pt x="41" y="404"/>
                  <a:pt x="16" y="407"/>
                  <a:pt x="0" y="423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622680" y="3008160"/>
            <a:ext cx="860400" cy="830520"/>
          </a:xfrm>
          <a:custGeom>
            <a:avLst/>
            <a:gdLst/>
            <a:ahLst/>
            <a:rect l="l" t="t" r="r" b="b"/>
            <a:pathLst>
              <a:path w="450" h="433">
                <a:moveTo>
                  <a:pt x="0" y="0"/>
                </a:moveTo>
                <a:cubicBezTo>
                  <a:pt x="49" y="13"/>
                  <a:pt x="44" y="31"/>
                  <a:pt x="88" y="44"/>
                </a:cubicBezTo>
                <a:cubicBezTo>
                  <a:pt x="116" y="63"/>
                  <a:pt x="137" y="90"/>
                  <a:pt x="167" y="106"/>
                </a:cubicBezTo>
                <a:cubicBezTo>
                  <a:pt x="190" y="119"/>
                  <a:pt x="238" y="141"/>
                  <a:pt x="238" y="141"/>
                </a:cubicBezTo>
                <a:cubicBezTo>
                  <a:pt x="291" y="225"/>
                  <a:pt x="213" y="106"/>
                  <a:pt x="282" y="194"/>
                </a:cubicBezTo>
                <a:cubicBezTo>
                  <a:pt x="361" y="295"/>
                  <a:pt x="293" y="209"/>
                  <a:pt x="326" y="274"/>
                </a:cubicBezTo>
                <a:cubicBezTo>
                  <a:pt x="345" y="311"/>
                  <a:pt x="382" y="346"/>
                  <a:pt x="405" y="380"/>
                </a:cubicBezTo>
                <a:cubicBezTo>
                  <a:pt x="416" y="396"/>
                  <a:pt x="428" y="433"/>
                  <a:pt x="450" y="433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618080" y="2924280"/>
            <a:ext cx="1081080" cy="609480"/>
          </a:xfrm>
          <a:custGeom>
            <a:avLst/>
            <a:gdLst/>
            <a:ahLst/>
            <a:rect l="l" t="t" r="r" b="b"/>
            <a:pathLst>
              <a:path w="565" h="318">
                <a:moveTo>
                  <a:pt x="0" y="0"/>
                </a:moveTo>
                <a:cubicBezTo>
                  <a:pt x="64" y="21"/>
                  <a:pt x="86" y="95"/>
                  <a:pt x="132" y="141"/>
                </a:cubicBezTo>
                <a:cubicBezTo>
                  <a:pt x="149" y="158"/>
                  <a:pt x="221" y="192"/>
                  <a:pt x="238" y="203"/>
                </a:cubicBezTo>
                <a:cubicBezTo>
                  <a:pt x="273" y="226"/>
                  <a:pt x="302" y="268"/>
                  <a:pt x="344" y="282"/>
                </a:cubicBezTo>
                <a:cubicBezTo>
                  <a:pt x="419" y="307"/>
                  <a:pt x="482" y="318"/>
                  <a:pt x="565" y="318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243400" y="2597040"/>
            <a:ext cx="443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91040" y="2873520"/>
            <a:ext cx="459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51240" y="3056040"/>
            <a:ext cx="73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560400" y="314784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951640" y="2597040"/>
            <a:ext cx="386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962000" y="114480"/>
            <a:ext cx="583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819840" y="242892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503440" y="2762280"/>
            <a:ext cx="1230480" cy="1933560"/>
            <a:chOff x="2503440" y="2762280"/>
            <a:chExt cx="1230480" cy="1933560"/>
          </a:xfrm>
        </p:grpSpPr>
        <p:sp>
          <p:nvSpPr>
            <p:cNvPr id="659" name=""/>
            <p:cNvSpPr/>
            <p:nvPr/>
          </p:nvSpPr>
          <p:spPr>
            <a:xfrm>
              <a:off x="3314880" y="2762280"/>
              <a:ext cx="419040" cy="51732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26" y="326"/>
                  </a:moveTo>
                  <a:lnTo>
                    <a:pt x="3" y="276"/>
                  </a:lnTo>
                  <a:lnTo>
                    <a:pt x="0" y="215"/>
                  </a:lnTo>
                  <a:lnTo>
                    <a:pt x="17" y="174"/>
                  </a:lnTo>
                  <a:lnTo>
                    <a:pt x="44" y="134"/>
                  </a:lnTo>
                  <a:lnTo>
                    <a:pt x="96" y="83"/>
                  </a:lnTo>
                  <a:lnTo>
                    <a:pt x="167" y="38"/>
                  </a:lnTo>
                  <a:lnTo>
                    <a:pt x="224" y="14"/>
                  </a:lnTo>
                  <a:lnTo>
                    <a:pt x="264" y="0"/>
                  </a:lnTo>
                  <a:lnTo>
                    <a:pt x="240" y="59"/>
                  </a:lnTo>
                  <a:lnTo>
                    <a:pt x="213" y="116"/>
                  </a:lnTo>
                  <a:lnTo>
                    <a:pt x="171" y="180"/>
                  </a:lnTo>
                  <a:lnTo>
                    <a:pt x="126" y="237"/>
                  </a:lnTo>
                  <a:lnTo>
                    <a:pt x="74" y="288"/>
                  </a:lnTo>
                  <a:lnTo>
                    <a:pt x="26" y="326"/>
                  </a:lnTo>
                  <a:close/>
                </a:path>
              </a:pathLst>
            </a:custGeom>
            <a:solidFill>
              <a:srgbClr val="d3e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60" name=""/>
            <p:cNvGraphicFramePr/>
            <p:nvPr/>
          </p:nvGraphicFramePr>
          <p:xfrm>
            <a:off x="2503440" y="4245120"/>
            <a:ext cx="1066680" cy="450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3440" y="4245120"/>
                      <a:ext cx="106668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2" name=""/>
          <p:cNvGrpSpPr/>
          <p:nvPr/>
        </p:nvGrpSpPr>
        <p:grpSpPr>
          <a:xfrm>
            <a:off x="3351240" y="3003480"/>
            <a:ext cx="1471680" cy="1692360"/>
            <a:chOff x="3351240" y="3003480"/>
            <a:chExt cx="1471680" cy="1692360"/>
          </a:xfrm>
        </p:grpSpPr>
        <p:sp>
          <p:nvSpPr>
            <p:cNvPr id="663" name=""/>
            <p:cNvSpPr/>
            <p:nvPr/>
          </p:nvSpPr>
          <p:spPr>
            <a:xfrm>
              <a:off x="3351240" y="3003480"/>
              <a:ext cx="939600" cy="604800"/>
            </a:xfrm>
            <a:custGeom>
              <a:avLst/>
              <a:gdLst/>
              <a:ahLst/>
              <a:rect l="l" t="t" r="r" b="b"/>
              <a:pathLst>
                <a:path w="592" h="381">
                  <a:moveTo>
                    <a:pt x="166" y="0"/>
                  </a:moveTo>
                  <a:lnTo>
                    <a:pt x="196" y="12"/>
                  </a:lnTo>
                  <a:lnTo>
                    <a:pt x="229" y="31"/>
                  </a:lnTo>
                  <a:lnTo>
                    <a:pt x="267" y="55"/>
                  </a:lnTo>
                  <a:lnTo>
                    <a:pt x="280" y="57"/>
                  </a:lnTo>
                  <a:lnTo>
                    <a:pt x="346" y="114"/>
                  </a:lnTo>
                  <a:lnTo>
                    <a:pt x="411" y="153"/>
                  </a:lnTo>
                  <a:lnTo>
                    <a:pt x="462" y="175"/>
                  </a:lnTo>
                  <a:lnTo>
                    <a:pt x="481" y="208"/>
                  </a:lnTo>
                  <a:lnTo>
                    <a:pt x="492" y="213"/>
                  </a:lnTo>
                  <a:lnTo>
                    <a:pt x="561" y="301"/>
                  </a:lnTo>
                  <a:lnTo>
                    <a:pt x="553" y="307"/>
                  </a:lnTo>
                  <a:lnTo>
                    <a:pt x="592" y="381"/>
                  </a:lnTo>
                  <a:lnTo>
                    <a:pt x="526" y="381"/>
                  </a:lnTo>
                  <a:lnTo>
                    <a:pt x="451" y="376"/>
                  </a:lnTo>
                  <a:lnTo>
                    <a:pt x="342" y="361"/>
                  </a:lnTo>
                  <a:lnTo>
                    <a:pt x="259" y="340"/>
                  </a:lnTo>
                  <a:lnTo>
                    <a:pt x="175" y="310"/>
                  </a:lnTo>
                  <a:lnTo>
                    <a:pt x="105" y="274"/>
                  </a:lnTo>
                  <a:lnTo>
                    <a:pt x="46" y="231"/>
                  </a:lnTo>
                  <a:lnTo>
                    <a:pt x="0" y="177"/>
                  </a:lnTo>
                  <a:lnTo>
                    <a:pt x="51" y="138"/>
                  </a:lnTo>
                  <a:lnTo>
                    <a:pt x="117" y="69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d3e61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64" name=""/>
            <p:cNvGraphicFramePr/>
            <p:nvPr/>
          </p:nvGraphicFramePr>
          <p:xfrm>
            <a:off x="3384720" y="4245120"/>
            <a:ext cx="1438200" cy="45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84720" y="4245120"/>
                      <a:ext cx="143820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66" name=""/>
          <p:cNvGraphicFramePr/>
          <p:nvPr/>
        </p:nvGraphicFramePr>
        <p:xfrm>
          <a:off x="2500200" y="4702320"/>
          <a:ext cx="2084400" cy="55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0200" y="4702320"/>
                    <a:ext cx="20844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"/>
          <p:cNvSpPr/>
          <p:nvPr/>
        </p:nvSpPr>
        <p:spPr>
          <a:xfrm>
            <a:off x="3352680" y="2765520"/>
            <a:ext cx="376200" cy="519120"/>
          </a:xfrm>
          <a:custGeom>
            <a:avLst/>
            <a:gdLst/>
            <a:ahLst/>
            <a:rect l="l" t="t" r="r" b="b"/>
            <a:pathLst>
              <a:path w="237" h="327">
                <a:moveTo>
                  <a:pt x="237" y="0"/>
                </a:moveTo>
                <a:lnTo>
                  <a:pt x="219" y="51"/>
                </a:lnTo>
                <a:lnTo>
                  <a:pt x="192" y="103"/>
                </a:lnTo>
                <a:lnTo>
                  <a:pt x="158" y="163"/>
                </a:lnTo>
                <a:lnTo>
                  <a:pt x="113" y="225"/>
                </a:lnTo>
                <a:lnTo>
                  <a:pt x="57" y="276"/>
                </a:lnTo>
                <a:lnTo>
                  <a:pt x="29" y="303"/>
                </a:lnTo>
                <a:lnTo>
                  <a:pt x="12" y="322"/>
                </a:lnTo>
                <a:lnTo>
                  <a:pt x="0" y="327"/>
                </a:ln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13320" y="3005280"/>
            <a:ext cx="680760" cy="603000"/>
          </a:xfrm>
          <a:custGeom>
            <a:avLst/>
            <a:gdLst/>
            <a:ahLst/>
            <a:rect l="l" t="t" r="r" b="b"/>
            <a:pathLst>
              <a:path w="429" h="380">
                <a:moveTo>
                  <a:pt x="0" y="0"/>
                </a:moveTo>
                <a:lnTo>
                  <a:pt x="42" y="12"/>
                </a:lnTo>
                <a:lnTo>
                  <a:pt x="84" y="47"/>
                </a:lnTo>
                <a:lnTo>
                  <a:pt x="115" y="56"/>
                </a:lnTo>
                <a:lnTo>
                  <a:pt x="192" y="122"/>
                </a:lnTo>
                <a:lnTo>
                  <a:pt x="295" y="173"/>
                </a:lnTo>
                <a:lnTo>
                  <a:pt x="310" y="200"/>
                </a:lnTo>
                <a:lnTo>
                  <a:pt x="324" y="206"/>
                </a:lnTo>
                <a:lnTo>
                  <a:pt x="393" y="297"/>
                </a:lnTo>
                <a:lnTo>
                  <a:pt x="387" y="309"/>
                </a:lnTo>
                <a:lnTo>
                  <a:pt x="429" y="380"/>
                </a:ln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175280" y="2800440"/>
            <a:ext cx="666720" cy="595080"/>
          </a:xfrm>
          <a:custGeom>
            <a:avLst/>
            <a:gdLst/>
            <a:ahLst/>
            <a:rect l="l" t="t" r="r" b="b"/>
            <a:pathLst>
              <a:path w="420" h="375">
                <a:moveTo>
                  <a:pt x="420" y="0"/>
                </a:moveTo>
                <a:lnTo>
                  <a:pt x="370" y="35"/>
                </a:lnTo>
                <a:lnTo>
                  <a:pt x="351" y="47"/>
                </a:lnTo>
                <a:lnTo>
                  <a:pt x="316" y="60"/>
                </a:lnTo>
                <a:lnTo>
                  <a:pt x="214" y="125"/>
                </a:lnTo>
                <a:lnTo>
                  <a:pt x="184" y="129"/>
                </a:lnTo>
                <a:lnTo>
                  <a:pt x="94" y="218"/>
                </a:lnTo>
                <a:lnTo>
                  <a:pt x="91" y="236"/>
                </a:lnTo>
                <a:lnTo>
                  <a:pt x="30" y="311"/>
                </a:lnTo>
                <a:lnTo>
                  <a:pt x="12" y="321"/>
                </a:lnTo>
                <a:lnTo>
                  <a:pt x="0" y="375"/>
                </a:ln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27440" y="2924280"/>
            <a:ext cx="463680" cy="398520"/>
          </a:xfrm>
          <a:custGeom>
            <a:avLst/>
            <a:gdLst/>
            <a:ahLst/>
            <a:rect l="l" t="t" r="r" b="b"/>
            <a:pathLst>
              <a:path w="292" h="251">
                <a:moveTo>
                  <a:pt x="0" y="0"/>
                </a:moveTo>
                <a:lnTo>
                  <a:pt x="40" y="26"/>
                </a:lnTo>
                <a:lnTo>
                  <a:pt x="78" y="68"/>
                </a:lnTo>
                <a:lnTo>
                  <a:pt x="139" y="158"/>
                </a:lnTo>
                <a:lnTo>
                  <a:pt x="180" y="191"/>
                </a:lnTo>
                <a:lnTo>
                  <a:pt x="265" y="236"/>
                </a:lnTo>
                <a:lnTo>
                  <a:pt x="292" y="251"/>
                </a:ln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313-FFB5-4D7A-AC19-EB40CFC860C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781200" y="919080"/>
            <a:ext cx="8362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nary Communication Cha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95920" y="20829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117080" y="425592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37160" y="4276800"/>
            <a:ext cx="231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098720" y="2098800"/>
            <a:ext cx="2022480" cy="6220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013440" y="2130480"/>
            <a:ext cx="2022480" cy="6220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490760" y="3182760"/>
            <a:ext cx="5492520" cy="1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490760" y="4427640"/>
            <a:ext cx="5492520" cy="14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1500120" y="3182760"/>
            <a:ext cx="5489640" cy="1244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527120" y="3197160"/>
            <a:ext cx="5434200" cy="123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3166920" y="2473200"/>
            <a:ext cx="2838600" cy="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573360" y="2827440"/>
            <a:ext cx="1582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[0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|0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] = 0.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115640" y="30178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05600" y="3017880"/>
            <a:ext cx="36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005600" y="4253040"/>
            <a:ext cx="36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484440" y="4071960"/>
            <a:ext cx="1582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[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|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] = 0.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427720" y="3805200"/>
            <a:ext cx="1733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[1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 0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] = 0.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425920" y="3506760"/>
            <a:ext cx="158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[0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1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] = 0.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81160" y="3379680"/>
            <a:ext cx="121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[0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] = 0.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111320" y="3951360"/>
            <a:ext cx="1218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[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] = 0.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109520" y="3017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029360" y="3067200"/>
            <a:ext cx="247320" cy="247680"/>
            <a:chOff x="7029360" y="3067200"/>
            <a:chExt cx="247320" cy="247680"/>
          </a:xfrm>
        </p:grpSpPr>
        <p:sp>
          <p:nvSpPr>
            <p:cNvPr id="694" name=""/>
            <p:cNvSpPr/>
            <p:nvPr/>
          </p:nvSpPr>
          <p:spPr>
            <a:xfrm flipV="1">
              <a:off x="7029360" y="3067200"/>
              <a:ext cx="247320" cy="247680"/>
            </a:xfrm>
            <a:prstGeom prst="line">
              <a:avLst/>
            </a:prstGeom>
            <a:ln w="38160">
              <a:solidFill>
                <a:srgbClr val="d3e6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29360" y="3067200"/>
              <a:ext cx="247320" cy="247680"/>
            </a:xfrm>
            <a:prstGeom prst="line">
              <a:avLst/>
            </a:prstGeom>
            <a:ln w="38160">
              <a:solidFill>
                <a:srgbClr val="d3e6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029360" y="4314960"/>
            <a:ext cx="247320" cy="247680"/>
            <a:chOff x="7029360" y="4314960"/>
            <a:chExt cx="247320" cy="247680"/>
          </a:xfrm>
        </p:grpSpPr>
        <p:sp>
          <p:nvSpPr>
            <p:cNvPr id="697" name=""/>
            <p:cNvSpPr/>
            <p:nvPr/>
          </p:nvSpPr>
          <p:spPr>
            <a:xfrm flipV="1">
              <a:off x="7029360" y="4314960"/>
              <a:ext cx="247320" cy="247680"/>
            </a:xfrm>
            <a:prstGeom prst="line">
              <a:avLst/>
            </a:prstGeom>
            <a:ln w="38160">
              <a:solidFill>
                <a:srgbClr val="d3e6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029360" y="4314960"/>
              <a:ext cx="247320" cy="247680"/>
            </a:xfrm>
            <a:prstGeom prst="line">
              <a:avLst/>
            </a:prstGeom>
            <a:ln w="38160">
              <a:solidFill>
                <a:srgbClr val="d3e6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109520" y="3017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110960" y="4255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109520" y="425592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752480" y="4694400"/>
            <a:ext cx="52484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 can compute the probability of joint eve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[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] = Pr[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|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]Pr[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] = (0.95)(0.5) = 0.4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[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] = Pr[1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|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]Pr[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] = (0.05)(0.5) = 0.025 (erro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CBE-893B-4C14-941B-C23D6C55C1A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69 L 0.64409 -0.00069 E">
                                      <p:cBhvr>
                                        <p:cTn id="467" dur="2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68" dur="1" fill="hold">
                                    <p:stCondLst>
                                      <p:cond evt="end">
                                        <p:tn val="466"/>
                                      </p:cond>
                                    </p:stCondLst>
                                  </p:cTn>
                                  <p:tgtEl>
                                    <p:spTgt spid="6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autoRev="1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1" dur="500" fill="hold"/>
                                        <p:tgtEl>
                                          <p:spTgt spid="68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604 0 L 0.62083 0.18055 L 0.64271 0.18055 E">
                                      <p:cBhvr>
                                        <p:cTn id="475" dur="2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69 L 0.64219 0.00069 E">
                                      <p:cBhvr>
                                        <p:cTn id="483" dur="2000" fill="hold"/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84" dur="1" fill="hold">
                                    <p:stCondLst>
                                      <p:cond evt="end">
                                        <p:tn val="482"/>
                                      </p:cond>
                                    </p:stCondLst>
                                  </p:cTn>
                                  <p:tgtEl>
                                    <p:spTgt spid="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autoRev="1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8" dur="500" fill="hold"/>
                                        <p:tgtEl>
                                          <p:spTgt spid="68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604 0 L 0.62187 -0.18055 L 0.64375 -0.18055 E">
                                      <p:cBhvr>
                                        <p:cTn id="492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504720" y="757080"/>
            <a:ext cx="836316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nary Communication Channel       (cont’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ing the probability of err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280240" y="2239920"/>
            <a:ext cx="4111200" cy="3377520"/>
            <a:chOff x="2280240" y="2239920"/>
            <a:chExt cx="4111200" cy="3377520"/>
          </a:xfrm>
        </p:grpSpPr>
        <p:sp>
          <p:nvSpPr>
            <p:cNvPr id="705" name=""/>
            <p:cNvSpPr/>
            <p:nvPr/>
          </p:nvSpPr>
          <p:spPr>
            <a:xfrm>
              <a:off x="5048280" y="2295360"/>
              <a:ext cx="1343160" cy="30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Probabili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.0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.4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.02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.47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24120" y="351792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612600" y="283536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.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592520" y="2635200"/>
              <a:ext cx="10670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error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06920" y="4951440"/>
              <a:ext cx="78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05480" y="4102200"/>
              <a:ext cx="11174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error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06920" y="3495600"/>
              <a:ext cx="78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722320" y="4210560"/>
              <a:ext cx="775080" cy="681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3532320" y="4515480"/>
              <a:ext cx="766440" cy="37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184640" y="4527360"/>
              <a:ext cx="503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66960" y="451152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00040" y="4819680"/>
              <a:ext cx="348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80840" y="4873320"/>
              <a:ext cx="842760" cy="36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04680" y="50832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.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195440" y="5246640"/>
              <a:ext cx="36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2751120" y="3411360"/>
              <a:ext cx="765360" cy="749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63920" y="4854600"/>
              <a:ext cx="100080" cy="102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3472560" y="2983680"/>
              <a:ext cx="847800" cy="44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97760" y="3402720"/>
              <a:ext cx="811800" cy="39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267080" y="4465440"/>
              <a:ext cx="101880" cy="103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73560" y="5187960"/>
              <a:ext cx="100080" cy="102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90280" y="43448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.0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165120" y="3066840"/>
              <a:ext cx="348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81400" y="2990880"/>
              <a:ext cx="36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81400" y="3808440"/>
              <a:ext cx="487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45040" y="2239920"/>
              <a:ext cx="121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nditio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94120" y="2571840"/>
              <a:ext cx="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80240" y="2700360"/>
              <a:ext cx="8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 prior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925720" y="3043080"/>
              <a:ext cx="0" cy="53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93520" y="36162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.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67080" y="3743280"/>
              <a:ext cx="101880" cy="103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60760" y="4132080"/>
              <a:ext cx="100080" cy="103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59240" y="3363840"/>
              <a:ext cx="100080" cy="1015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272120" y="2941560"/>
              <a:ext cx="99720" cy="103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2708280" y="3517920"/>
            <a:ext cx="466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0.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75160" y="2835360"/>
            <a:ext cx="609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0.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334120" y="2664000"/>
            <a:ext cx="771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0.0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752560" y="4511520"/>
            <a:ext cx="466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0.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567240" y="4344840"/>
            <a:ext cx="6094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0.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34120" y="4111560"/>
            <a:ext cx="7714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0.0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590920" y="5762520"/>
            <a:ext cx="36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[error] = 0.050 + 0.025 = 0.0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ACA-2393-430A-BF7F-DC389FA0CF0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"/>
          <p:cNvGraphicFramePr/>
          <p:nvPr/>
        </p:nvGraphicFramePr>
        <p:xfrm>
          <a:off x="4842000" y="2692440"/>
          <a:ext cx="3733560" cy="80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0" y="2692440"/>
                    <a:ext cx="373356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8" name=""/>
          <p:cNvGrpSpPr/>
          <p:nvPr/>
        </p:nvGrpSpPr>
        <p:grpSpPr>
          <a:xfrm>
            <a:off x="1192320" y="2614680"/>
            <a:ext cx="3135240" cy="1065240"/>
            <a:chOff x="1192320" y="2614680"/>
            <a:chExt cx="3135240" cy="1065240"/>
          </a:xfrm>
        </p:grpSpPr>
        <p:sp>
          <p:nvSpPr>
            <p:cNvPr id="749" name=""/>
            <p:cNvSpPr/>
            <p:nvPr/>
          </p:nvSpPr>
          <p:spPr>
            <a:xfrm>
              <a:off x="3462480" y="288144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52640" y="262908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92320" y="2614680"/>
              <a:ext cx="2273400" cy="1054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63600" y="2705040"/>
              <a:ext cx="4320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11400" y="2705040"/>
              <a:ext cx="4827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90640" y="3005280"/>
              <a:ext cx="1019160" cy="384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38520" y="3017880"/>
              <a:ext cx="68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894040" y="3197160"/>
              <a:ext cx="736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01840" y="262584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758" name=""/>
          <p:cNvGraphicFramePr/>
          <p:nvPr/>
        </p:nvGraphicFramePr>
        <p:xfrm>
          <a:off x="1808280" y="4816440"/>
          <a:ext cx="597348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8280" y="4816440"/>
                    <a:ext cx="59734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"/>
          <p:cNvSpPr/>
          <p:nvPr/>
        </p:nvSpPr>
        <p:spPr>
          <a:xfrm>
            <a:off x="838440" y="4098600"/>
            <a:ext cx="36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the Law of Total Probabil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14440" y="633240"/>
            <a:ext cx="83628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nary Communication Channel       (cont’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 the probability of error another wa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250-A6AA-4996-BE06-100BD373B10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80880" y="334800"/>
            <a:ext cx="83822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re on Conditional Prob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the definition of conditional probability, we can wri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an be written 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717480" y="2198520"/>
          <a:ext cx="7707240" cy="21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2198520"/>
                    <a:ext cx="770724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"/>
          <p:cNvGraphicFramePr/>
          <p:nvPr/>
        </p:nvGraphicFramePr>
        <p:xfrm>
          <a:off x="2179800" y="4997520"/>
          <a:ext cx="4809960" cy="11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9800" y="4997520"/>
                    <a:ext cx="480996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0C8-06E7-4AD6-B30D-FA40C33E72A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546120" y="1258920"/>
            <a:ext cx="8381880" cy="51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 a set of mutually exclusive, coll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haustive events (partition). Th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, applying the Principle of Total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called Bayes’ Ru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2395440" y="2343240"/>
          <a:ext cx="4438800" cy="90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5440" y="2343240"/>
                    <a:ext cx="443880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2146320" y="4160880"/>
          <a:ext cx="4724280" cy="12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6320" y="4160880"/>
                    <a:ext cx="472428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"/>
          <p:cNvSpPr/>
          <p:nvPr/>
        </p:nvSpPr>
        <p:spPr>
          <a:xfrm>
            <a:off x="621000" y="533520"/>
            <a:ext cx="19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yes’ R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CAC-70EB-43A8-B502-6B99A57E542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819000" y="1009800"/>
            <a:ext cx="8325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nary Communication Channel Revis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950760" y="2257560"/>
            <a:ext cx="7512120" cy="2743200"/>
            <a:chOff x="950760" y="2257560"/>
            <a:chExt cx="7512120" cy="2743200"/>
          </a:xfrm>
        </p:grpSpPr>
        <p:sp>
          <p:nvSpPr>
            <p:cNvPr id="775" name=""/>
            <p:cNvSpPr/>
            <p:nvPr/>
          </p:nvSpPr>
          <p:spPr>
            <a:xfrm>
              <a:off x="4782960" y="4614840"/>
              <a:ext cx="250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950760" y="2257560"/>
              <a:ext cx="2189160" cy="67284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ransmit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273720" y="2290680"/>
              <a:ext cx="2189160" cy="67464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cei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76280" y="3430440"/>
              <a:ext cx="5946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76280" y="4778280"/>
              <a:ext cx="5946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1385640" y="3430440"/>
              <a:ext cx="5870520" cy="13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03280" y="3438360"/>
              <a:ext cx="5889600" cy="133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3190680" y="2662200"/>
              <a:ext cx="30751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30600" y="3044880"/>
              <a:ext cx="1714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[0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|0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] = 0.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71000" y="3260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78120" y="32702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68760" y="4589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533760" y="4392720"/>
              <a:ext cx="1714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[1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|1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] = 0.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19760" y="4132080"/>
              <a:ext cx="1877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[1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| 0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] = 0.0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821200" y="3719520"/>
              <a:ext cx="1714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[0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|1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] = 0.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41120" y="3587760"/>
              <a:ext cx="1319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[0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] = 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69920" y="4267080"/>
              <a:ext cx="1319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[1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] = 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606680" y="5448240"/>
            <a:ext cx="5676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the inverse probability, P[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|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.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2AF-3D4E-454D-9FAD-6D752452F30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819000" y="1600200"/>
            <a:ext cx="8325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the inverse probability, P[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|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1471680" y="2533680"/>
                <a:ext cx="5941800" cy="26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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7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819000" y="679320"/>
            <a:ext cx="8325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nary Communication Channel   (cont’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E5A-9C1A-4086-8C5E-BEF5094573D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781200" y="933480"/>
            <a:ext cx="836280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grated Circuit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 3 boxes of integrated circuits (IC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x 1 contains 1500 ICs and 10% of them are defective;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x 2 contains 2000 ICs and 20% of them are defective;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x 3 contains 3000 ICs and 16% of them are defec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1 of the 3 boxes at random and choose an  IC fr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box at ran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7D0D-336B-482C-91F9-742EFAC6F5E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36560" y="933480"/>
            <a:ext cx="8407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 a sample space represented by  S = {1,2,3,4,5,6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t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{1,3,5},  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{1,2},   and 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{2,4,6} be user-defined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075280" y="4172040"/>
            <a:ext cx="2595600" cy="1893960"/>
            <a:chOff x="5075280" y="4172040"/>
            <a:chExt cx="2595600" cy="1893960"/>
          </a:xfrm>
        </p:grpSpPr>
        <p:sp>
          <p:nvSpPr>
            <p:cNvPr id="175" name=""/>
            <p:cNvSpPr/>
            <p:nvPr/>
          </p:nvSpPr>
          <p:spPr>
            <a:xfrm>
              <a:off x="5075280" y="4519800"/>
              <a:ext cx="2595600" cy="154620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56360" y="4808520"/>
              <a:ext cx="1071360" cy="10429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39160" y="4988160"/>
              <a:ext cx="8830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{1, 3, 5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84120" y="5184720"/>
              <a:ext cx="8830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{2, 4, 6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3800" y="4172040"/>
              <a:ext cx="156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 = {1,2,3,4,5,6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990800" y="3048120"/>
            <a:ext cx="270504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({1,3,5}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{1,2,4,6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{1,2,3,4,5,6} =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{1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{1,3,5} =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2960" y="301788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{2,4,6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7480" y="3049560"/>
            <a:ext cx="116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E42-08EA-4F73-8371-2D7510F859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06440" y="3924360"/>
            <a:ext cx="83628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the principle of total probability, we can 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616280" y="2050920"/>
            <a:ext cx="419112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e: A = “selected IC is defective” 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“IC is from box i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835200" y="1808280"/>
            <a:ext cx="3936960" cy="1950480"/>
            <a:chOff x="835200" y="1808280"/>
            <a:chExt cx="3936960" cy="1950480"/>
          </a:xfrm>
        </p:grpSpPr>
        <p:sp>
          <p:nvSpPr>
            <p:cNvPr id="800" name=""/>
            <p:cNvSpPr/>
            <p:nvPr/>
          </p:nvSpPr>
          <p:spPr>
            <a:xfrm>
              <a:off x="4111920" y="2247840"/>
              <a:ext cx="264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230640" y="1808280"/>
              <a:ext cx="2667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35200" y="1902240"/>
              <a:ext cx="3279600" cy="1839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92440" y="1940760"/>
              <a:ext cx="618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41760" y="1940760"/>
              <a:ext cx="528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133640" y="2464560"/>
              <a:ext cx="2521080" cy="669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281480" y="2581560"/>
              <a:ext cx="490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776760" y="2800800"/>
              <a:ext cx="49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683000" y="1900440"/>
              <a:ext cx="446040" cy="1858320"/>
            </a:xfrm>
            <a:custGeom>
              <a:avLst/>
              <a:gdLst/>
              <a:ahLst/>
              <a:rect l="l" t="t" r="r" b="b"/>
              <a:pathLst>
                <a:path w="195" h="671">
                  <a:moveTo>
                    <a:pt x="0" y="0"/>
                  </a:moveTo>
                  <a:cubicBezTo>
                    <a:pt x="41" y="27"/>
                    <a:pt x="43" y="68"/>
                    <a:pt x="53" y="115"/>
                  </a:cubicBezTo>
                  <a:cubicBezTo>
                    <a:pt x="74" y="211"/>
                    <a:pt x="76" y="323"/>
                    <a:pt x="133" y="406"/>
                  </a:cubicBezTo>
                  <a:cubicBezTo>
                    <a:pt x="145" y="444"/>
                    <a:pt x="155" y="483"/>
                    <a:pt x="168" y="521"/>
                  </a:cubicBezTo>
                  <a:cubicBezTo>
                    <a:pt x="177" y="571"/>
                    <a:pt x="195" y="620"/>
                    <a:pt x="195" y="67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97280" y="1900440"/>
              <a:ext cx="382680" cy="1858320"/>
            </a:xfrm>
            <a:custGeom>
              <a:avLst/>
              <a:gdLst/>
              <a:ahLst/>
              <a:rect l="l" t="t" r="r" b="b"/>
              <a:pathLst>
                <a:path w="167" h="671">
                  <a:moveTo>
                    <a:pt x="0" y="0"/>
                  </a:moveTo>
                  <a:cubicBezTo>
                    <a:pt x="10" y="117"/>
                    <a:pt x="24" y="213"/>
                    <a:pt x="70" y="318"/>
                  </a:cubicBezTo>
                  <a:cubicBezTo>
                    <a:pt x="86" y="353"/>
                    <a:pt x="100" y="396"/>
                    <a:pt x="114" y="433"/>
                  </a:cubicBezTo>
                  <a:cubicBezTo>
                    <a:pt x="121" y="450"/>
                    <a:pt x="126" y="468"/>
                    <a:pt x="132" y="486"/>
                  </a:cubicBezTo>
                  <a:cubicBezTo>
                    <a:pt x="135" y="495"/>
                    <a:pt x="141" y="512"/>
                    <a:pt x="141" y="512"/>
                  </a:cubicBezTo>
                  <a:cubicBezTo>
                    <a:pt x="144" y="539"/>
                    <a:pt x="146" y="565"/>
                    <a:pt x="150" y="592"/>
                  </a:cubicBezTo>
                  <a:cubicBezTo>
                    <a:pt x="154" y="620"/>
                    <a:pt x="167" y="643"/>
                    <a:pt x="167" y="67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217960" y="1909800"/>
              <a:ext cx="6192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811" name=""/>
          <p:cNvGraphicFramePr/>
          <p:nvPr/>
        </p:nvGraphicFramePr>
        <p:xfrm>
          <a:off x="423720" y="4475160"/>
          <a:ext cx="8350560" cy="16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4475160"/>
                    <a:ext cx="835056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608040" y="1028880"/>
            <a:ext cx="66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)  What is the probability that this IC is defectiv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31640" y="297000"/>
            <a:ext cx="66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grated Circuit Example      (cont’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61D-C868-4D85-A460-44DD2F1A150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352440" y="1311120"/>
            <a:ext cx="843912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) Suppose that the selected IC is found to be defectiv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robability that this IC came from box #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Bayes’ theorem, we can 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1811160" y="3228840"/>
          <a:ext cx="5107320" cy="19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3228840"/>
                    <a:ext cx="510732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1190520" y="561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63680" y="5421240"/>
            <a:ext cx="821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) Suppose all IC’s are mixed in one box and an IC is se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random. What is the probability that the IC is defectiv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36600" y="525600"/>
            <a:ext cx="64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grated Circuit Example      (cont’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041-05F6-4282-950F-B732789D81A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762120" y="933480"/>
            <a:ext cx="838188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 Information The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ven an event A and its probability Pr[A], the “information” associate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th A is defined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s the base of the logarith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2, the units of information are  bit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10, the units are hartley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if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the units are na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 the identity: log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means that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2643120" y="2666880"/>
          <a:ext cx="385128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3120" y="2666880"/>
                    <a:ext cx="38512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C33-B7B8-43B8-B96A-E5C32C7353B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542880" y="657360"/>
            <a:ext cx="8381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ormation Theory Example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 two events: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ith corresponding probabilitie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occurrence of 0.125 and 0.875, respective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91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information associated with these events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91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= -lo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0.125) = 3 bi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91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91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[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= -lo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0.875) = 0.1925 b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91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27A-F37E-466F-ACDD-C87728E0544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542880" y="657360"/>
            <a:ext cx="8381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ven a set of independent events that are mutually exclusive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ctively exhaustive,  the average information associated with                  the random experiment is defined 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1589040" y="2797200"/>
          <a:ext cx="5965920" cy="8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9040" y="2797200"/>
                    <a:ext cx="596592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FC5-FCAB-4CEC-BB96-531CC4F91E5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762120" y="952560"/>
            <a:ext cx="83818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260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ropy Example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 a sequence 1 2 3 2 3 4 5 4 5 6 7 8 9 8 9 0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 estimate the probability of occurrence of each symbol as follows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[1] = Pr[6] = Pr[7] = Pr[0] = 1/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[2] = Pr[3] = Pr[4] = Pr[5] = Pr[8] = Pr[9] = 2/16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8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ntropy of this sequence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8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1846440" y="4944960"/>
          <a:ext cx="518940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6440" y="4944960"/>
                    <a:ext cx="5189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616-4A65-46E9-908A-A4425114AF3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757080" y="533520"/>
            <a:ext cx="8386920" cy="62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nnon-Fano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ssages are composed of an alphabet in which the frequency of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ccurrence of each letter is a probabilistic phenomen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ransmission purposes the messages are compressed suc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the code length of a letter is inversely proportional to it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equency of occurrence (e.g., think of the Morse cod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ce the letters are transmitted sequentially, no shor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deword can be part of the start of a longer codeword for unique decodabilit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annon-Fano Algorith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range letters in a descending order of their probabilities b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eaking any ties arbitrari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rting at the top, partition the letters into two equi-probab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groups (as closely as possible): assign 0 to the first subgroup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1 to the seco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inue partitioning the subgroups until all letters are exhausted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fter each partition, assign a 0 to the first group and a 1 to th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and append the newly assigned bits to the previously assigned bits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A9FD-8D6A-4ED1-A2F3-91FE5059F9D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757080" y="371520"/>
            <a:ext cx="838692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ven a text message “ELECTRICAL ENGINEERING,” determine th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ative probabilities of the letters in the message and find the Shannon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no code for each letter. Ignore the space charact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ce there are 21 letters in the message, we have the following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ilit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tters: {E, L, C, T, R, I, A, N, G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ilities: {5/21, 2/21, 2/21, 1/21, 2/21, 3/21, 1/21, 3/21, 2/21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de assignm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/2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/2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/2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/2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/2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/2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/2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/2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/2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tretch/>
        </p:blipFill>
        <p:spPr>
          <a:xfrm>
            <a:off x="1549440" y="3419640"/>
            <a:ext cx="2997000" cy="205560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2"/>
          <a:stretch/>
        </p:blipFill>
        <p:spPr>
          <a:xfrm>
            <a:off x="1549440" y="3749760"/>
            <a:ext cx="2997000" cy="204444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3"/>
          <a:stretch/>
        </p:blipFill>
        <p:spPr>
          <a:xfrm>
            <a:off x="1566720" y="4087800"/>
            <a:ext cx="2979720" cy="37800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4"/>
          <a:stretch/>
        </p:blipFill>
        <p:spPr>
          <a:xfrm>
            <a:off x="2219400" y="3260880"/>
            <a:ext cx="450720" cy="30589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5"/>
          <a:stretch/>
        </p:blipFill>
        <p:spPr>
          <a:xfrm>
            <a:off x="2700360" y="3257640"/>
            <a:ext cx="498600" cy="305892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6"/>
          <a:stretch/>
        </p:blipFill>
        <p:spPr>
          <a:xfrm>
            <a:off x="3201840" y="3594240"/>
            <a:ext cx="517680" cy="27241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7"/>
          <a:stretch/>
        </p:blipFill>
        <p:spPr>
          <a:xfrm>
            <a:off x="1552680" y="4776840"/>
            <a:ext cx="3008160" cy="137952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8"/>
          <a:stretch/>
        </p:blipFill>
        <p:spPr>
          <a:xfrm>
            <a:off x="3805200" y="4600440"/>
            <a:ext cx="384120" cy="171936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5553000" y="2907720"/>
            <a:ext cx="273384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deword     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1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1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10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11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0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10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1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4BA-695C-48AE-AC3E-D2D38CE231A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36560" y="857160"/>
            <a:ext cx="840744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xioms for the Algebra of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ual ex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=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uble comp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tativ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ociative la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ributiv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Morgan’s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5120" y="1662120"/>
            <a:ext cx="760716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tual ex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 =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=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ouble comp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mmutativ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+ (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= (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ssociative la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= 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stributiv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=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 Morgan’s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DFE-976F-41A3-A2E7-E31EFAA9CD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36560" y="971640"/>
            <a:ext cx="840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itional Ident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0 =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tativ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ociativ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ributiv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Morgan’s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8360" y="1373040"/>
            <a:ext cx="79405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0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+ 0 =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mmutativ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= (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ssociativ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+ (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= (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stributiv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= 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 Morgan’s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D2E-F120-43A7-9523-8512995344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5640" y="971640"/>
            <a:ext cx="8388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nite Unions and Intersec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se are included in the algeb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inite Unions and Intersec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they are included, the algebra of events is called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Sigma Algeb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406600" y="4573440"/>
                <a:ext cx="3648240" cy="15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limLow>
                          <m:e>
                            <m:limUpp>
                              <m:e>
                                <m:r>
                                  <m:t xml:space="preserve">intersect</m:t>
                                </m:r>
                              </m:e>
                              <m:lim/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392200" y="1893960"/>
                <a:ext cx="440856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limLow>
                          <m:e>
                            <m:limUpp>
                              <m:e>
                                <m:r>
                                  <m:t xml:space="preserve">intersect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2428920" y="4539600"/>
            <a:ext cx="27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3e61c"/>
                </a:solidFill>
                <a:latin typeface="Times New Roman"/>
                <a:ea typeface="Arial"/>
              </a:rPr>
              <a:t>∞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5320440"/>
            <a:ext cx="2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3e61c"/>
                </a:solidFill>
                <a:latin typeface="Times New Roman"/>
                <a:ea typeface="Arial"/>
              </a:rPr>
              <a:t>∞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582F-DC1D-49B1-8E44-2BCC6E3A05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5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5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4200" y="404640"/>
            <a:ext cx="7940520" cy="58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tually Exclusive and Collectively Exhaustiv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tually exclusi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ctively exhausti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et of events that is mutually exclusive and collectively exhaustive is called a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partition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ing Definition of the Sample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SAMPLE SPACE IS REPRESENTED BY THE FIN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RAIN, MUTUALLY EXCLUSIVE, COLLECTIV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XHAUSTIVE SET OF OUTCOMES FOR AN EXPERI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699000" y="1230480"/>
                <a:ext cx="3270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743280" y="1765440"/>
                <a:ext cx="16556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/>
                          <m:lim/>
                        </m:limUpp>
                      </m:e>
                      <m:lim>
                        <m:r>
                          <m:t xml:space="preserve">j</m:t>
                        </m:r>
                      </m:lim>
                    </m:limLow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754200" y="5386320"/>
            <a:ext cx="79405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259-0CB6-4BBE-AB81-B4F5B50146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13:49:59Z</dcterms:created>
  <dc:creator>Jim Allen</dc:creator>
  <dc:description/>
  <dc:language>en-US</dc:language>
  <cp:lastModifiedBy>Charles W. Therrien</cp:lastModifiedBy>
  <dcterms:modified xsi:type="dcterms:W3CDTF">2011-11-22T22:48:26Z</dcterms:modified>
  <cp:revision>199</cp:revision>
  <dc:subject/>
  <dc:title>Slide 1</dc:title>
</cp:coreProperties>
</file>