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592B-7BA8-4538-9420-5824D1CE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743A-552B-43D0-AED4-F95B3AC81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4AB1-F76A-40E2-8910-70900644B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C3BC-A8FC-48D9-81DA-D7BD810D2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4F5F-CBD8-4ABA-BCE3-3BDD335E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6D2E-0306-4EAA-8DFE-04C0314AD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9BEB-C0CD-4B70-95B7-ED74BF8C1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6701-67E7-459F-BF19-A2BDD1997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D4E0-7475-40CD-9270-5CC84E1D1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5294-71FE-42FC-BF84-20B50061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1C7E-EE43-451E-8B05-9F69EA1A1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CAB0-6E47-4E46-9A6B-276E3B7CE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7AD0-7222-44CE-B52D-488ECA11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94CC-432B-4D37-B669-77AADF81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D1C4-37FD-4A90-B716-9C470ADA8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45C-32F7-4AE2-99A0-4C33B7EE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112D-CF20-40F7-A51A-8ACA4A5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26C-1CA1-4D59-8C85-0C447C6E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949-8788-4856-8D44-74B9A36B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14A-28A7-41D5-BCA2-D1EEDA01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56E-424A-40CA-915A-B9379F9A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6AA-922E-4831-8598-DFB24B17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C0B-1A07-4A37-9277-3D9F792D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ED5-081C-452C-80FC-61EC7A66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ECC-9394-4153-B1D1-C51BFBFF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BC0-AD00-4F09-A23A-D5383D0A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EDD-E39F-4B5C-A0F4-D9682161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2E0-F972-4456-B315-BB6F4B03A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Computer and Network Secur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Security and Privacy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002x009.jpg"/>
          <p:cNvPicPr/>
          <p:nvPr/>
        </p:nvPicPr>
        <p:blipFill>
          <a:blip r:embed="rId1"/>
          <a:stretch/>
        </p:blipFill>
        <p:spPr>
          <a:xfrm>
            <a:off x="1143000" y="251460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002x010.jpg"/>
          <p:cNvPicPr/>
          <p:nvPr/>
        </p:nvPicPr>
        <p:blipFill>
          <a:blip r:embed="rId1"/>
          <a:stretch/>
        </p:blipFill>
        <p:spPr>
          <a:xfrm>
            <a:off x="1143000" y="2523960"/>
            <a:ext cx="685800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002x011.jpg"/>
          <p:cNvPicPr/>
          <p:nvPr/>
        </p:nvPicPr>
        <p:blipFill>
          <a:blip r:embed="rId1"/>
          <a:stretch/>
        </p:blipFill>
        <p:spPr>
          <a:xfrm>
            <a:off x="1143000" y="2135160"/>
            <a:ext cx="68580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002x012.jpg"/>
          <p:cNvPicPr/>
          <p:nvPr/>
        </p:nvPicPr>
        <p:blipFill>
          <a:blip r:embed="rId1"/>
          <a:stretch/>
        </p:blipFill>
        <p:spPr>
          <a:xfrm>
            <a:off x="1143000" y="2556000"/>
            <a:ext cx="685800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002x013.jpg"/>
          <p:cNvPicPr/>
          <p:nvPr/>
        </p:nvPicPr>
        <p:blipFill>
          <a:blip r:embed="rId1"/>
          <a:stretch/>
        </p:blipFill>
        <p:spPr>
          <a:xfrm>
            <a:off x="1143000" y="2165400"/>
            <a:ext cx="6858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002x001.jpg"/>
          <p:cNvPicPr/>
          <p:nvPr/>
        </p:nvPicPr>
        <p:blipFill>
          <a:blip r:embed="rId1"/>
          <a:stretch/>
        </p:blipFill>
        <p:spPr>
          <a:xfrm>
            <a:off x="1143000" y="1181160"/>
            <a:ext cx="6858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002x002.jpg"/>
          <p:cNvPicPr/>
          <p:nvPr/>
        </p:nvPicPr>
        <p:blipFill>
          <a:blip r:embed="rId1"/>
          <a:stretch/>
        </p:blipFill>
        <p:spPr>
          <a:xfrm>
            <a:off x="1143000" y="1797120"/>
            <a:ext cx="6858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002x003.jpg"/>
          <p:cNvPicPr/>
          <p:nvPr/>
        </p:nvPicPr>
        <p:blipFill>
          <a:blip r:embed="rId1"/>
          <a:stretch/>
        </p:blipFill>
        <p:spPr>
          <a:xfrm>
            <a:off x="1496880" y="762120"/>
            <a:ext cx="6150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002x004.jpg"/>
          <p:cNvPicPr/>
          <p:nvPr/>
        </p:nvPicPr>
        <p:blipFill>
          <a:blip r:embed="rId1"/>
          <a:stretch/>
        </p:blipFill>
        <p:spPr>
          <a:xfrm>
            <a:off x="1569960" y="762120"/>
            <a:ext cx="6004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002x005.jpg"/>
          <p:cNvPicPr/>
          <p:nvPr/>
        </p:nvPicPr>
        <p:blipFill>
          <a:blip r:embed="rId1"/>
          <a:stretch/>
        </p:blipFill>
        <p:spPr>
          <a:xfrm>
            <a:off x="1143000" y="2108160"/>
            <a:ext cx="6858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002x006.jpg"/>
          <p:cNvPicPr/>
          <p:nvPr/>
        </p:nvPicPr>
        <p:blipFill>
          <a:blip r:embed="rId1"/>
          <a:stretch/>
        </p:blipFill>
        <p:spPr>
          <a:xfrm>
            <a:off x="1143000" y="1141560"/>
            <a:ext cx="68580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002x007.jpg"/>
          <p:cNvPicPr/>
          <p:nvPr/>
        </p:nvPicPr>
        <p:blipFill>
          <a:blip r:embed="rId1"/>
          <a:stretch/>
        </p:blipFill>
        <p:spPr>
          <a:xfrm>
            <a:off x="1143000" y="2357280"/>
            <a:ext cx="68580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02x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002x008.jpg"/>
          <p:cNvPicPr/>
          <p:nvPr/>
        </p:nvPicPr>
        <p:blipFill>
          <a:blip r:embed="rId1"/>
          <a:stretch/>
        </p:blipFill>
        <p:spPr>
          <a:xfrm>
            <a:off x="1143000" y="1947960"/>
            <a:ext cx="68580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06:09Z</dcterms:created>
  <dc:creator>Pawan Sharma</dc:creator>
  <dc:description/>
  <dc:language>en-US</dc:language>
  <cp:lastModifiedBy>Pawan Sharma</cp:lastModifiedBy>
  <dcterms:modified xsi:type="dcterms:W3CDTF">2013-07-24T07:26:50Z</dcterms:modified>
  <cp:revision>52</cp:revision>
  <dc:subject/>
  <dc:title>001x001</dc:title>
</cp:coreProperties>
</file>