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2777-01BB-4C0A-B5B0-E545AA5D9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FEC1-DF8F-451C-9A95-7E9607C89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1586-C94F-4342-8AD1-7E5FF04F0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7497-374F-4089-BE49-4500005C5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96C6-6C38-41E8-A61C-98F280183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4AB6-459D-43E1-9253-761C1AD1C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155-E68B-4553-8D36-A97321C8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39F-D2FB-4130-BCAC-74601D08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0EAB-4A52-42C4-95BC-A9F9316E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C2B-4D79-4D73-AF92-B84D94B5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3B70-EB15-4644-9451-0326A2FE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9C3-61FF-420C-A93C-2520E782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2A3B-9A78-4803-947E-B97218C9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181-744E-4A9A-A654-2431099C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AA4-9611-4EC8-A3DB-441D0E0A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541-D01D-4E46-8F59-F1AE5042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00C1-CD31-456E-A841-9C5262AE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5CAF-68AC-4697-8A50-65A46E51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8C71-DF33-4197-AB07-1AD6FE8E6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Based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Engineering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002x001.jpg"/>
          <p:cNvPicPr/>
          <p:nvPr/>
        </p:nvPicPr>
        <p:blipFill>
          <a:blip r:embed="rId1"/>
          <a:stretch/>
        </p:blipFill>
        <p:spPr>
          <a:xfrm>
            <a:off x="1143000" y="1312920"/>
            <a:ext cx="68580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002x002.jpg"/>
          <p:cNvPicPr/>
          <p:nvPr/>
        </p:nvPicPr>
        <p:blipFill>
          <a:blip r:embed="rId1"/>
          <a:stretch/>
        </p:blipFill>
        <p:spPr>
          <a:xfrm>
            <a:off x="1143000" y="1147680"/>
            <a:ext cx="68580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002x003.jpg"/>
          <p:cNvPicPr/>
          <p:nvPr/>
        </p:nvPicPr>
        <p:blipFill>
          <a:blip r:embed="rId1"/>
          <a:stretch/>
        </p:blipFill>
        <p:spPr>
          <a:xfrm>
            <a:off x="1143000" y="1803240"/>
            <a:ext cx="6858000" cy="32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002x004.jpg"/>
          <p:cNvPicPr/>
          <p:nvPr/>
        </p:nvPicPr>
        <p:blipFill>
          <a:blip r:embed="rId1"/>
          <a:stretch/>
        </p:blipFill>
        <p:spPr>
          <a:xfrm>
            <a:off x="1143000" y="2076480"/>
            <a:ext cx="68580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9:06:09Z</dcterms:created>
  <dc:creator>Pawan Sharma</dc:creator>
  <dc:description/>
  <dc:language>en-US</dc:language>
  <cp:lastModifiedBy>Pawan Sharma</cp:lastModifiedBy>
  <dcterms:modified xsi:type="dcterms:W3CDTF">2013-07-23T12:29:44Z</dcterms:modified>
  <cp:revision>49</cp:revision>
  <dc:subject/>
  <dc:title>001x001</dc:title>
</cp:coreProperties>
</file>