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797-5968-4121-84E5-B7E1DC8C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53C-F82C-4982-B7F3-8FB6A61A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C52-C8A1-4434-8B9D-7F15DBB4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940F-10EB-40C7-B2D0-B68090C0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A775-8613-47D2-8080-499F6A5B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42AB-5266-42AC-8E74-5989EDE0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D7C-7518-430D-B605-59FE4621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DE69-D09E-4B48-A07B-31B9FE9A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CC6-1B49-42C5-977E-720E3A4F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7413-39E9-4762-B496-7D2CB867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71CC-0871-4162-A43B-51B6DA1C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684-EC13-4BDE-A05B-A11E6BEB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F787-4DA8-4719-8739-6C5126C17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960560" y="0"/>
            <a:ext cx="527832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15:10:11Z</dcterms:created>
  <dc:creator>Jim</dc:creator>
  <dc:description/>
  <dc:language>en-US</dc:language>
  <cp:lastModifiedBy>Jim</cp:lastModifiedBy>
  <dcterms:modified xsi:type="dcterms:W3CDTF">2013-09-24T15:12:27Z</dcterms:modified>
  <cp:revision>1</cp:revision>
  <dc:subject/>
  <dc:title>PowerPoint Presentation</dc:title>
</cp:coreProperties>
</file>