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notesMasterIdLst>
    <p:notesMasterId r:id="rId12"/>
  </p:notes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  <p:sldId id="275" r:id="rId32"/>
    <p:sldId id="276" r:id="rId33"/>
    <p:sldId id="277" r:id="rId34"/>
    <p:sldId id="278" r:id="rId35"/>
    <p:sldId id="279" r:id="rId36"/>
    <p:sldId id="280" r:id="rId37"/>
    <p:sldId id="281" r:id="rId38"/>
    <p:sldId id="282" r:id="rId39"/>
    <p:sldId id="283" r:id="rId40"/>
    <p:sldId id="284" r:id="rId41"/>
    <p:sldId id="285" r:id="rId42"/>
    <p:sldId id="286" r:id="rId43"/>
    <p:sldId id="287" r:id="rId44"/>
    <p:sldId id="288" r:id="rId45"/>
    <p:sldId id="289" r:id="rId46"/>
    <p:sldId id="290" r:id="rId47"/>
    <p:sldId id="291" r:id="rId48"/>
    <p:sldId id="292" r:id="rId49"/>
    <p:sldId id="293" r:id="rId50"/>
    <p:sldId id="294" r:id="rId51"/>
    <p:sldId id="295" r:id="rId52"/>
    <p:sldId id="296" r:id="rId53"/>
    <p:sldId id="297" r:id="rId54"/>
    <p:sldId id="298" r:id="rId55"/>
    <p:sldId id="299" r:id="rId56"/>
    <p:sldId id="300" r:id="rId57"/>
    <p:sldId id="301" r:id="rId58"/>
    <p:sldId id="302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notesMaster" Target="notesMasters/notesMaster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slide" Target="slides/slide20.xml"/><Relationship Id="rId33" Type="http://schemas.openxmlformats.org/officeDocument/2006/relationships/slide" Target="slides/slide21.xml"/><Relationship Id="rId34" Type="http://schemas.openxmlformats.org/officeDocument/2006/relationships/slide" Target="slides/slide22.xml"/><Relationship Id="rId35" Type="http://schemas.openxmlformats.org/officeDocument/2006/relationships/slide" Target="slides/slide23.xml"/><Relationship Id="rId36" Type="http://schemas.openxmlformats.org/officeDocument/2006/relationships/slide" Target="slides/slide24.xml"/><Relationship Id="rId37" Type="http://schemas.openxmlformats.org/officeDocument/2006/relationships/slide" Target="slides/slide25.xml"/><Relationship Id="rId38" Type="http://schemas.openxmlformats.org/officeDocument/2006/relationships/slide" Target="slides/slide26.xml"/><Relationship Id="rId39" Type="http://schemas.openxmlformats.org/officeDocument/2006/relationships/slide" Target="slides/slide27.xml"/><Relationship Id="rId40" Type="http://schemas.openxmlformats.org/officeDocument/2006/relationships/slide" Target="slides/slide28.xml"/><Relationship Id="rId41" Type="http://schemas.openxmlformats.org/officeDocument/2006/relationships/slide" Target="slides/slide29.xml"/><Relationship Id="rId42" Type="http://schemas.openxmlformats.org/officeDocument/2006/relationships/slide" Target="slides/slide30.xml"/><Relationship Id="rId43" Type="http://schemas.openxmlformats.org/officeDocument/2006/relationships/slide" Target="slides/slide31.xml"/><Relationship Id="rId44" Type="http://schemas.openxmlformats.org/officeDocument/2006/relationships/slide" Target="slides/slide32.xml"/><Relationship Id="rId45" Type="http://schemas.openxmlformats.org/officeDocument/2006/relationships/slide" Target="slides/slide33.xml"/><Relationship Id="rId46" Type="http://schemas.openxmlformats.org/officeDocument/2006/relationships/slide" Target="slides/slide34.xml"/><Relationship Id="rId47" Type="http://schemas.openxmlformats.org/officeDocument/2006/relationships/slide" Target="slides/slide35.xml"/><Relationship Id="rId48" Type="http://schemas.openxmlformats.org/officeDocument/2006/relationships/slide" Target="slides/slide36.xml"/><Relationship Id="rId49" Type="http://schemas.openxmlformats.org/officeDocument/2006/relationships/slide" Target="slides/slide37.xml"/><Relationship Id="rId50" Type="http://schemas.openxmlformats.org/officeDocument/2006/relationships/slide" Target="slides/slide38.xml"/><Relationship Id="rId51" Type="http://schemas.openxmlformats.org/officeDocument/2006/relationships/slide" Target="slides/slide39.xml"/><Relationship Id="rId52" Type="http://schemas.openxmlformats.org/officeDocument/2006/relationships/slide" Target="slides/slide40.xml"/><Relationship Id="rId53" Type="http://schemas.openxmlformats.org/officeDocument/2006/relationships/slide" Target="slides/slide41.xml"/><Relationship Id="rId54" Type="http://schemas.openxmlformats.org/officeDocument/2006/relationships/slide" Target="slides/slide42.xml"/><Relationship Id="rId55" Type="http://schemas.openxmlformats.org/officeDocument/2006/relationships/slide" Target="slides/slide43.xml"/><Relationship Id="rId56" Type="http://schemas.openxmlformats.org/officeDocument/2006/relationships/slide" Target="slides/slide44.xml"/><Relationship Id="rId57" Type="http://schemas.openxmlformats.org/officeDocument/2006/relationships/slide" Target="slides/slide45.xml"/><Relationship Id="rId58" Type="http://schemas.openxmlformats.org/officeDocument/2006/relationships/slide" Target="slides/slide46.xml"/><Relationship Id="rId59" Type="http://schemas.openxmlformats.org/officeDocument/2006/relationships/slide" Target="slides/slide47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dt" idx="1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6DC4C1-2C05-451C-B7B6-3286C3C7D50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Verdana"/>
              </a:rPr>
              <a:t>Click to move the slide</a:t>
            </a:r>
            <a:endParaRPr b="0" lang="en-US" sz="24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 type="ftr" idx="1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 type="sldNum" idx="1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6B7BB4-8F73-4472-BBE9-08BA031CFC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7CB8597-A91A-482B-9879-821443FFFB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275AA5E-E807-4362-B20B-344CB34D6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BC3C2E9-FE5D-465B-99B9-D2BE61257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ECD4A7C-F509-4337-8E54-FEE91040D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492A304-E0E3-4C78-8ED4-3F307F5B7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445E889-8FF6-46EE-BCB6-0A09A831E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14E73E8-E793-4DEA-9735-10931A7E4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C7C4250-FAB2-4222-9250-6D2819B31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C90A8EF-D0A0-4D4F-8A63-25DC25DBA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AFB4A10-01B7-43BE-9FF5-394E86263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3600258-F180-411B-889E-DF7D8EF27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5B7F88E-8CC3-44E6-8427-C4CED5100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369D7F9-BAA0-40F2-8C71-8A777B558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f49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f497d"/>
              </a:solidFill>
              <a:latin typeface="Verdana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4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5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6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FW_March2014_PPT_Template_4.jpg"/>
          <p:cNvPicPr/>
          <p:nvPr/>
        </p:nvPicPr>
        <p:blipFill>
          <a:blip r:embed="rId2"/>
          <a:stretch/>
        </p:blipFill>
        <p:spPr>
          <a:xfrm>
            <a:off x="-7920" y="-763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" name="Picture 5" descr="FW no infinity logo.png"/>
          <p:cNvPicPr/>
          <p:nvPr/>
        </p:nvPicPr>
        <p:blipFill>
          <a:blip r:embed="rId3"/>
          <a:stretch/>
        </p:blipFill>
        <p:spPr>
          <a:xfrm>
            <a:off x="7388280" y="6199200"/>
            <a:ext cx="1377720" cy="366840"/>
          </a:xfrm>
          <a:prstGeom prst="rect">
            <a:avLst/>
          </a:prstGeom>
          <a:ln w="0">
            <a:noFill/>
          </a:ln>
        </p:spPr>
      </p:pic>
      <p:sp>
        <p:nvSpPr>
          <p:cNvPr id="4" name="TextBox 2"/>
          <p:cNvSpPr/>
          <p:nvPr/>
        </p:nvSpPr>
        <p:spPr>
          <a:xfrm>
            <a:off x="1482840" y="6603840"/>
            <a:ext cx="616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200" spc="-1" strike="noStrike">
                <a:solidFill>
                  <a:srgbClr val="000000"/>
                </a:solidFill>
                <a:latin typeface="Calibri"/>
                <a:ea typeface="Verdana"/>
              </a:rPr>
              <a:t>© 2014 by Flat World Knowledge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Box 8"/>
          <p:cNvSpPr/>
          <p:nvPr/>
        </p:nvSpPr>
        <p:spPr>
          <a:xfrm>
            <a:off x="8699400" y="660240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CC275FF-9337-40A5-AE26-917EB02498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Picture 6" descr="FW_March2014_PPT_Template_4.jpg"/>
          <p:cNvPicPr/>
          <p:nvPr/>
        </p:nvPicPr>
        <p:blipFill>
          <a:blip r:embed="rId2"/>
          <a:stretch/>
        </p:blipFill>
        <p:spPr>
          <a:xfrm>
            <a:off x="-7920" y="-7632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5" descr="FW no infinity logo.png"/>
          <p:cNvPicPr/>
          <p:nvPr/>
        </p:nvPicPr>
        <p:blipFill>
          <a:blip r:embed="rId3"/>
          <a:stretch/>
        </p:blipFill>
        <p:spPr>
          <a:xfrm>
            <a:off x="7388280" y="6199200"/>
            <a:ext cx="1377720" cy="366840"/>
          </a:xfrm>
          <a:prstGeom prst="rect">
            <a:avLst/>
          </a:prstGeom>
          <a:ln w="0">
            <a:noFill/>
          </a:ln>
        </p:spPr>
      </p:pic>
      <p:sp>
        <p:nvSpPr>
          <p:cNvPr id="400" name="TextBox 2"/>
          <p:cNvSpPr/>
          <p:nvPr/>
        </p:nvSpPr>
        <p:spPr>
          <a:xfrm>
            <a:off x="1482840" y="6603840"/>
            <a:ext cx="616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200" spc="-1" strike="noStrike">
                <a:solidFill>
                  <a:srgbClr val="000000"/>
                </a:solidFill>
                <a:latin typeface="Calibri"/>
                <a:ea typeface="Verdana"/>
              </a:rPr>
              <a:t>© 2014 by Flat World Knowledge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Box 8"/>
          <p:cNvSpPr/>
          <p:nvPr/>
        </p:nvSpPr>
        <p:spPr>
          <a:xfrm>
            <a:off x="8699400" y="660240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A520CE-080A-479B-A8BF-3F9D5EAD61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 type="dt" idx="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I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13EC2E9-D0EC-47C8-A213-CA8719A3A32F}" type="datetime">
              <a:rPr b="0" lang="en-IN" sz="2400" spc="-1" strike="noStrike">
                <a:solidFill>
                  <a:srgbClr val="000000"/>
                </a:solidFill>
                <a:latin typeface="Times New Roman"/>
              </a:rPr>
              <a:t>29/07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 type="ftr" idx="9"/>
          </p:nvPr>
        </p:nvSpPr>
        <p:spPr>
          <a:xfrm>
            <a:off x="3124080" y="6356520"/>
            <a:ext cx="289584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 type="sldNum" idx="1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-</a:t>
            </a:r>
            <a:fld id="{C52BEF71-947B-44C9-A90F-A43ECD95522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6" descr="FW_March2014_PPT_Template_4.jpg"/>
          <p:cNvPicPr/>
          <p:nvPr/>
        </p:nvPicPr>
        <p:blipFill>
          <a:blip r:embed="rId2"/>
          <a:stretch/>
        </p:blipFill>
        <p:spPr>
          <a:xfrm>
            <a:off x="-7920" y="-7632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FW no infinity logo.png"/>
          <p:cNvPicPr/>
          <p:nvPr/>
        </p:nvPicPr>
        <p:blipFill>
          <a:blip r:embed="rId3"/>
          <a:stretch/>
        </p:blipFill>
        <p:spPr>
          <a:xfrm>
            <a:off x="7388280" y="6199200"/>
            <a:ext cx="1377720" cy="366840"/>
          </a:xfrm>
          <a:prstGeom prst="rect">
            <a:avLst/>
          </a:prstGeom>
          <a:ln w="0">
            <a:noFill/>
          </a:ln>
        </p:spPr>
      </p:pic>
      <p:sp>
        <p:nvSpPr>
          <p:cNvPr id="44" name="TextBox 2"/>
          <p:cNvSpPr/>
          <p:nvPr/>
        </p:nvSpPr>
        <p:spPr>
          <a:xfrm>
            <a:off x="1482840" y="6603840"/>
            <a:ext cx="616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200" spc="-1" strike="noStrike">
                <a:solidFill>
                  <a:srgbClr val="000000"/>
                </a:solidFill>
                <a:latin typeface="Calibri"/>
                <a:ea typeface="Verdana"/>
              </a:rPr>
              <a:t>© 2014 by Flat World Knowledge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8"/>
          <p:cNvSpPr/>
          <p:nvPr/>
        </p:nvSpPr>
        <p:spPr>
          <a:xfrm>
            <a:off x="8699400" y="660240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F209FC-6F6A-49A8-ABE7-79439749BF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7" descr="FW_March2014_PPT_Template_1.jpg"/>
          <p:cNvPicPr/>
          <p:nvPr/>
        </p:nvPicPr>
        <p:blipFill>
          <a:blip r:embed="rId4"/>
          <a:stretch/>
        </p:blipFill>
        <p:spPr>
          <a:xfrm>
            <a:off x="0" y="-6840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8" descr="FW no infinity logo.png"/>
          <p:cNvPicPr/>
          <p:nvPr/>
        </p:nvPicPr>
        <p:blipFill>
          <a:blip r:embed="rId5"/>
          <a:stretch/>
        </p:blipFill>
        <p:spPr>
          <a:xfrm>
            <a:off x="6410160" y="5875200"/>
            <a:ext cx="2387880" cy="635040"/>
          </a:xfrm>
          <a:prstGeom prst="rect">
            <a:avLst/>
          </a:prstGeom>
          <a:ln w="0">
            <a:noFill/>
          </a:ln>
        </p:spPr>
      </p:pic>
      <p:sp>
        <p:nvSpPr>
          <p:cNvPr id="48" name="TextBox 10"/>
          <p:cNvSpPr/>
          <p:nvPr/>
        </p:nvSpPr>
        <p:spPr>
          <a:xfrm>
            <a:off x="1481040" y="6602400"/>
            <a:ext cx="616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200" spc="-1" strike="noStrike">
                <a:solidFill>
                  <a:srgbClr val="000000"/>
                </a:solidFill>
                <a:latin typeface="Calibri"/>
                <a:ea typeface="Verdana"/>
              </a:rPr>
              <a:t>© 2014 by Flat World Knowledge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6" descr="FW_March2014_PPT_Template_4.jpg"/>
          <p:cNvPicPr/>
          <p:nvPr/>
        </p:nvPicPr>
        <p:blipFill>
          <a:blip r:embed="rId2"/>
          <a:stretch/>
        </p:blipFill>
        <p:spPr>
          <a:xfrm>
            <a:off x="-7920" y="-7632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FW no infinity logo.png"/>
          <p:cNvPicPr/>
          <p:nvPr/>
        </p:nvPicPr>
        <p:blipFill>
          <a:blip r:embed="rId3"/>
          <a:stretch/>
        </p:blipFill>
        <p:spPr>
          <a:xfrm>
            <a:off x="7388280" y="6199200"/>
            <a:ext cx="1377720" cy="366840"/>
          </a:xfrm>
          <a:prstGeom prst="rect">
            <a:avLst/>
          </a:prstGeom>
          <a:ln w="0">
            <a:noFill/>
          </a:ln>
        </p:spPr>
      </p:pic>
      <p:sp>
        <p:nvSpPr>
          <p:cNvPr id="89" name="TextBox 2"/>
          <p:cNvSpPr/>
          <p:nvPr/>
        </p:nvSpPr>
        <p:spPr>
          <a:xfrm>
            <a:off x="1482840" y="6603840"/>
            <a:ext cx="616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200" spc="-1" strike="noStrike">
                <a:solidFill>
                  <a:srgbClr val="000000"/>
                </a:solidFill>
                <a:latin typeface="Calibri"/>
                <a:ea typeface="Verdana"/>
              </a:rPr>
              <a:t>© 2014 by Flat World Knowledge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8"/>
          <p:cNvSpPr/>
          <p:nvPr/>
        </p:nvSpPr>
        <p:spPr>
          <a:xfrm>
            <a:off x="8699400" y="660240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A4A1EFE-5885-45DF-B46E-194C0C3239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ch 20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6" descr="FW_March2014_PPT_Template_4.jpg"/>
          <p:cNvPicPr/>
          <p:nvPr/>
        </p:nvPicPr>
        <p:blipFill>
          <a:blip r:embed="rId2"/>
          <a:stretch/>
        </p:blipFill>
        <p:spPr>
          <a:xfrm>
            <a:off x="-7920" y="-7632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FW no infinity logo.png"/>
          <p:cNvPicPr/>
          <p:nvPr/>
        </p:nvPicPr>
        <p:blipFill>
          <a:blip r:embed="rId3"/>
          <a:stretch/>
        </p:blipFill>
        <p:spPr>
          <a:xfrm>
            <a:off x="7388280" y="6199200"/>
            <a:ext cx="1377720" cy="366840"/>
          </a:xfrm>
          <a:prstGeom prst="rect">
            <a:avLst/>
          </a:prstGeom>
          <a:ln w="0">
            <a:noFill/>
          </a:ln>
        </p:spPr>
      </p:pic>
      <p:sp>
        <p:nvSpPr>
          <p:cNvPr id="132" name="TextBox 2"/>
          <p:cNvSpPr/>
          <p:nvPr/>
        </p:nvSpPr>
        <p:spPr>
          <a:xfrm>
            <a:off x="1482840" y="6603840"/>
            <a:ext cx="616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200" spc="-1" strike="noStrike">
                <a:solidFill>
                  <a:srgbClr val="000000"/>
                </a:solidFill>
                <a:latin typeface="Calibri"/>
                <a:ea typeface="Verdana"/>
              </a:rPr>
              <a:t>© 2014 by Flat World Knowledge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8"/>
          <p:cNvSpPr/>
          <p:nvPr/>
        </p:nvSpPr>
        <p:spPr>
          <a:xfrm>
            <a:off x="8699400" y="660240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707C096-BB5D-474C-B6CE-A1CC78B513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7" descr="FW_March2014_PPT_Template_3.jpg"/>
          <p:cNvPicPr/>
          <p:nvPr/>
        </p:nvPicPr>
        <p:blipFill>
          <a:blip r:embed="rId4"/>
          <a:stretch/>
        </p:blipFill>
        <p:spPr>
          <a:xfrm>
            <a:off x="0" y="-6840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8" descr="FW no infinity logo.png"/>
          <p:cNvPicPr/>
          <p:nvPr/>
        </p:nvPicPr>
        <p:blipFill>
          <a:blip r:embed="rId5"/>
          <a:stretch/>
        </p:blipFill>
        <p:spPr>
          <a:xfrm>
            <a:off x="7388280" y="6130800"/>
            <a:ext cx="1377720" cy="366840"/>
          </a:xfrm>
          <a:prstGeom prst="rect">
            <a:avLst/>
          </a:prstGeom>
          <a:ln w="0">
            <a:noFill/>
          </a:ln>
        </p:spPr>
      </p:pic>
      <p:sp>
        <p:nvSpPr>
          <p:cNvPr id="136" name="TextBox 10"/>
          <p:cNvSpPr/>
          <p:nvPr/>
        </p:nvSpPr>
        <p:spPr>
          <a:xfrm>
            <a:off x="1482840" y="6602400"/>
            <a:ext cx="616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200" spc="-1" strike="noStrike">
                <a:solidFill>
                  <a:srgbClr val="000000"/>
                </a:solidFill>
                <a:latin typeface="Calibri"/>
                <a:ea typeface="Verdana"/>
              </a:rPr>
              <a:t>© 2014 by Flat World Knowledge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11"/>
          <p:cNvSpPr/>
          <p:nvPr/>
        </p:nvSpPr>
        <p:spPr>
          <a:xfrm>
            <a:off x="8699400" y="653400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ABEC2BA-7D59-4EBD-9A30-AD7A87BE7C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2"/>
          </p:nvPr>
        </p:nvSpPr>
        <p:spPr>
          <a:xfrm>
            <a:off x="456840" y="62881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ch 20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6" descr="FW_March2014_PPT_Template_4.jpg"/>
          <p:cNvPicPr/>
          <p:nvPr/>
        </p:nvPicPr>
        <p:blipFill>
          <a:blip r:embed="rId2"/>
          <a:stretch/>
        </p:blipFill>
        <p:spPr>
          <a:xfrm>
            <a:off x="-7920" y="-7632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FW no infinity logo.png"/>
          <p:cNvPicPr/>
          <p:nvPr/>
        </p:nvPicPr>
        <p:blipFill>
          <a:blip r:embed="rId3"/>
          <a:stretch/>
        </p:blipFill>
        <p:spPr>
          <a:xfrm>
            <a:off x="7388280" y="6199200"/>
            <a:ext cx="1377720" cy="366840"/>
          </a:xfrm>
          <a:prstGeom prst="rect">
            <a:avLst/>
          </a:prstGeom>
          <a:ln w="0">
            <a:noFill/>
          </a:ln>
        </p:spPr>
      </p:pic>
      <p:sp>
        <p:nvSpPr>
          <p:cNvPr id="179" name="TextBox 2"/>
          <p:cNvSpPr/>
          <p:nvPr/>
        </p:nvSpPr>
        <p:spPr>
          <a:xfrm>
            <a:off x="1482840" y="6603840"/>
            <a:ext cx="616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200" spc="-1" strike="noStrike">
                <a:solidFill>
                  <a:srgbClr val="000000"/>
                </a:solidFill>
                <a:latin typeface="Calibri"/>
                <a:ea typeface="Verdana"/>
              </a:rPr>
              <a:t>© 2014 by Flat World Knowledge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Box 8"/>
          <p:cNvSpPr/>
          <p:nvPr/>
        </p:nvSpPr>
        <p:spPr>
          <a:xfrm>
            <a:off x="8699400" y="660240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B2D0562-776D-41BE-A9F9-C84B6C1FA3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7" descr="FW_March2014_PPT_Template_5.jpg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8" descr="FW no infinity logo.png"/>
          <p:cNvPicPr/>
          <p:nvPr/>
        </p:nvPicPr>
        <p:blipFill>
          <a:blip r:embed="rId5"/>
          <a:stretch/>
        </p:blipFill>
        <p:spPr>
          <a:xfrm>
            <a:off x="7388280" y="6199200"/>
            <a:ext cx="1377720" cy="366840"/>
          </a:xfrm>
          <a:prstGeom prst="rect">
            <a:avLst/>
          </a:prstGeom>
          <a:ln w="0">
            <a:noFill/>
          </a:ln>
        </p:spPr>
      </p:pic>
      <p:sp>
        <p:nvSpPr>
          <p:cNvPr id="183" name="TextBox 10"/>
          <p:cNvSpPr/>
          <p:nvPr/>
        </p:nvSpPr>
        <p:spPr>
          <a:xfrm>
            <a:off x="1482840" y="6602400"/>
            <a:ext cx="616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200" spc="-1" strike="noStrike">
                <a:solidFill>
                  <a:srgbClr val="000000"/>
                </a:solidFill>
                <a:latin typeface="Calibri"/>
                <a:ea typeface="Verdana"/>
              </a:rPr>
              <a:t>© 2014 by Flat World Knowledge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11"/>
          <p:cNvSpPr/>
          <p:nvPr/>
        </p:nvSpPr>
        <p:spPr>
          <a:xfrm>
            <a:off x="8699400" y="660240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964A7ED-C3C0-41FF-9C71-BE8F92CC31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ch 20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6" descr="FW_March2014_PPT_Template_4.jpg"/>
          <p:cNvPicPr/>
          <p:nvPr/>
        </p:nvPicPr>
        <p:blipFill>
          <a:blip r:embed="rId2"/>
          <a:stretch/>
        </p:blipFill>
        <p:spPr>
          <a:xfrm>
            <a:off x="-7920" y="-7632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5" descr="FW no infinity logo.png"/>
          <p:cNvPicPr/>
          <p:nvPr/>
        </p:nvPicPr>
        <p:blipFill>
          <a:blip r:embed="rId3"/>
          <a:stretch/>
        </p:blipFill>
        <p:spPr>
          <a:xfrm>
            <a:off x="7388280" y="6199200"/>
            <a:ext cx="1377720" cy="366840"/>
          </a:xfrm>
          <a:prstGeom prst="rect">
            <a:avLst/>
          </a:prstGeom>
          <a:ln w="0">
            <a:noFill/>
          </a:ln>
        </p:spPr>
      </p:pic>
      <p:sp>
        <p:nvSpPr>
          <p:cNvPr id="226" name="TextBox 2"/>
          <p:cNvSpPr/>
          <p:nvPr/>
        </p:nvSpPr>
        <p:spPr>
          <a:xfrm>
            <a:off x="1482840" y="6603840"/>
            <a:ext cx="616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200" spc="-1" strike="noStrike">
                <a:solidFill>
                  <a:srgbClr val="000000"/>
                </a:solidFill>
                <a:latin typeface="Calibri"/>
                <a:ea typeface="Verdana"/>
              </a:rPr>
              <a:t>© 2014 by Flat World Knowledge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Box 8"/>
          <p:cNvSpPr/>
          <p:nvPr/>
        </p:nvSpPr>
        <p:spPr>
          <a:xfrm>
            <a:off x="8699400" y="660240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BDC2556-1B5D-498E-B056-E2F60900BF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ch 20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Picture 6" descr="FW_March2014_PPT_Template_4.jpg"/>
          <p:cNvPicPr/>
          <p:nvPr/>
        </p:nvPicPr>
        <p:blipFill>
          <a:blip r:embed="rId2"/>
          <a:stretch/>
        </p:blipFill>
        <p:spPr>
          <a:xfrm>
            <a:off x="-7920" y="-7632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5" descr="FW no infinity logo.png"/>
          <p:cNvPicPr/>
          <p:nvPr/>
        </p:nvPicPr>
        <p:blipFill>
          <a:blip r:embed="rId3"/>
          <a:stretch/>
        </p:blipFill>
        <p:spPr>
          <a:xfrm>
            <a:off x="7388280" y="6199200"/>
            <a:ext cx="1377720" cy="366840"/>
          </a:xfrm>
          <a:prstGeom prst="rect">
            <a:avLst/>
          </a:prstGeom>
          <a:ln w="0">
            <a:noFill/>
          </a:ln>
        </p:spPr>
      </p:pic>
      <p:sp>
        <p:nvSpPr>
          <p:cNvPr id="269" name="TextBox 2"/>
          <p:cNvSpPr/>
          <p:nvPr/>
        </p:nvSpPr>
        <p:spPr>
          <a:xfrm>
            <a:off x="1482840" y="6603840"/>
            <a:ext cx="616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200" spc="-1" strike="noStrike">
                <a:solidFill>
                  <a:srgbClr val="000000"/>
                </a:solidFill>
                <a:latin typeface="Calibri"/>
                <a:ea typeface="Verdana"/>
              </a:rPr>
              <a:t>© 2014 by Flat World Knowledge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8"/>
          <p:cNvSpPr/>
          <p:nvPr/>
        </p:nvSpPr>
        <p:spPr>
          <a:xfrm>
            <a:off x="8699400" y="660240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37CD634-9ED0-44FC-A1FE-5D128C87B4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dt" idx="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ch 20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Picture 6" descr="FW_March2014_PPT_Template_4.jpg"/>
          <p:cNvPicPr/>
          <p:nvPr/>
        </p:nvPicPr>
        <p:blipFill>
          <a:blip r:embed="rId2"/>
          <a:stretch/>
        </p:blipFill>
        <p:spPr>
          <a:xfrm>
            <a:off x="-7920" y="-7632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5" descr="FW no infinity logo.png"/>
          <p:cNvPicPr/>
          <p:nvPr/>
        </p:nvPicPr>
        <p:blipFill>
          <a:blip r:embed="rId3"/>
          <a:stretch/>
        </p:blipFill>
        <p:spPr>
          <a:xfrm>
            <a:off x="7388280" y="6199200"/>
            <a:ext cx="1377720" cy="366840"/>
          </a:xfrm>
          <a:prstGeom prst="rect">
            <a:avLst/>
          </a:prstGeom>
          <a:ln w="0">
            <a:noFill/>
          </a:ln>
        </p:spPr>
      </p:pic>
      <p:sp>
        <p:nvSpPr>
          <p:cNvPr id="312" name="TextBox 2"/>
          <p:cNvSpPr/>
          <p:nvPr/>
        </p:nvSpPr>
        <p:spPr>
          <a:xfrm>
            <a:off x="1482840" y="6603840"/>
            <a:ext cx="616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200" spc="-1" strike="noStrike">
                <a:solidFill>
                  <a:srgbClr val="000000"/>
                </a:solidFill>
                <a:latin typeface="Calibri"/>
                <a:ea typeface="Verdana"/>
              </a:rPr>
              <a:t>© 2014 by Flat World Knowledge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Box 8"/>
          <p:cNvSpPr/>
          <p:nvPr/>
        </p:nvSpPr>
        <p:spPr>
          <a:xfrm>
            <a:off x="8699400" y="660240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DF5DDF-270B-44C1-BCE1-29493F9AF5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ch 20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Picture 6" descr="FW_March2014_PPT_Template_4.jpg"/>
          <p:cNvPicPr/>
          <p:nvPr/>
        </p:nvPicPr>
        <p:blipFill>
          <a:blip r:embed="rId2"/>
          <a:stretch/>
        </p:blipFill>
        <p:spPr>
          <a:xfrm>
            <a:off x="-7920" y="-7632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5" descr="FW no infinity logo.png"/>
          <p:cNvPicPr/>
          <p:nvPr/>
        </p:nvPicPr>
        <p:blipFill>
          <a:blip r:embed="rId3"/>
          <a:stretch/>
        </p:blipFill>
        <p:spPr>
          <a:xfrm>
            <a:off x="7388280" y="6199200"/>
            <a:ext cx="1377720" cy="366840"/>
          </a:xfrm>
          <a:prstGeom prst="rect">
            <a:avLst/>
          </a:prstGeom>
          <a:ln w="0">
            <a:noFill/>
          </a:ln>
        </p:spPr>
      </p:pic>
      <p:sp>
        <p:nvSpPr>
          <p:cNvPr id="355" name="TextBox 2"/>
          <p:cNvSpPr/>
          <p:nvPr/>
        </p:nvSpPr>
        <p:spPr>
          <a:xfrm>
            <a:off x="1482840" y="6603840"/>
            <a:ext cx="616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200" spc="-1" strike="noStrike">
                <a:solidFill>
                  <a:srgbClr val="000000"/>
                </a:solidFill>
                <a:latin typeface="Calibri"/>
                <a:ea typeface="Verdana"/>
              </a:rPr>
              <a:t>© 2014 by Flat World Knowledge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Box 8"/>
          <p:cNvSpPr/>
          <p:nvPr/>
        </p:nvSpPr>
        <p:spPr>
          <a:xfrm>
            <a:off x="8699400" y="660240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A693AE-E1EC-46F0-AEDD-9568D54AB9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7" name="Picture 7" descr="FW_March2014_PPT_Template_2.jpg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8" descr="FW no infinity logo.png"/>
          <p:cNvPicPr/>
          <p:nvPr/>
        </p:nvPicPr>
        <p:blipFill>
          <a:blip r:embed="rId5"/>
          <a:stretch/>
        </p:blipFill>
        <p:spPr>
          <a:xfrm>
            <a:off x="7388280" y="6199200"/>
            <a:ext cx="1377720" cy="366840"/>
          </a:xfrm>
          <a:prstGeom prst="rect">
            <a:avLst/>
          </a:prstGeom>
          <a:ln w="0">
            <a:noFill/>
          </a:ln>
        </p:spPr>
      </p:pic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ch 20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flatworldknowledge.com/legal" TargetMode="External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09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09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0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99680" y="5676840"/>
            <a:ext cx="5513400" cy="61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Verdana"/>
              </a:rPr>
              <a:t>The Legal and Ethical Environment of Business - Version 2.0</a:t>
            </a:r>
            <a:endParaRPr b="0" lang="en-US" sz="20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subTitle"/>
          </p:nvPr>
        </p:nvSpPr>
        <p:spPr>
          <a:xfrm>
            <a:off x="499680" y="6319800"/>
            <a:ext cx="5513400" cy="30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500" spc="-1" strike="noStrike">
                <a:solidFill>
                  <a:srgbClr val="898989"/>
                </a:solidFill>
                <a:latin typeface="Verdana"/>
              </a:rPr>
              <a:t>Terence Lau and Lisa Johnson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52" name="Picture 3" descr="FW no infinity logo.png"/>
          <p:cNvPicPr/>
          <p:nvPr/>
        </p:nvPicPr>
        <p:blipFill>
          <a:blip r:embed="rId1"/>
          <a:stretch/>
        </p:blipFill>
        <p:spPr>
          <a:xfrm>
            <a:off x="6410160" y="5875200"/>
            <a:ext cx="238788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Verdana"/>
              </a:rPr>
              <a:t>Judicial Administration</a:t>
            </a:r>
            <a:endParaRPr b="0" lang="en-US" sz="24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12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Administrative Offic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: Responsible for rent, payroll, budget, and other administrative matters relating to the functioning of the federal judiciar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012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ederal Judicial Center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: Dedicated to conducting research on judicial administration and providing judicial educ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012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United States Sentencing Commission (USSC)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: Commission created by Congress to explore ways to establish uniformity in federal criminal sentenc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Verdana"/>
              </a:rPr>
              <a:t>Role of Justices in Judicial Administration</a:t>
            </a:r>
            <a:endParaRPr b="0" lang="en-US" sz="24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12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hief justic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: In the U.S. Supreme Court, the representative of the judicial branch to other branches and the administrative head of the judiciar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012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Associate justic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: In the U.S. Supreme Court, one of the eight regular members of the Cou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Verdana"/>
              </a:rPr>
              <a:t>Judicial Review</a:t>
            </a:r>
            <a:endParaRPr b="0" lang="en-US" sz="24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4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12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ower of courts to declare legislative or executive acts unlawfu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012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ower that rests with each of the more than eight hundred federal judges, from the trial courts through the appellate court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Verdana"/>
              </a:rPr>
              <a:t>Checking and Controlling the Judiciary</a:t>
            </a:r>
            <a:endParaRPr b="0" lang="en-US" sz="24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4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12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legislative and executive branches play a critical role in checking</a:t>
            </a: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judiciar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012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esident can control the judiciary by making careful judicial selec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012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ower of the president to name federal judges is absolut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012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esident is the primary means of enforcing judicial decis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012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ole of Congress in checking the judiciar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012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firms judicial selec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012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s the judiciary through its annual budgetary proces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012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etermines organization of the courts and what kind of cases the courts can hea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425840" y="4089240"/>
            <a:ext cx="406872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Verdana"/>
              </a:rPr>
              <a:t>Activists and Strict Constructionists</a:t>
            </a:r>
            <a:endParaRPr b="0" lang="en-US" sz="2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425840" y="2588760"/>
            <a:ext cx="406872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art - 2.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Verdana"/>
              </a:rPr>
              <a:t>Learning Objectives</a:t>
            </a:r>
            <a:endParaRPr b="0" lang="en-US" sz="24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4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12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plore the strict constructionist, or originalist, judicial philosoph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012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plore the judicial activist philosoph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012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earn about the modern origin of the divide between these two philosophi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012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ine the evolution of the right to privacy and how it affects judicial philosoph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012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plore the biographies of the current Supreme Court justic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Verdana"/>
              </a:rPr>
              <a:t>Strict Constructionists Judicial Philosophy</a:t>
            </a:r>
            <a:endParaRPr b="0" lang="en-US" sz="24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12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trict constructionist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: Politically conservative judges who adhere to the view that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012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Constitution should be interpreted in light of its original meaning when it was adopte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012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ew rights should be granted by the legislative process rather than through judicial review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012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Originalist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: Jurists who subscribe to original mean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012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Original meaning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: The view that the Constitution should be interpreted in light of what the Founding Fathers meant when they wrote the documen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Verdana"/>
              </a:rPr>
              <a:t>Judicial Activists</a:t>
            </a:r>
            <a:endParaRPr b="0" lang="en-US" sz="24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12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udges who adhere to the view that the Constitution is a living document that should adapt and change with the ti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012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elieve that the political process is flawed and that majority rule can lead to the baser instincts of humanity becoming the rule of law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012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afeguard the voice of the minority and the oppressed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012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eferring to look at the motivation, intent, and implications of the Constitution’s safeguards rather than merely its word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Verdana"/>
              </a:rPr>
              <a:t>Modern Origin</a:t>
            </a:r>
            <a:endParaRPr b="0" lang="en-US" sz="24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4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12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ern characterization of judges as politically motivated can be traced to the Great Depress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012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ew Deal - Legislative package that increased the size and role of the government in private commercial activit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012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deral judges are appointed for lifetim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012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urnover rate for federal judgeships is low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Verdana"/>
              </a:rPr>
              <a:t>Biographies of the Current Supreme Court Justices</a:t>
            </a:r>
            <a:endParaRPr b="0" lang="en-US" sz="24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4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12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ohn Rober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012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ominated by George W. Bush in 2005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012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Young, smart, and a popular judge with solid republican credential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012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-nominated and confirmed by the senate as chief justic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012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amuel Alit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012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ominated by George W. Bush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012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een on the Court only for only a few yea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012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emonstrated to be ideological than pragmatic in opinion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012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Text Placeholder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1012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Verdana"/>
                <a:ea typeface="Verdana"/>
              </a:rPr>
              <a:t>Published by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12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Verdana"/>
                <a:ea typeface="Verdana"/>
              </a:rPr>
              <a:t>Flat World Knowledge,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12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Verdana"/>
                <a:ea typeface="Verdana"/>
              </a:rPr>
              <a:t>1133 15th St N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12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Verdana"/>
                <a:ea typeface="Verdana"/>
              </a:rPr>
              <a:t>Washington, DC 20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12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12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Verdana"/>
                <a:ea typeface="Verdana"/>
              </a:rPr>
              <a:t>© 2014 by Flat World Knowledge, Inc. All rights reserved. Your use of this work is subject to the License Agreement available here </a:t>
            </a:r>
            <a:r>
              <a:rPr b="0" lang="en-IN" sz="1400" spc="-1" strike="noStrike" u="sng">
                <a:solidFill>
                  <a:srgbClr val="0000ff"/>
                </a:solidFill>
                <a:uFillTx/>
                <a:latin typeface="Verdana"/>
                <a:ea typeface="Verdana"/>
                <a:hlinkClick r:id="rId1"/>
              </a:rPr>
              <a:t>http://www.flatworldknowledge.com/legal</a:t>
            </a:r>
            <a:r>
              <a:rPr b="0" lang="en-IN" sz="1400" spc="-1" strike="noStrike">
                <a:solidFill>
                  <a:srgbClr val="000000"/>
                </a:solidFill>
                <a:latin typeface="Verdana"/>
                <a:ea typeface="Verdana"/>
              </a:rPr>
              <a:t>. No part of this work may be used, modified, or reproduced in any form or by any means except as expressly permitted under the License Agreemen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Verdana"/>
              </a:rPr>
              <a:t>Biographies of the Current Supreme Court Justices</a:t>
            </a:r>
            <a:endParaRPr b="0" lang="en-US" sz="24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12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onia Sotomayor and Elena Kaga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012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ominated by Barack Obama in the year 2009 and 2010 respectivel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012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garded as moving the court neither in terms of activism nor originalism in direc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425840" y="4089240"/>
            <a:ext cx="406872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Verdana"/>
              </a:rPr>
              <a:t>Trail and Appellate Courts</a:t>
            </a:r>
            <a:endParaRPr b="0" lang="en-US" sz="2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425840" y="2588760"/>
            <a:ext cx="406872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art - 2.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Verdana"/>
              </a:rPr>
              <a:t>Learning Objectives</a:t>
            </a:r>
            <a:endParaRPr b="0" lang="en-US" sz="24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12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earn the differences between the state and federal constitu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012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nderstand subject matter jurisdi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012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plore the state and federal court system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012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istinguish the work of trial and appellate cour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012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Verdana"/>
              </a:rPr>
              <a:t>Differences Between State and Federal Constitutions</a:t>
            </a:r>
            <a:endParaRPr b="0" lang="en-US" sz="2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12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ny American cities have both state and federal courthouse, hearing different types of cases involving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012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ifferent law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012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ifferent law enforcement agenci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012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ifferent judicial system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012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012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Verdana"/>
              </a:rPr>
              <a:t>Procedures</a:t>
            </a:r>
            <a:endParaRPr b="0" lang="en-US" sz="24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4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12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ivil procedur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: Rules governing litigation in civil cas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012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riminal procedur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: Rules governing litigation in criminal cas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012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nited States has fifty-one separate legal systems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012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ne federal and fifty in the stat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Verdana"/>
              </a:rPr>
              <a:t>Subject Matter Jurisdiction</a:t>
            </a:r>
            <a:endParaRPr b="0" lang="en-US" sz="24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5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12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ules of subject matter jurisdiction dictate whether a case is heard in federal or state cou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012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ubject matter jurisdiction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: Authority of a court to hear cases in a specific subject area or matter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012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awsuits involving state laws are heard in state cour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012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hild custody, adoption, property, and probate laws are state law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012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Probate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: Legal process of administering a deceased person’s propert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012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Verdana"/>
              </a:rPr>
              <a:t>Subject Matter Jurisdiction</a:t>
            </a:r>
            <a:endParaRPr b="0" lang="en-US" sz="24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12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aws surrounding contracts are passed at the stat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012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Uniform Commercial Code (UCC)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: Model statute that seeks to provide uniformity to contracts law among the different stat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012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t is not a law until state legislatures adopt it as law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012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aw of torts is state 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012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Tort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: Any civil wrong, other than a breach of contrac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Verdana"/>
              </a:rPr>
              <a:t>Federal Court Subject Matter Jurisdiction</a:t>
            </a:r>
            <a:endParaRPr b="0" lang="en-US" sz="24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5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12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imited to cases involving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012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Federal question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: Any case involving a federal law or the federal Constitution gives rise to subject matter jurisdiction in federal court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012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Original jurisdiction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: Small category of cases that allows the U.S. Supreme Court to hear a case for a first time rather than on appea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1012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xample - Lawsuits between stat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Verdana"/>
              </a:rPr>
              <a:t>State and Federal Court Systems</a:t>
            </a:r>
            <a:endParaRPr b="0" lang="en-US" sz="24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ederal court can hear a case involving a state law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Diversity jurisdiction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: Power of federal courts to hear a case based on state law if all plaintiffs are from different states than all defendants and damages claimed exceed seventy-five thousand dolla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llows a party, apprehensive about receiving a fair trail over opponents home court advantage to seek a neutral forum to hear its case through remova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moval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: Process of moving a case from state court to federal court under diversity jurisdic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Verdana"/>
              </a:rPr>
              <a:t>State and Federal Court Systems</a:t>
            </a:r>
            <a:endParaRPr b="0" lang="en-US" sz="24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12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re is a hierarchy within both federal and state court system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012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U.S. Supreme Court is the highest in the country and all courts are bound to follow as per stare decisi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012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tare decisis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: Literally, “let the decision stand”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1012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octrine that requires lower courts to follow prior precedents in similar cases by higher courts whenever possib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12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425840" y="4089240"/>
            <a:ext cx="406872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e Court System</a:t>
            </a:r>
            <a:br>
              <a:rPr sz="2800"/>
            </a:br>
            <a:endParaRPr b="0" lang="en-US" sz="2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425840" y="2588760"/>
            <a:ext cx="406872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MS PGothic"/>
              </a:rPr>
              <a:t>Chapter 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Verdana"/>
              </a:rPr>
              <a:t>Figure 2.7 - State and Federal Court Systems</a:t>
            </a:r>
            <a:endParaRPr b="0" lang="en-US" sz="24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510" name="Slide Number Placeholder 5"/>
          <p:cNvSpPr/>
          <p:nvPr/>
        </p:nvSpPr>
        <p:spPr>
          <a:xfrm>
            <a:off x="6919920" y="6356520"/>
            <a:ext cx="2133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2-</a:t>
            </a:r>
            <a:fld id="{1BF3BFD6-D2F6-41F1-BFF7-256C9649AE31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1" name="Picture 1" descr=""/>
          <p:cNvPicPr/>
          <p:nvPr/>
        </p:nvPicPr>
        <p:blipFill>
          <a:blip r:embed="rId1"/>
          <a:stretch/>
        </p:blipFill>
        <p:spPr>
          <a:xfrm>
            <a:off x="579600" y="1344600"/>
            <a:ext cx="7964280" cy="47307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Verdana"/>
              </a:rPr>
              <a:t>Trial and Appellate Courts</a:t>
            </a:r>
            <a:endParaRPr b="0" lang="en-US" sz="24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12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nder court administration system, there are ninety-four judicial courts in the countr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012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ngle judicial districts or multiple judicial districts is based on the population of the sta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012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istricts are named for their geographical loc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012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Verdana"/>
              </a:rPr>
              <a:t>Work of Trial and Appellate Courts</a:t>
            </a:r>
            <a:endParaRPr b="0" lang="en-US" sz="24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5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12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 a trail court, U.S district courts hear civil and criminal trail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012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ails may be bench trails or jury trail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1012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ench trial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: A case heard only by a judge, wherein the judge acts as both trier of law and trier of fac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12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nesses’ testimonies are recorded into a trail recor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012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Trial record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: The transcript of all proceedings related to litigation at a trial court, along with accompanying paperwork such as memoranda and brief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012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Verdana"/>
              </a:rPr>
              <a:t>Work of Trial and Appellate Courts</a:t>
            </a:r>
            <a:endParaRPr b="0" lang="en-US" sz="24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5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12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t the conclusion of a trail, if the loosing side is unhappy with the outcome, it is entitled as a matter of right to appeal to the U.S Circuit Court of Appeal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012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re are thirteen circuit courts of appeals in the United States spread geographically through the stat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012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party loosing an appeal at the circuit court level can appeal to one more time to the U.S Supreme Court for review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Verdana"/>
              </a:rPr>
              <a:t>Work of Trial and Appellate Courts</a:t>
            </a:r>
            <a:endParaRPr b="0" lang="en-US" sz="24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5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12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trail court of general jurisdiction accepts most types of civil and criminal cas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012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General jurisdiction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: Power of a court to hear a broad array of civil and criminal matters without limita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012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ther courts of limited jurisdiction at the state level are traffic court, juvenile court, family court or small claims cou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012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Limited jurisdiction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: Type of jurisdiction in which a court is restricted to hearing cases in a specific subject matter or threshold damages amoun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Verdana"/>
              </a:rPr>
              <a:t>Work of Trial and Appellate Courts</a:t>
            </a:r>
            <a:endParaRPr b="0" lang="en-US" sz="24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5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12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trial record is forwarded to the appellate court for review whenever an appeal is fil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012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ail court’s duty is to figure out the facts of the cas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012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act finding is important in judicial process and great deal of deference is given to the judgment of the fact finder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012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Trier of fact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act-finding entity, such as a jur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Verdana"/>
              </a:rPr>
              <a:t>Work of Trial and Appellate Courts</a:t>
            </a:r>
            <a:endParaRPr b="0" lang="en-US" sz="24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5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n appeal, the appellate judge cannot substitute his or her interpretation of the facts for that of the trier of fac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en if the appellate judge believes the trier of fact was wron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issues on appeal are limited to questions of law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Questions of law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: Strictly legal issues, such as which evidence to admit, that are resolved by the judge during a tria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Verdana"/>
              </a:rPr>
              <a:t>Remand</a:t>
            </a:r>
            <a:endParaRPr b="0" lang="en-US" sz="24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12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ference to the trier of fact means that appeals are rarely won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012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en if a litigant is successful in persuading a court of appeals that legal error has taken place, it doesn’t automatically win the cas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012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est remedy a litigant can hope is, for the court of appeals to issue a reman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1012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Remand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: Process of sending a case from an appellate court back to the trial court for further action in accordance with the appellate court’s instruction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425840" y="4089240"/>
            <a:ext cx="406872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Verdana"/>
              </a:rPr>
              <a:t>The Certiorari Process</a:t>
            </a:r>
            <a:endParaRPr b="0" lang="en-US" sz="2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425840" y="2588760"/>
            <a:ext cx="406872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art - 2.4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Verdana"/>
              </a:rPr>
              <a:t>Learning Objectives</a:t>
            </a:r>
            <a:endParaRPr b="0" lang="en-US" sz="24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5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12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nderstand the Supreme Court’s jurisdiction, including what kinds of cases are selected for review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012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plore what happens when lower courts of appeal disagree with each ot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012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earn about the Supreme Court’s process in hearing and deciding a cas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425840" y="4089240"/>
            <a:ext cx="406872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Verdana"/>
              </a:rPr>
              <a:t>The Third Branch</a:t>
            </a:r>
            <a:endParaRPr b="0" lang="en-US" sz="28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425840" y="2588760"/>
            <a:ext cx="406872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art - 2.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Verdana"/>
              </a:rPr>
              <a:t>Supreme Court’s Jurisdiction</a:t>
            </a:r>
            <a:endParaRPr b="0" lang="en-US" sz="24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53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12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urisdiction of the Supreme Court is discretionar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012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r justices to hear a case, the loosing party must fil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012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Writ of certiorari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etition filed with a supreme court arguing why the case should be hear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1012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Term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When used by the Supreme Court, a period of time when the Court is in session, from October until Jun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1012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In forma pauperis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ave by a court to indigent litigants to proceed without paying any fe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Verdana"/>
              </a:rPr>
              <a:t>Supreme Court’s Jurisdiction</a:t>
            </a:r>
            <a:endParaRPr b="0" lang="en-US" sz="24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53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ses fall into one of three categori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ases of tremendous national importanc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ase where justices believe that lower courts have misapplied or misinterpreted a prior Supreme Court preceden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Circuit split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: Split among the federal circuit courts of appeals on the meaning of a federal law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Verdana"/>
              </a:rPr>
              <a:t>Figure 2.10 - Geography of U.S. Federal Courts</a:t>
            </a:r>
            <a:endParaRPr b="0" lang="en-US" sz="24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535" name="Slide Number Placeholder 5"/>
          <p:cNvSpPr/>
          <p:nvPr/>
        </p:nvSpPr>
        <p:spPr>
          <a:xfrm>
            <a:off x="6919920" y="6356520"/>
            <a:ext cx="2133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2-</a:t>
            </a:r>
            <a:fld id="{EAF57364-8A89-4B8E-B011-8B454A7463E9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6" name="Picture 1" descr=""/>
          <p:cNvPicPr/>
          <p:nvPr/>
        </p:nvPicPr>
        <p:blipFill>
          <a:blip r:embed="rId1"/>
          <a:stretch/>
        </p:blipFill>
        <p:spPr>
          <a:xfrm>
            <a:off x="900000" y="1254240"/>
            <a:ext cx="7363080" cy="48276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Verdana"/>
              </a:rPr>
              <a:t>The Certiorari Process</a:t>
            </a:r>
            <a:endParaRPr b="0" lang="en-US" sz="24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en a petition for writ of certiorari is filed with the Supreme Court, the party that won the case in the appeal files an opposi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Rule of four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: Supreme Court rule that only four justices need to agree for a case to be hear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 a term each Supreme Court justice is permitted to hire up to four law clerks for assistance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ert pool - Many justices rely on their clerks to read the thousands of filed petitions and to make recommendations on whether or not to grant the cas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Verdana"/>
              </a:rPr>
              <a:t>The Certiorari Process</a:t>
            </a:r>
            <a:endParaRPr b="0" lang="en-US" sz="24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5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12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f a petition is granted, the parties are then instructed to file written briefs with the Cou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012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aying out arguments of why their side should wi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012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t this point, the Court allows nonparties to file an amicus brief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012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micus brief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led by nonlitigants, with permission of the court, to inform and persuade a cour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1012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Otherwise known as friend-of-the-court brief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12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Verdana"/>
              </a:rPr>
              <a:t>Supreme Court’s Process in Hearing</a:t>
            </a:r>
            <a:endParaRPr b="0" lang="en-US" sz="24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5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12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fter the justices have read the briefs in the case, they hear oral arguments from both sid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012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fter the oral arguments, the justices </a:t>
            </a: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eet in conference to decide the outcome of the cas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012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ustices work alone in their conferenc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012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ask of drafting legal opinions is initiated after deciding which side should wi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Verdana"/>
              </a:rPr>
              <a:t>Types of Opinion</a:t>
            </a:r>
            <a:endParaRPr b="0" lang="en-US" sz="24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12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pinions are the only way that justices communicate with the public and the legal communit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012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ajority opinio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: Opinion of the court, written by a single judge and joined by other judges who voted the sam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012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Dissenting opinio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pinion of a judge who disagrees with the outcome and reasoning employed by the court majorit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012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oncurring opinio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pinion written by a judge who agrees with the majority’s outcome but disagrees with their reason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Verdana"/>
              </a:rPr>
              <a:t>Supreme Court’s Process in Deciding a Case</a:t>
            </a:r>
            <a:endParaRPr b="0" lang="en-US" sz="24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5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12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fter all the opinions are drafted, the Court hands down the decision to the public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012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cept in rare instances, all cases are heard and decided in the same ter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012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 the Court maintains no backlo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Verdana"/>
              </a:rPr>
              <a:t>Learning Objectives</a:t>
            </a:r>
            <a:endParaRPr b="0" lang="en-US" sz="24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nderstand the constitutional basis for the judicial branch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plore the differences among the three branches of govern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earn about the chief justice’s role in judicial administr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plore the concept of judicial review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ecome familiar with how the other two branches check and control the judiciar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Verdana"/>
              </a:rPr>
              <a:t>Constitutional Basis of The Three Branches</a:t>
            </a:r>
            <a:endParaRPr b="0" lang="en-US" sz="2400" spc="-1" strike="noStrike">
              <a:solidFill>
                <a:srgbClr val="1f497d"/>
              </a:solidFill>
              <a:latin typeface="Verdana"/>
            </a:endParaRPr>
          </a:p>
        </p:txBody>
      </p:sp>
      <p:pic>
        <p:nvPicPr>
          <p:cNvPr id="461" name="Diagram 3" descr=""/>
          <p:cNvPicPr/>
          <p:nvPr/>
        </p:nvPicPr>
        <p:blipFill>
          <a:blip r:embed="rId1"/>
          <a:stretch/>
        </p:blipFill>
        <p:spPr>
          <a:xfrm>
            <a:off x="768240" y="1420920"/>
            <a:ext cx="7351920" cy="46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Verdana"/>
              </a:rPr>
              <a:t>Nomination and Tenure of a Federal Judge</a:t>
            </a:r>
            <a:endParaRPr b="0" lang="en-US" sz="24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4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12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quirements to become a federal judg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012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omination by the preside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012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firmation by the Senat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012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stitution guarantees that judges are relatively free from political interference by providing them with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012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fetime tenure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012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alary that cannot be reduce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Verdana"/>
              </a:rPr>
              <a:t>Differences Among the Three Branches</a:t>
            </a:r>
            <a:endParaRPr b="0" lang="en-US" sz="24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12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three branches of government are different a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012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judiciary is the only unelected branch of governme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012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y consume different resources in serving the public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1012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entire federal court system consumes less than two-tenths of 1 percent of the federal budg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1012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federal judiciary works in relative anonymit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012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judiciary is designed to be the most remote branch from the peopl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1012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deral judges have life tenure and can be removed from office only through impeachmen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1012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Verdana"/>
              </a:rPr>
              <a:t>Judicial Hierarchy</a:t>
            </a:r>
            <a:endParaRPr b="0" lang="en-US" sz="2400" spc="-1" strike="noStrike">
              <a:solidFill>
                <a:srgbClr val="1f497d"/>
              </a:solidFill>
              <a:latin typeface="Verdana"/>
            </a:endParaRPr>
          </a:p>
        </p:txBody>
      </p:sp>
      <p:pic>
        <p:nvPicPr>
          <p:cNvPr id="467" name="Content Placeholder 2" descr=""/>
          <p:cNvPicPr/>
          <p:nvPr/>
        </p:nvPicPr>
        <p:blipFill>
          <a:blip r:embed="rId1"/>
          <a:stretch/>
        </p:blipFill>
        <p:spPr>
          <a:xfrm>
            <a:off x="878040" y="1762200"/>
            <a:ext cx="7089480" cy="4125960"/>
          </a:xfrm>
          <a:prstGeom prst="rect">
            <a:avLst/>
          </a:prstGeom>
          <a:ln w="0">
            <a:noFill/>
          </a:ln>
        </p:spPr>
      </p:pic>
      <p:sp>
        <p:nvSpPr>
          <p:cNvPr id="468" name="Slide Number Placeholder 5"/>
          <p:cNvSpPr/>
          <p:nvPr/>
        </p:nvSpPr>
        <p:spPr>
          <a:xfrm>
            <a:off x="6919920" y="6356520"/>
            <a:ext cx="2133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2-</a:t>
            </a:r>
            <a:fld id="{51188554-9331-4A93-9C6B-CADE732C13FB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9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30T10:50:37Z</dcterms:created>
  <dc:creator>IIPM</dc:creator>
  <dc:description/>
  <dc:language>en-US</dc:language>
  <cp:lastModifiedBy>Sharon Thomas</cp:lastModifiedBy>
  <dcterms:modified xsi:type="dcterms:W3CDTF">2014-05-08T12:56:29Z</dcterms:modified>
  <cp:revision>527</cp:revision>
  <dc:subject/>
  <dc:title>Slide 1</dc:title>
</cp:coreProperties>
</file>