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53C06-7D4E-40B1-B470-B3BEA3A2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AE167-85E9-4096-A2F3-2E48C3B4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F2AD9-FC3B-4541-B5BD-1F48C53C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743B4-B5BC-472D-8FB6-743E128C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CA461-19FD-4E10-80F5-E1C6E9F9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D201D-8F7E-4C04-8DAF-69BACDFF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3DAF3-F310-4D7C-8889-AD66D89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05299-57BC-47A0-921C-C7E1E27D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2A9E1-DEA0-44B7-9F91-FDE2BCE9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67C10-5432-4279-9AE2-DAE9C1E7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D0F11-20A8-447B-BEF7-15E59499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69794-E2C5-4152-A699-BC3CFE54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822C1-5822-43B1-87AB-30EB5D37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57117-5A28-412D-859E-2142195F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8A6E0-1B9B-437A-8FD8-818C3A7F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43B1-8560-423E-9DFA-BA4EE634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A032-876B-402A-A0BB-24C5D2F3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065A-E9C4-476C-B4A1-AD489516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DB25E-3497-4504-AAE9-F3D1C2C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1918-C647-4EB1-B225-A68FC327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E5E5-FF7C-421C-81CF-3B812F83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F2AD-4285-48B9-A428-4D29215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A2B44-D6E6-42BF-974E-3ED2DE54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33915-39CA-4173-8F8A-18545ED1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F4A68-CF6B-4D49-BFE9-BCD386F1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B7B6B-C2EB-44A3-98D7-E98BD486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F4742-4E32-4213-99BF-E6CF78B3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13C0-F08A-45B2-9424-5C4FD585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10C6F-BA0C-4CB5-8D1A-D025A40E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A45BE-7B43-4D29-A5A0-8CB7EFAA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15A62-7627-4A4A-9312-D48DB77D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3747-63E1-4D92-B032-ADB27B08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CDE9F-9E1C-4A27-8D0F-EE04134C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1DDF1-59FA-45A6-8ADB-B87E61BC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6225F-763E-4CD5-BEF9-D6D59128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7998A-363F-4E21-80E0-0501081A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FEEF4-9E0A-44D2-A0BF-0DF09023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08489-B94B-404F-964F-38030D75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DBB33-F431-4A6A-A81C-9CA0E60E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F4F83-00C6-4168-BE1C-2BF1A3A1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1571-5CAB-4CCB-A5A5-6D3634A3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4946F-9E0C-42C6-8926-91BE8488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D70AC-2B9C-4903-A95A-43C752C4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57D71-CB37-42D2-ABD2-5A6D5405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ED721-40B8-41F3-9FDA-27F9957A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999C8-118C-4904-953F-F836BA5B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A7F85-DD63-4103-90AB-3C2EB75E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158E3-2FCE-4999-965B-FD97328C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7FD6-F85E-4EE7-AA6E-AF389F96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34C4F-5CD4-4597-AFBD-35888D50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C3536-A266-4FAC-9CCD-B5A249C4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A24C4-AD3A-4FDC-9F97-6B2A72FC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86173-48AB-427D-A048-4476A7A4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5A758-049B-454F-AC71-FD98D90E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24B4-0F32-48D4-B54A-0C3F4575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E2CFB-2470-4E2C-B539-6BB84B0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9DA03-890A-459D-89BC-1A34A16D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1D54F-C97B-4D59-94E4-D9E8AE55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A8523-E7B9-42F2-B1A0-E1D6665A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1E6F2-C280-469A-8A96-279E33F5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D3674-F02B-4E5A-8694-C2CC230F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C4850-63E2-46CF-B14F-9B9761BF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CFF1B-9378-4C1F-A225-93529A8E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5D257-EA2B-4938-81BC-EBC4A1CB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9E13E-BCF0-4697-BE4D-C070928F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789A5-D42C-4E05-889F-FC07853A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D4F6C-C2C9-40D8-BD4E-4370912A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2FE54-5FF4-4366-BBEA-C117965A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1498A-B7DB-4492-84A7-87D5828C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D4A7C-B83F-414C-8FFE-4A62437F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B00C9-E12A-463D-AA49-2C39771D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CA896-45F0-4127-8146-0477769E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925F5-C794-4BE1-B174-72045684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05D07-F4F1-4F51-AAE4-C669225C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1FC0F-BFD7-496D-B288-3B982ACE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6FE7F-75D6-470C-9758-417E8DDB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7950B-2822-41EB-974D-08B0B08C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D0D44-7D34-43A1-ABA0-45F9C74C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B1CC8-CEEE-4A74-8BB1-D8BD4EF8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57FE8-77EF-4468-B5F8-3CD8BE63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D6499-396C-4CC4-921A-E692675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078E3-9918-4EEC-8F85-DF60ADF8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0650C-603D-46F9-BC46-894F7F2B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22640-2274-4896-AA05-EA4AF27A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6F0BD-E19B-4D94-973D-F9EE5F3B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EF193-78A1-4A62-A35F-26DA314D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8F4E7-AEE1-4E24-A953-F01CCCF1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C3E9D-0BF1-46F8-833B-3A30B22B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80F03-48A8-419A-B5F5-07DC1B2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72FAA-5BEB-431F-8BE7-6718B06B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DE5B4-9164-4410-A4C6-EA5B451C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02EAA-AD22-44B0-B428-47145454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80895-988D-45FF-BF14-08EE9548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BC9CC-4192-4B2E-AAEF-A7CE111C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C8DCF-88FB-4E8C-A0EA-1BB2E535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836A9-0FF4-44F7-9DC3-292E08E7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F615E-C5E1-4E0C-91FB-5A9C9FA2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00AF3-7EC1-4CD2-B44B-942BF6F9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39D7A-F5CF-4AF7-8203-6CCBDADB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86ED2-F638-4A33-9BBA-52DC886D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AAE4D-FBC5-4B99-8678-FD924468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12BCF-10F4-499E-B9D3-D7BF831F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42BCC-5F6C-4532-B616-E0073FD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37F4F-D68E-4956-A587-DAD5AFD6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4FD9D-9E28-4B4D-8999-AF190CDF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26590-1DCB-4F58-B621-1B5FBE40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EB418-7BCA-49EA-91E9-3FDF555E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3AC67-9A06-42C0-A403-1401B902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59E9B-26E7-41DC-847C-A016BBA4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A116A-7B44-4539-A377-791A7D74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F3909-B26D-43E2-9F8B-A9584032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8FE9B-4EC7-405E-9AB5-794144F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F9453-6CC7-4972-8FBD-63E3BA8B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FEF12-D400-4824-8FFC-73BC1F83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626D3-34BD-46F7-9E27-19574C78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6D9D8-AD47-4FC0-A90A-3FE3B3B6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AB80B-000A-46CD-97FA-952074F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A66AF-F45C-4501-BEEF-A83DCBC4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0D241-662E-48AF-916C-3AEC1FCD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C7425-B966-4EE4-8014-A9AE2AC8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3.png"/><Relationship Id="rId6" Type="http://schemas.openxmlformats.org/officeDocument/2006/relationships/image" Target="../media/image9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69.xml"/><Relationship Id="rId9" Type="http://schemas.openxmlformats.org/officeDocument/2006/relationships/slideLayout" Target="../slideLayouts/slideLayout170.xml"/><Relationship Id="rId10" Type="http://schemas.openxmlformats.org/officeDocument/2006/relationships/slideLayout" Target="../slideLayouts/slideLayout171.xml"/><Relationship Id="rId11" Type="http://schemas.openxmlformats.org/officeDocument/2006/relationships/slideLayout" Target="../slideLayouts/slideLayout172.xml"/><Relationship Id="rId12" Type="http://schemas.openxmlformats.org/officeDocument/2006/relationships/slideLayout" Target="../slideLayouts/slideLayout173.xml"/><Relationship Id="rId13" Type="http://schemas.openxmlformats.org/officeDocument/2006/relationships/slideLayout" Target="../slideLayouts/slideLayout174.xml"/><Relationship Id="rId14" Type="http://schemas.openxmlformats.org/officeDocument/2006/relationships/slideLayout" Target="../slideLayouts/slideLayout175.xml"/><Relationship Id="rId15" Type="http://schemas.openxmlformats.org/officeDocument/2006/relationships/slideLayout" Target="../slideLayouts/slideLayout176.xml"/><Relationship Id="rId16" Type="http://schemas.openxmlformats.org/officeDocument/2006/relationships/slideLayout" Target="../slideLayouts/slideLayout177.xml"/><Relationship Id="rId17" Type="http://schemas.openxmlformats.org/officeDocument/2006/relationships/slideLayout" Target="../slideLayouts/slideLayout178.xml"/><Relationship Id="rId18" Type="http://schemas.openxmlformats.org/officeDocument/2006/relationships/slideLayout" Target="../slideLayouts/slideLayout179.xml"/><Relationship Id="rId19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image" Target="../media/image3.png"/><Relationship Id="rId6" Type="http://schemas.openxmlformats.org/officeDocument/2006/relationships/image" Target="../media/image10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2FDD-757D-467F-9B47-72DEC9642A6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3"/>
          </p:nvPr>
        </p:nvSpPr>
        <p:spPr>
          <a:xfrm>
            <a:off x="3124080" y="477216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4"/>
          </p:nvPr>
        </p:nvSpPr>
        <p:spPr>
          <a:xfrm>
            <a:off x="655272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4349-06EA-4334-ABE2-0570709E63E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FW_March2014_PPT_Template_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FW no infinity logo.png"/>
          <p:cNvPicPr/>
          <p:nvPr/>
        </p:nvPicPr>
        <p:blipFill>
          <a:blip r:embed="rId4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FW_March2014_PPT_Template_3.jpg"/>
          <p:cNvPicPr/>
          <p:nvPr/>
        </p:nvPicPr>
        <p:blipFill>
          <a:blip r:embed="rId5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FW no infinity logo.png"/>
          <p:cNvPicPr/>
          <p:nvPr/>
        </p:nvPicPr>
        <p:blipFill>
          <a:blip r:embed="rId6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5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FW_March2014_PPT_Template_5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" descr="FW no infinity logo.png"/>
          <p:cNvPicPr/>
          <p:nvPr/>
        </p:nvPicPr>
        <p:blipFill>
          <a:blip r:embed="rId4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FW_March2014_PPT_Template_5.jpg"/>
          <p:cNvPicPr/>
          <p:nvPr/>
        </p:nvPicPr>
        <p:blipFill>
          <a:blip r:embed="rId5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FW no infinity logo.png"/>
          <p:cNvPicPr/>
          <p:nvPr/>
        </p:nvPicPr>
        <p:blipFill>
          <a:blip r:embed="rId6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6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7" descr="FW_March2014_PPT_Template_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FW no infinity logo.png"/>
          <p:cNvPicPr/>
          <p:nvPr/>
        </p:nvPicPr>
        <p:blipFill>
          <a:blip r:embed="rId5"/>
          <a:stretch/>
        </p:blipFill>
        <p:spPr>
          <a:xfrm>
            <a:off x="6410160" y="4410000"/>
            <a:ext cx="2387880" cy="4780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FW_March2014_PPT_Template_3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FW no infinity logo.png"/>
          <p:cNvPicPr/>
          <p:nvPr/>
        </p:nvPicPr>
        <p:blipFill>
          <a:blip r:embed="rId5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FW_March2014_PPT_Template_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FW no infinity logo.png"/>
          <p:cNvPicPr/>
          <p:nvPr/>
        </p:nvPicPr>
        <p:blipFill>
          <a:blip r:embed="rId7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7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8"/>
    <p:sldLayoutId id="2147483832" r:id="rId9"/>
    <p:sldLayoutId id="2147483833" r:id="rId10"/>
    <p:sldLayoutId id="2147483834" r:id="rId11"/>
    <p:sldLayoutId id="2147483835" r:id="rId12"/>
    <p:sldLayoutId id="2147483836" r:id="rId13"/>
    <p:sldLayoutId id="2147483837" r:id="rId14"/>
    <p:sldLayoutId id="2147483838" r:id="rId15"/>
    <p:sldLayoutId id="2147483839" r:id="rId16"/>
    <p:sldLayoutId id="2147483840" r:id="rId17"/>
    <p:sldLayoutId id="2147483841" r:id="rId18"/>
    <p:sldLayoutId id="2147483842" r:id="rId19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FW_March2014_PPT_Template_5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FW no infinity logo.png"/>
          <p:cNvPicPr/>
          <p:nvPr/>
        </p:nvPicPr>
        <p:blipFill>
          <a:blip r:embed="rId5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FW_March2014_PPT_Template_5.jpg"/>
          <p:cNvPicPr/>
          <p:nvPr/>
        </p:nvPicPr>
        <p:blipFill>
          <a:blip r:embed="rId6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FW no infinity logo.png"/>
          <p:cNvPicPr/>
          <p:nvPr/>
        </p:nvPicPr>
        <p:blipFill>
          <a:blip r:embed="rId7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8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FW_March2014_PPT_Template_2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FW no infinity logo.png"/>
          <p:cNvPicPr/>
          <p:nvPr/>
        </p:nvPicPr>
        <p:blipFill>
          <a:blip r:embed="rId5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9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10"/>
          </p:nvPr>
        </p:nvSpPr>
        <p:spPr>
          <a:xfrm>
            <a:off x="45684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11"/>
          </p:nvPr>
        </p:nvSpPr>
        <p:spPr>
          <a:xfrm>
            <a:off x="3124080" y="477180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12"/>
          </p:nvPr>
        </p:nvSpPr>
        <p:spPr>
          <a:xfrm>
            <a:off x="655272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174E-C91D-458F-B5E7-A79FAB4EECE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13"/>
          </p:nvPr>
        </p:nvSpPr>
        <p:spPr>
          <a:xfrm>
            <a:off x="45684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14"/>
          </p:nvPr>
        </p:nvSpPr>
        <p:spPr>
          <a:xfrm>
            <a:off x="3124080" y="477180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15"/>
          </p:nvPr>
        </p:nvSpPr>
        <p:spPr>
          <a:xfrm>
            <a:off x="655272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A05E-E606-4DAF-8904-5D6B4CEA46C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16"/>
          </p:nvPr>
        </p:nvSpPr>
        <p:spPr>
          <a:xfrm>
            <a:off x="45684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17"/>
          </p:nvPr>
        </p:nvSpPr>
        <p:spPr>
          <a:xfrm>
            <a:off x="3124080" y="477180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18"/>
          </p:nvPr>
        </p:nvSpPr>
        <p:spPr>
          <a:xfrm>
            <a:off x="655272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2FA4-D0ED-4C1D-9D99-07D7BA3D109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19"/>
          </p:nvPr>
        </p:nvSpPr>
        <p:spPr>
          <a:xfrm>
            <a:off x="45684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20"/>
          </p:nvPr>
        </p:nvSpPr>
        <p:spPr>
          <a:xfrm>
            <a:off x="3124080" y="477180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21"/>
          </p:nvPr>
        </p:nvSpPr>
        <p:spPr>
          <a:xfrm>
            <a:off x="655272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D5F0-D51A-4528-9DBF-4BFD28A86E1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22"/>
          </p:nvPr>
        </p:nvSpPr>
        <p:spPr>
          <a:xfrm>
            <a:off x="45684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23"/>
          </p:nvPr>
        </p:nvSpPr>
        <p:spPr>
          <a:xfrm>
            <a:off x="3124080" y="477180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24"/>
          </p:nvPr>
        </p:nvSpPr>
        <p:spPr>
          <a:xfrm>
            <a:off x="655272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8AB1-7B2F-4FE7-BE05-8F8CB6939F1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25"/>
          </p:nvPr>
        </p:nvSpPr>
        <p:spPr>
          <a:xfrm>
            <a:off x="45684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26"/>
          </p:nvPr>
        </p:nvSpPr>
        <p:spPr>
          <a:xfrm>
            <a:off x="3124080" y="477180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27"/>
          </p:nvPr>
        </p:nvSpPr>
        <p:spPr>
          <a:xfrm>
            <a:off x="655272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4148-3ABF-4636-B22E-5C3612A971F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28"/>
          </p:nvPr>
        </p:nvSpPr>
        <p:spPr>
          <a:xfrm>
            <a:off x="45684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29"/>
          </p:nvPr>
        </p:nvSpPr>
        <p:spPr>
          <a:xfrm>
            <a:off x="3124080" y="477180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30"/>
          </p:nvPr>
        </p:nvSpPr>
        <p:spPr>
          <a:xfrm>
            <a:off x="655272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D784-0501-4D7C-9846-416B29EA02F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dt" idx="31"/>
          </p:nvPr>
        </p:nvSpPr>
        <p:spPr>
          <a:xfrm>
            <a:off x="45684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 type="ftr" idx="32"/>
          </p:nvPr>
        </p:nvSpPr>
        <p:spPr>
          <a:xfrm>
            <a:off x="3124080" y="477180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Flat World Knowledge, In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 type="sldNum" idx="33"/>
          </p:nvPr>
        </p:nvSpPr>
        <p:spPr>
          <a:xfrm>
            <a:off x="6552720" y="47718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A8B5-3706-4979-B425-E8E4DDD5DC7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dt" idx="34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6E46-2307-4926-96F3-01B9B180FF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ftr" idx="35"/>
          </p:nvPr>
        </p:nvSpPr>
        <p:spPr>
          <a:xfrm>
            <a:off x="3124080" y="477216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sldNum" idx="36"/>
          </p:nvPr>
        </p:nvSpPr>
        <p:spPr>
          <a:xfrm>
            <a:off x="655272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754D-94FD-4A66-A4A0-D4702442D09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6" descr="FW_March2014_PPT_Template_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5" descr="FW no infinity logo.png"/>
          <p:cNvPicPr/>
          <p:nvPr/>
        </p:nvPicPr>
        <p:blipFill>
          <a:blip r:embed="rId4"/>
          <a:stretch/>
        </p:blipFill>
        <p:spPr>
          <a:xfrm>
            <a:off x="7388280" y="4653000"/>
            <a:ext cx="1377720" cy="276120"/>
          </a:xfrm>
          <a:prstGeom prst="rect">
            <a:avLst/>
          </a:prstGeom>
          <a:ln w="0">
            <a:noFill/>
          </a:ln>
        </p:spPr>
      </p:pic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353880" y="4290840"/>
            <a:ext cx="840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ato"/>
              </a:rPr>
              <a:t>Published by Flat World Knowledge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ato"/>
              </a:rPr>
              <a:t>© 2014 by Flat World Knowledge, Inc. All rights reserved. Your use of this work is subject to the License Agreement avail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ato"/>
              </a:rPr>
              <a:t>here http://www.flatworldknowledge.com/legal. No part of this work may be used, modified, or reproduced in any form or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ato"/>
              </a:rPr>
              <a:t>any means except as expressly permitted under the License Agree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280" name="Rounded Rectangle 4"/>
          <p:cNvSpPr/>
          <p:nvPr/>
        </p:nvSpPr>
        <p:spPr>
          <a:xfrm>
            <a:off x="990720" y="1258920"/>
            <a:ext cx="7162560" cy="1430280"/>
          </a:xfrm>
          <a:prstGeom prst="roundRect">
            <a:avLst>
              <a:gd name="adj" fmla="val 16667"/>
            </a:avLst>
          </a:prstGeom>
          <a:solidFill>
            <a:srgbClr val="1b2b5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33360" y="258840"/>
            <a:ext cx="74534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400" spc="-1" strike="noStrike">
                <a:solidFill>
                  <a:srgbClr val="1b2b51"/>
                </a:solidFill>
                <a:latin typeface="Source Sans Pro"/>
              </a:rPr>
              <a:t>Click to edit the title text format</a:t>
            </a:r>
            <a:endParaRPr b="0" lang="en-US" sz="2400" spc="-1" strike="noStrike">
              <a:solidFill>
                <a:srgbClr val="1b2b51"/>
              </a:solidFill>
              <a:latin typeface="Source Sans Pro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2016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1" marL="557280" indent="-214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2" marL="85716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3" marL="12002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4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5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  <a:p>
            <a:pPr lvl="6" marL="1542960" indent="-171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latworldknowledge.com/legal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76320" y="409680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f497d"/>
                </a:solidFill>
                <a:latin typeface="Verdana"/>
              </a:rPr>
              <a:t>Stand Up, Speak Out: The Practice and Ethics of Public Speaking</a:t>
            </a:r>
            <a:endParaRPr b="0" lang="en-US" sz="19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2362320" y="4707000"/>
            <a:ext cx="41148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  <a:ea typeface="Verdana"/>
              </a:rPr>
              <a:t>By: Jason S. Wrench, Anne Goding, Danette Ifert Johnson, and Bernardo A. Atti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Why the Pyramid Matter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258920"/>
            <a:ext cx="815328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nderstanding ethics is a matter of balancing all three parts of the ethical pyramid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Tilley recommends testing the ethics of a given behavior by asking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Have I discussed the ethicality of the behavior with others and come to a general consensus that the behavior is ethical?”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oes the behavior adhere to known codes of ethics?”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ould I be happy if the outcomes of the behavior were reversed and applied to me?”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A32606DD-B88B-41A8-B003-CC9AE9F90F9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71612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Section 2.3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Ethics in Public Speaking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58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41B709FB-2626-473A-902B-7D97B1AAF2B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The NCA Credo for Ethical Communication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 statement of their values about ethics in human communicatio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74584F8E-AA01-4445-91D1-1D695393EAA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523880" y="1944360"/>
            <a:ext cx="6096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Nine Principles of Ethical Communication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63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21488DC5-1159-4091-904A-179F1B5B30F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inciple 1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Truthfulness, accuracy, honesty, and reaso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A9CF5C5D-4D03-4088-9ED8-68598DC8F26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inciple 2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Freedom of expression, diversity of perspective, and tolerance of dissent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002FC543-DFB7-4CEA-89E9-39E007D21DC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inciple 3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nderstanding of, and respect for, other communicators before passing judgment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0B26D31A-A68D-45AF-B0D7-7B0913053F3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inciple 4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cess to communication resources and opportunities for the purpose of promoting the well-being of families, communities, and society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C8644014-04C4-4664-BDA8-61DAB9887C8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inciple 5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mmunication climates of caring, mutual understanding, and respect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0E4FA454-E30A-423B-8DBE-2D4DC80F2B9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inciple 6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demnation of distortion, intimidation, coercion, violence intolerance, hate speech, violence, or other behavior that degrades peop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4F57C82E-4082-449A-A64B-33D8BD41747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2017 by Flat World Knowledge, Inc. All rights reserved. Your use of this work is subject to the License Agreement available here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flatworldknowledge.com/leg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 No part of this work may be used, modified, or reproduced in any form or by any means except as expressly permitted under the License Agree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CDE23392-49A6-48AF-83F8-5F14B8A29F8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inciple 7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upport for the expression of personal convictions in pursuit of fairness and justic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334511DC-3104-4E92-8EC6-724EC8F0C31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inciple 8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ocate sharing information, opinions, and feelings while respecting privacy and confidentiality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9DF37B28-9D9C-4D94-8E80-1214C57FAA8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inciple 9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sponsibility for the short- and long-term consequences of our communicatio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8751C618-5B78-41AC-A9EC-252D662561F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173484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Section 2.4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Free Speech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92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3CF043A8-8784-4529-B104-0E68B5DE9B7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What is Free Speech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144080"/>
            <a:ext cx="853416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right to express information, ideas, and opinions free of government restrictions based on content and subject only to reasonable limitations (as the power of the government to avoid a clear and present danger) esp. as guaranteed by the First and Fourteenth Amendments to the U.S. Constitution” 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rriam Webster’s Dictionary of La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004B4BC8-CFC4-410F-8EAD-3CD5045C5A6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Why is Free Speech Important for Public Speakers?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Expressing information and ideas is the purpose of public speaking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Free speech allows us, as audience members, to hear and consider multiple points of view so we can make more informed decision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09DF3B2E-AFF8-457D-99E5-63955F6BB93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523880" y="1944720"/>
            <a:ext cx="60962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The First Amendment to the Constitution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00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9E4CEAB2-05A7-4D49-AA6A-8F781D189FE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Free Speech is Solidified in the Bill of Right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gress shall make no law respecting an establishment of religion, or prohibiting the free exercise thereof; or abridging the freedom of speech, or of the press; or the right of the people peaceably to assemble, and to petition the Government for a redress of grievances.”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01DAE922-CB15-4A09-9083-FA612DB4E9D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Limitations to Free Speech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2007 Supreme Court decision in the </a:t>
            </a:r>
            <a:r>
              <a:rPr b="0" i="1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se et al. v. Frederick 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ase or the “Bong Hits for Jesus” cas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Free speech is constantly being debated by politicians, judges, and the public, even within the United States, where this right has been discussed for over two-hundred year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F04B1FBE-FF58-4CDE-953E-8402A61F762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7840" y="1812600"/>
            <a:ext cx="61722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rebuchet MS"/>
              </a:rPr>
              <a:t>Chapter 2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Ethics Matters: Understanding the Ethics of Public Speaking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34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49FB1619-AB59-4A36-B51C-104460EC792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  <a:ea typeface="ヒラギノ角ゴ Pro W3"/>
              </a:rPr>
              <a:t>Learning Objective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457200" y="1201320"/>
            <a:ext cx="822960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Explain how the three levels of the ethics pyramid might be used in evaluating the ethical choices of a public speaker or listen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Understand how to apply the National Communication Association (NCA) Credo for Ethical Communication within the context of public speaking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Understand how you can apply ethics to your public speaking preparation proces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Define the concept of free speech and discuss its origin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Discuss the First Amendment to the US Constitution in terms of free spee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Describe how free speech relates to other freedoms guaranteed by the First Amendment to the US Constitutio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7010280" y="477216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-</a:t>
            </a:r>
            <a:fld id="{92A7E13B-8253-46FA-A8D1-0032315737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1-</a:t>
            </a:r>
            <a:fld id="{80517DAF-3458-4724-A3ED-0A80C6C19B5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80880" y="1792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Sections 2.1 &amp; 2.2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Ethics Today &amp; The Ethics Pyramid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40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9659032F-8633-400D-8F1E-B554CA413F9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The Ethics Pyramid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 model developed by Elspeth Tilley, proposes three basic concepts: intent, means, and end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1676520" y="1924200"/>
            <a:ext cx="4889520" cy="285876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644140DD-97E6-40FB-B7CA-B9BD2ED2F7A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Intention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201680"/>
            <a:ext cx="8229600" cy="32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imilarly, an ethical listener keeps an open mind, listening to the speaker before making judgment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ne way to assess intent is to seek feedback from others; how ethical do they think a behavior or a remark is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 second way to assess intent is to check out existing codes of ethic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Third, consider whether a behavior is beneficial for the majority, or whether you would approve of the same behavior from someone els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ometimes people can engage in unethical behavior unintentionally; plagiarism often occurs when a speaker uses a phrase or content, forgetting that he or she read it in someone else’s work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2432026A-86DE-4849-AD2A-2151A148E29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Mean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Means are the tools or behaviors we use to achieve a desired outcom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e have choices about which means to employ in persuading other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Threats and other forms of manipulation are unethical behavior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aking a respectful request is ethical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E4E9D153-DC25-445E-A538-4862EB89698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Ends</a:t>
            </a:r>
            <a:endParaRPr b="0" lang="en-US" sz="1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201680"/>
            <a:ext cx="8229600" cy="32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The outcomes you hope to achieve, say McCroskey, Wrench, and Richmond (2002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ome end results could be good for the source (speaker) but bad for the receiver (listener).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n example would be persuading audience members to buy something they don’t actually want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Your goal should be chosen according to ethical standards you and your audience expect from each oth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Slide Number Placeholder 5"/>
          <p:cNvSpPr/>
          <p:nvPr/>
        </p:nvSpPr>
        <p:spPr>
          <a:xfrm>
            <a:off x="177840" y="4734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2-</a:t>
            </a:r>
            <a:fld id="{21FB4F73-ED28-4251-A235-B4366BEF8A7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9:01:34Z</dcterms:created>
  <dc:creator>Jason Wrench</dc:creator>
  <dc:description/>
  <dc:language>en-US</dc:language>
  <cp:lastModifiedBy>KB Mello</cp:lastModifiedBy>
  <dcterms:modified xsi:type="dcterms:W3CDTF">2017-01-10T18:02:46Z</dcterms:modified>
  <cp:revision>12</cp:revision>
  <dc:subject/>
  <dc:title>Ethics Matters: Understanding the Ethics of Public Speaking</dc:title>
</cp:coreProperties>
</file>