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11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33.wmf" ContentType="image/x-wmf"/>
  <Override PartName="/ppt/media/image25.png" ContentType="image/png"/>
  <Override PartName="/ppt/media/image10.wmf" ContentType="image/x-wmf"/>
  <Override PartName="/ppt/media/image6.wmf" ContentType="image/x-wmf"/>
  <Override PartName="/ppt/media/image36.wmf" ContentType="image/x-wmf"/>
  <Override PartName="/ppt/media/image32.png" ContentType="image/png"/>
  <Override PartName="/ppt/media/image38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1F7-309D-4E56-B973-99155CD0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DC5-BF41-4D73-B5B0-718395B5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499-73FC-4CB9-B3B8-59F29DBA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D20-22D2-45E9-83DB-A5A9C551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6DEA-99E3-48FF-8709-6C8CE1C0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3ACC-9B10-4E9A-BE1D-457B1F96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E41B-CAEB-42EB-9552-D30190DF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1498-6C11-468C-B079-1A92DDBF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5186-C522-474C-9010-C42BCEC0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3964-3F81-4A69-A42E-015DD450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A947-476B-4034-8262-FA0FE693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2E5-4B7F-42F7-83AF-0C9ED355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E214-3D04-48B2-BD59-8A9CC938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A0B1-4501-479B-8ACE-24A69506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94C6-A12E-4DA3-A5C0-BC978807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BB01-AA42-49E0-89D1-761F8471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0ADD-D0EB-4EB8-877A-E9E41F77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1CC-D814-482C-BCB2-B35CF2FD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48B-5484-4007-B3DD-4F778FB7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FF6-5666-430C-A70B-4A1ADDB4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1D3-B915-4F49-BBF4-386FFB38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64C-A406-4261-B243-D2A0655C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68C-5F42-4770-9DE5-06BDF2B1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F7F-0899-4861-B9EB-86B3C35C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muel H. Huang, Fall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FC41-22D4-465A-B234-7BA67349E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muel H. Huang,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62B5-2072-4225-9018-004106F23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nderstanding Customer Demand: Forecas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oise Smooth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hart 6" descr=""/>
          <p:cNvPicPr/>
          <p:nvPr/>
        </p:nvPicPr>
        <p:blipFill>
          <a:blip r:embed="rId1"/>
          <a:stretch/>
        </p:blipFill>
        <p:spPr>
          <a:xfrm>
            <a:off x="1139760" y="1749600"/>
            <a:ext cx="7394760" cy="4346280"/>
          </a:xfrm>
          <a:prstGeom prst="rect">
            <a:avLst/>
          </a:prstGeom>
          <a:ln w="0">
            <a:noFill/>
          </a:ln>
        </p:spPr>
      </p:pic>
      <p:sp>
        <p:nvSpPr>
          <p:cNvPr id="143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sponse to Process Chan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5" name="Chart 7" descr=""/>
          <p:cNvPicPr/>
          <p:nvPr/>
        </p:nvPicPr>
        <p:blipFill>
          <a:blip r:embed="rId1"/>
          <a:stretch/>
        </p:blipFill>
        <p:spPr>
          <a:xfrm>
            <a:off x="1219320" y="1749600"/>
            <a:ext cx="7388280" cy="432252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ponential Smooth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forecast based on the most recent data poi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weighted average of all historical data points, with the weight decreasing exponentially with the age of the data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1066680" y="2743200"/>
                <a:ext cx="3014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5"/>
              <p:cNvSpPr txBox="1"/>
              <p:nvPr/>
            </p:nvSpPr>
            <p:spPr>
              <a:xfrm>
                <a:off x="990720" y="3276720"/>
                <a:ext cx="4039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α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990720" y="3733920"/>
                <a:ext cx="5840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α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990720" y="4211640"/>
                <a:ext cx="7888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α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α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ponential Smoothing Forecast for Constant Proc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initial estimates can be used – average of several past data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1371600" y="2819520"/>
                <a:ext cx="487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α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2160720" y="3375000"/>
                <a:ext cx="4545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α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[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4005360" y="57636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4470120" y="871560"/>
            <a:ext cx="203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5"/>
              <p:cNvSpPr txBox="1"/>
              <p:nvPr/>
            </p:nvSpPr>
            <p:spPr>
              <a:xfrm>
                <a:off x="1380960" y="3886200"/>
                <a:ext cx="1819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7"/>
              <p:cNvSpPr txBox="1"/>
              <p:nvPr/>
            </p:nvSpPr>
            <p:spPr>
              <a:xfrm>
                <a:off x="1343160" y="4572000"/>
                <a:ext cx="5972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α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9"/>
              <p:cNvSpPr txBox="1"/>
              <p:nvPr/>
            </p:nvSpPr>
            <p:spPr>
              <a:xfrm>
                <a:off x="1295280" y="5257800"/>
                <a:ext cx="268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4419720" y="5029200"/>
                <a:ext cx="3994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α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3"/>
              <p:cNvSpPr txBox="1"/>
              <p:nvPr/>
            </p:nvSpPr>
            <p:spPr>
              <a:xfrm>
                <a:off x="4267080" y="5867280"/>
                <a:ext cx="1197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: Exponential  Smooth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1139760" y="1676520"/>
            <a:ext cx="7381800" cy="397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Object 4"/>
          <p:cNvGraphicFramePr/>
          <p:nvPr/>
        </p:nvGraphicFramePr>
        <p:xfrm>
          <a:off x="7696080" y="533412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3341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sensitive to Initial Estimat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Chart 6" descr=""/>
          <p:cNvPicPr/>
          <p:nvPr/>
        </p:nvPicPr>
        <p:blipFill>
          <a:blip r:embed="rId1"/>
          <a:stretch/>
        </p:blipFill>
        <p:spPr>
          <a:xfrm>
            <a:off x="1676520" y="1749600"/>
            <a:ext cx="6553080" cy="4327200"/>
          </a:xfrm>
          <a:prstGeom prst="rect">
            <a:avLst/>
          </a:prstGeom>
          <a:ln w="0">
            <a:noFill/>
          </a:ln>
        </p:spPr>
      </p:pic>
      <p:sp>
        <p:nvSpPr>
          <p:cNvPr id="188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ffect of Weighting Fact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0" name="Chart 5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235640" cy="4340160"/>
          </a:xfrm>
          <a:prstGeom prst="rect">
            <a:avLst/>
          </a:prstGeom>
          <a:ln w="0">
            <a:noFill/>
          </a:ln>
        </p:spPr>
      </p:pic>
      <p:sp>
        <p:nvSpPr>
          <p:cNvPr id="191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sponse to Process Chan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Chart 6" descr=""/>
          <p:cNvPicPr/>
          <p:nvPr/>
        </p:nvPicPr>
        <p:blipFill>
          <a:blip r:embed="rId1"/>
          <a:stretch/>
        </p:blipFill>
        <p:spPr>
          <a:xfrm>
            <a:off x="1219320" y="1749600"/>
            <a:ext cx="7388280" cy="4346280"/>
          </a:xfrm>
          <a:prstGeom prst="rect">
            <a:avLst/>
          </a:prstGeom>
          <a:ln w="0">
            <a:noFill/>
          </a:ln>
        </p:spPr>
      </p:pic>
      <p:sp>
        <p:nvSpPr>
          <p:cNvPr id="195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end Model: Regre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parameters:   (level) and   (slo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squared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sum of squared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3962520" y="1822320"/>
                <a:ext cx="1866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3048120" y="3733920"/>
                <a:ext cx="31064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2"/>
              <p:cNvSpPr txBox="1"/>
              <p:nvPr/>
            </p:nvSpPr>
            <p:spPr>
              <a:xfrm>
                <a:off x="4648320" y="2514600"/>
                <a:ext cx="255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3"/>
              <p:cNvSpPr txBox="1"/>
              <p:nvPr/>
            </p:nvSpPr>
            <p:spPr>
              <a:xfrm>
                <a:off x="6705720" y="2460600"/>
                <a:ext cx="2556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end Model: Regression (Cont.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the two simultaneous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828800" y="5029200"/>
                <a:ext cx="23828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t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4572000" y="5010120"/>
                <a:ext cx="3295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t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2077920" y="1932120"/>
                <a:ext cx="54658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acc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num>
                      <m:den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2057400" y="3124080"/>
                <a:ext cx="5640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acc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num>
                      <m:den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ctors that Influence Deman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ed marketing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ed price dis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: Regre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3"/>
          <p:cNvGraphicFramePr/>
          <p:nvPr/>
        </p:nvGraphicFramePr>
        <p:xfrm>
          <a:off x="7543800" y="5638680"/>
          <a:ext cx="914400" cy="77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56386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Chart 10" descr=""/>
          <p:cNvPicPr/>
          <p:nvPr/>
        </p:nvPicPr>
        <p:blipFill>
          <a:blip r:embed="rId3"/>
          <a:stretch/>
        </p:blipFill>
        <p:spPr>
          <a:xfrm>
            <a:off x="1139760" y="1749600"/>
            <a:ext cx="7315200" cy="373680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uble Exponential Smooth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level and s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ice of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rade off between smoothing out noise and quick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2400480" y="2971800"/>
                <a:ext cx="35733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2438280" y="2286000"/>
                <a:ext cx="3827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438280" y="3657600"/>
                <a:ext cx="1724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k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1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itial Estimat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Object 6"/>
          <p:cNvGraphicFramePr/>
          <p:nvPr/>
        </p:nvGraphicFramePr>
        <p:xfrm>
          <a:off x="1066680" y="1905120"/>
          <a:ext cx="7486920" cy="39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486920" cy="39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: Double Exponential Smooth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7772400" y="5562720"/>
          <a:ext cx="914400" cy="77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55627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Chart 11" descr=""/>
          <p:cNvPicPr/>
          <p:nvPr/>
        </p:nvPicPr>
        <p:blipFill>
          <a:blip r:embed="rId3"/>
          <a:stretch/>
        </p:blipFill>
        <p:spPr>
          <a:xfrm>
            <a:off x="1219320" y="1749600"/>
            <a:ext cx="6778440" cy="3809880"/>
          </a:xfrm>
          <a:prstGeom prst="rect">
            <a:avLst/>
          </a:prstGeom>
          <a:ln w="0">
            <a:noFill/>
          </a:ln>
        </p:spPr>
      </p:pic>
      <p:sp>
        <p:nvSpPr>
          <p:cNvPr id="244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asonal Process: Illustr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Object 6"/>
          <p:cNvGraphicFramePr/>
          <p:nvPr/>
        </p:nvGraphicFramePr>
        <p:xfrm>
          <a:off x="1523880" y="1905120"/>
          <a:ext cx="7162920" cy="41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716292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9" name="Group 1049"/>
          <p:cNvGrpSpPr/>
          <p:nvPr/>
        </p:nvGrpSpPr>
        <p:grpSpPr>
          <a:xfrm>
            <a:off x="2210760" y="2514600"/>
            <a:ext cx="6018840" cy="4041000"/>
            <a:chOff x="2210760" y="2514600"/>
            <a:chExt cx="6018840" cy="4041000"/>
          </a:xfrm>
        </p:grpSpPr>
        <p:sp>
          <p:nvSpPr>
            <p:cNvPr id="250" name="Line 1029"/>
            <p:cNvSpPr/>
            <p:nvPr/>
          </p:nvSpPr>
          <p:spPr>
            <a:xfrm flipV="1">
              <a:off x="4191120" y="2514600"/>
              <a:ext cx="4038480" cy="5335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030"/>
            <p:cNvSpPr/>
            <p:nvPr/>
          </p:nvSpPr>
          <p:spPr>
            <a:xfrm flipV="1">
              <a:off x="2666880" y="4419360"/>
              <a:ext cx="4038840" cy="53316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031"/>
            <p:cNvSpPr/>
            <p:nvPr/>
          </p:nvSpPr>
          <p:spPr>
            <a:xfrm flipH="1">
              <a:off x="2590560" y="5029200"/>
              <a:ext cx="6094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032"/>
            <p:cNvSpPr/>
            <p:nvPr/>
          </p:nvSpPr>
          <p:spPr>
            <a:xfrm flipH="1">
              <a:off x="2819520" y="2971800"/>
              <a:ext cx="304776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1033"/>
            <p:cNvSpPr/>
            <p:nvPr/>
          </p:nvSpPr>
          <p:spPr>
            <a:xfrm>
              <a:off x="2210760" y="6095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Tr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1048"/>
          <p:cNvGrpSpPr/>
          <p:nvPr/>
        </p:nvGrpSpPr>
        <p:grpSpPr>
          <a:xfrm>
            <a:off x="991080" y="4876920"/>
            <a:ext cx="1523520" cy="1678680"/>
            <a:chOff x="991080" y="4876920"/>
            <a:chExt cx="1523520" cy="1678680"/>
          </a:xfrm>
        </p:grpSpPr>
        <p:sp>
          <p:nvSpPr>
            <p:cNvPr id="256" name="Line 1034"/>
            <p:cNvSpPr/>
            <p:nvPr/>
          </p:nvSpPr>
          <p:spPr>
            <a:xfrm flipH="1">
              <a:off x="1143000" y="4876920"/>
              <a:ext cx="1371600" cy="0"/>
            </a:xfrm>
            <a:prstGeom prst="line">
              <a:avLst/>
            </a:prstGeom>
            <a:ln w="255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036"/>
            <p:cNvSpPr/>
            <p:nvPr/>
          </p:nvSpPr>
          <p:spPr>
            <a:xfrm>
              <a:off x="1371600" y="49528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1037"/>
            <p:cNvSpPr/>
            <p:nvPr/>
          </p:nvSpPr>
          <p:spPr>
            <a:xfrm>
              <a:off x="991080" y="60958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050"/>
          <p:cNvGrpSpPr/>
          <p:nvPr/>
        </p:nvGrpSpPr>
        <p:grpSpPr>
          <a:xfrm>
            <a:off x="1128600" y="1523880"/>
            <a:ext cx="7101000" cy="3200040"/>
            <a:chOff x="1128600" y="1523880"/>
            <a:chExt cx="7101000" cy="3200040"/>
          </a:xfrm>
        </p:grpSpPr>
        <p:sp>
          <p:nvSpPr>
            <p:cNvPr id="260" name="Line 1038"/>
            <p:cNvSpPr/>
            <p:nvPr/>
          </p:nvSpPr>
          <p:spPr>
            <a:xfrm flipV="1">
              <a:off x="2666880" y="1752120"/>
              <a:ext cx="0" cy="297180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039"/>
            <p:cNvSpPr/>
            <p:nvPr/>
          </p:nvSpPr>
          <p:spPr>
            <a:xfrm flipV="1">
              <a:off x="4191120" y="1752120"/>
              <a:ext cx="0" cy="114300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040"/>
            <p:cNvSpPr/>
            <p:nvPr/>
          </p:nvSpPr>
          <p:spPr>
            <a:xfrm>
              <a:off x="2819880" y="152388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bbd83"/>
                  </a:solidFill>
                  <a:latin typeface="Times New Roman"/>
                </a:rPr>
                <a:t>Cycl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041"/>
            <p:cNvSpPr/>
            <p:nvPr/>
          </p:nvSpPr>
          <p:spPr>
            <a:xfrm flipV="1">
              <a:off x="4724280" y="1752480"/>
              <a:ext cx="0" cy="281952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042"/>
            <p:cNvSpPr/>
            <p:nvPr/>
          </p:nvSpPr>
          <p:spPr>
            <a:xfrm flipV="1">
              <a:off x="6172200" y="1752480"/>
              <a:ext cx="0" cy="91440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1043"/>
            <p:cNvSpPr/>
            <p:nvPr/>
          </p:nvSpPr>
          <p:spPr>
            <a:xfrm>
              <a:off x="4801320" y="152388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bbd83"/>
                  </a:solidFill>
                  <a:latin typeface="Times New Roman"/>
                </a:rPr>
                <a:t>Cycl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044"/>
            <p:cNvSpPr/>
            <p:nvPr/>
          </p:nvSpPr>
          <p:spPr>
            <a:xfrm flipV="1">
              <a:off x="6705720" y="1752120"/>
              <a:ext cx="0" cy="266724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045"/>
            <p:cNvSpPr/>
            <p:nvPr/>
          </p:nvSpPr>
          <p:spPr>
            <a:xfrm flipV="1">
              <a:off x="8229600" y="1752120"/>
              <a:ext cx="0" cy="68580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1046"/>
            <p:cNvSpPr/>
            <p:nvPr/>
          </p:nvSpPr>
          <p:spPr>
            <a:xfrm>
              <a:off x="6858720" y="152388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bbd83"/>
                  </a:solidFill>
                  <a:latin typeface="Times New Roman"/>
                </a:rPr>
                <a:t>Cycl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1047"/>
            <p:cNvSpPr/>
            <p:nvPr/>
          </p:nvSpPr>
          <p:spPr>
            <a:xfrm>
              <a:off x="1128600" y="15238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bbd83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cbbd83"/>
                  </a:solidFill>
                  <a:latin typeface="Times New Roman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ltiplicative Mod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s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easonal factor for time peri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asonal factor remains unchanged from cycle to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verage of each cycle follows a trend process or a consta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4419720" y="1822320"/>
                <a:ext cx="2280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asonal Forecas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seasonal factor and deseasonaliz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average for each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ycle, divide the data value by the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over each season to compute the seasonal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season, divide the original data by the corresponding seasonal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asonal Forecasting (Cont.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t the deseasonaliz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average for each cycle using the deseasonaliz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t the cycle average data using an appropriat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easonal 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model to forecast the cycle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the cycle average by the seasonal indices to make seasonal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: Seasonal Forecas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Chart 8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35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3"/>
          <p:cNvGraphicFramePr/>
          <p:nvPr/>
        </p:nvGraphicFramePr>
        <p:xfrm>
          <a:off x="7696080" y="518148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1814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orecast Error Analysi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cast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ing at the error for an isolated period does not provide usefu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formance of a forecasting model should be evaluated by studying the errors over the history of the entire forecast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3124080" y="2362320"/>
                <a:ext cx="1362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7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orecasting Metho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ualit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ly on human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urvey (customer 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phi technique (expert opin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mand is highly correlated with certain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ast demand is a good indicator of future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mic consumer behavior to conduct what-if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a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fluctuate around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deviates significantly from 0, then the model is either underestimating (positive bias) or overestimating (negative bias) the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3240000" y="1760400"/>
                <a:ext cx="21751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4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an Absolute Deviation (MA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 dispersion of error; smaller is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normal distribution the MAD and the error standard deviation 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re rel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3124080" y="1600200"/>
                <a:ext cx="26514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5"/>
              <p:cNvSpPr txBox="1"/>
              <p:nvPr/>
            </p:nvSpPr>
            <p:spPr>
              <a:xfrm>
                <a:off x="1447920" y="4800600"/>
                <a:ext cx="35100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7"/>
              <p:cNvSpPr txBox="1"/>
              <p:nvPr/>
            </p:nvSpPr>
            <p:spPr>
              <a:xfrm>
                <a:off x="6019920" y="4876920"/>
                <a:ext cx="178596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an Squared Error (MSE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penalty for large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s both model bias and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gression based forecasting model minimizes its M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3429000" y="1600200"/>
                <a:ext cx="2541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9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Mean Absolute Percent Error (MAPE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relative to the magnitude of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s of low demand may distort the performance of the forecasting model (e.g., division by 0 if there is no demand in a certain time peri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2743200" y="1763640"/>
                <a:ext cx="410364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6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acking Signal (TS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series measure to monitor the randomness of the forecast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mpared to predefined control limits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to determine if the actual demand reflects the assumptions of the forecas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3809880" y="1600200"/>
                <a:ext cx="20113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a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of Forecast Error Analysis: Moving Avera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543800" cy="4114800"/>
          </a:xfrm>
          <a:prstGeom prst="rect">
            <a:avLst/>
          </a:prstGeom>
          <a:ln w="0">
            <a:noFill/>
          </a:ln>
        </p:spPr>
      </p:pic>
      <p:sp>
        <p:nvSpPr>
          <p:cNvPr id="339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of Forecast Error Analysis: Regre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691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of Forecast Error Analysi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Object 9"/>
          <p:cNvGraphicFramePr/>
          <p:nvPr/>
        </p:nvGraphicFramePr>
        <p:xfrm>
          <a:off x="7848720" y="5934240"/>
          <a:ext cx="914400" cy="77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93424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3"/>
          <a:stretch/>
        </p:blipFill>
        <p:spPr>
          <a:xfrm>
            <a:off x="1066680" y="1676520"/>
            <a:ext cx="754380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stant or Trend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Chart 11" descr=""/>
          <p:cNvPicPr/>
          <p:nvPr/>
        </p:nvPicPr>
        <p:blipFill>
          <a:blip r:embed="rId1"/>
          <a:stretch/>
        </p:blipFill>
        <p:spPr>
          <a:xfrm>
            <a:off x="1292400" y="1676520"/>
            <a:ext cx="6937200" cy="33526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5867280" y="1752480"/>
                <a:ext cx="2770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5"/>
              <p:cNvSpPr txBox="1"/>
              <p:nvPr/>
            </p:nvSpPr>
            <p:spPr>
              <a:xfrm>
                <a:off x="2057400" y="1752480"/>
                <a:ext cx="1206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63" name=""/>
          <p:cNvGraphicFramePr/>
          <p:nvPr/>
        </p:nvGraphicFramePr>
        <p:xfrm>
          <a:off x="1768320" y="5121360"/>
          <a:ext cx="6613560" cy="822240"/>
        </p:xfrm>
        <a:graphic>
          <a:graphicData uri="http://schemas.openxmlformats.org/drawingml/2006/table">
            <a:tbl>
              <a:tblPr/>
              <a:tblGrid>
                <a:gridCol w="2057400"/>
                <a:gridCol w="1219320"/>
                <a:gridCol w="1143000"/>
                <a:gridCol w="1143000"/>
                <a:gridCol w="105084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nd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alidation Error Analysi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Chart 8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540920" cy="327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"/>
          <p:cNvGraphicFramePr/>
          <p:nvPr/>
        </p:nvGraphicFramePr>
        <p:xfrm>
          <a:off x="1600200" y="5045040"/>
          <a:ext cx="6765840" cy="822240"/>
        </p:xfrm>
        <a:graphic>
          <a:graphicData uri="http://schemas.openxmlformats.org/drawingml/2006/table">
            <a:tbl>
              <a:tblPr/>
              <a:tblGrid>
                <a:gridCol w="1901880"/>
                <a:gridCol w="1216080"/>
                <a:gridCol w="1216080"/>
                <a:gridCol w="1215720"/>
                <a:gridCol w="121608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nd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ime-series Forecas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l smo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exponential smo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sona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nitoring Model Performa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Chart 6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540920" cy="3578040"/>
          </a:xfrm>
          <a:prstGeom prst="rect">
            <a:avLst/>
          </a:prstGeom>
          <a:ln w="0">
            <a:noFill/>
          </a:ln>
        </p:spPr>
      </p:pic>
      <p:sp>
        <p:nvSpPr>
          <p:cNvPr id="373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acking Signal Analysi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75" name="Chart 8" descr=""/>
          <p:cNvPicPr/>
          <p:nvPr/>
        </p:nvPicPr>
        <p:blipFill>
          <a:blip r:embed="rId1"/>
          <a:stretch/>
        </p:blipFill>
        <p:spPr>
          <a:xfrm>
            <a:off x="914400" y="1749600"/>
            <a:ext cx="7808760" cy="33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3"/>
          <p:cNvGraphicFramePr/>
          <p:nvPr/>
        </p:nvGraphicFramePr>
        <p:xfrm>
          <a:off x="7848720" y="541008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4100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ich Weighting Factor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Chart 5" descr=""/>
          <p:cNvPicPr/>
          <p:nvPr/>
        </p:nvPicPr>
        <p:blipFill>
          <a:blip r:embed="rId1"/>
          <a:stretch/>
        </p:blipFill>
        <p:spPr>
          <a:xfrm>
            <a:off x="1139760" y="1676520"/>
            <a:ext cx="7424640" cy="3554280"/>
          </a:xfrm>
          <a:prstGeom prst="rect">
            <a:avLst/>
          </a:prstGeom>
          <a:ln w="0">
            <a:noFill/>
          </a:ln>
        </p:spPr>
      </p:pic>
      <p:sp>
        <p:nvSpPr>
          <p:cNvPr id="38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ighting Factor Sele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5867640" cy="4292640"/>
          </a:xfrm>
          <a:prstGeom prst="rect">
            <a:avLst/>
          </a:prstGeom>
          <a:ln w="0">
            <a:noFill/>
          </a:ln>
        </p:spPr>
      </p:pic>
      <p:sp>
        <p:nvSpPr>
          <p:cNvPr id="386" name="Oval 6"/>
          <p:cNvSpPr/>
          <p:nvPr/>
        </p:nvSpPr>
        <p:spPr>
          <a:xfrm>
            <a:off x="5029200" y="5715000"/>
            <a:ext cx="457200" cy="304920"/>
          </a:xfrm>
          <a:prstGeom prst="ellips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Object 3"/>
          <p:cNvGraphicFramePr/>
          <p:nvPr/>
        </p:nvGraphicFramePr>
        <p:xfrm>
          <a:off x="7696080" y="548640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4864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cess Chang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91" name="Chart 6" descr=""/>
          <p:cNvPicPr/>
          <p:nvPr/>
        </p:nvPicPr>
        <p:blipFill>
          <a:blip r:embed="rId1"/>
          <a:stretch/>
        </p:blipFill>
        <p:spPr>
          <a:xfrm>
            <a:off x="1494000" y="1762200"/>
            <a:ext cx="6156000" cy="3327480"/>
          </a:xfrm>
          <a:prstGeom prst="rect">
            <a:avLst/>
          </a:prstGeom>
          <a:ln w="0">
            <a:noFill/>
          </a:ln>
        </p:spPr>
      </p:pic>
      <p:sp>
        <p:nvSpPr>
          <p:cNvPr id="39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tecting Process Chan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Chart 5" descr=""/>
          <p:cNvPicPr/>
          <p:nvPr/>
        </p:nvPicPr>
        <p:blipFill>
          <a:blip r:embed="rId1"/>
          <a:stretch/>
        </p:blipFill>
        <p:spPr>
          <a:xfrm>
            <a:off x="1139760" y="1676520"/>
            <a:ext cx="7162920" cy="3657600"/>
          </a:xfrm>
          <a:prstGeom prst="rect">
            <a:avLst/>
          </a:prstGeom>
          <a:ln w="0">
            <a:noFill/>
          </a:ln>
        </p:spPr>
      </p:pic>
      <p:sp>
        <p:nvSpPr>
          <p:cNvPr id="396" name="Straight Connector 8"/>
          <p:cNvSpPr/>
          <p:nvPr/>
        </p:nvSpPr>
        <p:spPr>
          <a:xfrm>
            <a:off x="1523880" y="3352680"/>
            <a:ext cx="556272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Straight Arrow Connector 10"/>
          <p:cNvCxnSpPr/>
          <p:nvPr/>
        </p:nvCxnSpPr>
        <p:spPr>
          <a:xfrm flipV="1">
            <a:off x="2209680" y="3580560"/>
            <a:ext cx="1524960" cy="76284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arrow" w="med"/>
          </a:ln>
        </p:spPr>
      </p:cxnSp>
      <p:graphicFrame>
        <p:nvGraphicFramePr>
          <p:cNvPr id="398" name="Object 9"/>
          <p:cNvGraphicFramePr/>
          <p:nvPr/>
        </p:nvGraphicFramePr>
        <p:xfrm>
          <a:off x="7848720" y="579132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7913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ullwhip Effe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59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Object 3"/>
          <p:cNvGraphicFramePr/>
          <p:nvPr/>
        </p:nvGraphicFramePr>
        <p:xfrm>
          <a:off x="7848720" y="586728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8672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ullwhip Effect: Lessons Learne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tuations in orders increase as they move up the supply chain from retailers to wholesalers to manufacturers to supp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rther up the supply chain a company is, the larger is its forecast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any should consider collaborating with its supply chain partners to develop forecasts based on sales to the end customer to reduce forecast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haracteristics of Foreca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casts are always wrong and thus should include an erro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-term forecasts are usually less accurate than short-term forec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 forecasts are usually more accurate than disaggregate forec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stant Model: Avera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d based on minimizing the sum of squared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4419720" y="1752480"/>
                <a:ext cx="13222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3127320" y="2362320"/>
                <a:ext cx="13683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9"/>
              <p:cNvSpPr txBox="1"/>
              <p:nvPr/>
            </p:nvSpPr>
            <p:spPr>
              <a:xfrm>
                <a:off x="4114800" y="3962520"/>
                <a:ext cx="12924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2001960" y="4648320"/>
                <a:ext cx="5922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num>
                      <m:den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num>
                      <m:den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3"/>
              <p:cNvSpPr txBox="1"/>
              <p:nvPr/>
            </p:nvSpPr>
            <p:spPr>
              <a:xfrm>
                <a:off x="3886200" y="5610240"/>
                <a:ext cx="15541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: Avera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hart 19" descr=""/>
          <p:cNvPicPr/>
          <p:nvPr/>
        </p:nvPicPr>
        <p:blipFill>
          <a:blip r:embed="rId1"/>
          <a:stretch/>
        </p:blipFill>
        <p:spPr>
          <a:xfrm>
            <a:off x="1292400" y="1828800"/>
            <a:ext cx="7010280" cy="33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Object 13"/>
          <p:cNvGraphicFramePr/>
          <p:nvPr/>
        </p:nvGraphicFramePr>
        <p:xfrm>
          <a:off x="7543800" y="525780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52578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ving Avera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only the most recent data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 ou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spond to change i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2871720" y="2328840"/>
                <a:ext cx="17985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2852640" y="3124080"/>
                <a:ext cx="3014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: Moving Avera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Chart 8" descr=""/>
          <p:cNvPicPr/>
          <p:nvPr/>
        </p:nvPicPr>
        <p:blipFill>
          <a:blip r:embed="rId1"/>
          <a:stretch/>
        </p:blipFill>
        <p:spPr>
          <a:xfrm>
            <a:off x="1139760" y="1676520"/>
            <a:ext cx="7242120" cy="397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Object 3"/>
          <p:cNvGraphicFramePr/>
          <p:nvPr/>
        </p:nvGraphicFramePr>
        <p:xfrm>
          <a:off x="7543800" y="548640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54864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7T16:33:28Z</dcterms:created>
  <dc:creator>shuang</dc:creator>
  <dc:description/>
  <dc:language>en-US</dc:language>
  <cp:lastModifiedBy>Samuel H. Huang</cp:lastModifiedBy>
  <dcterms:modified xsi:type="dcterms:W3CDTF">2013-02-10T15:56:08Z</dcterms:modified>
  <cp:revision>211</cp:revision>
  <dc:subject/>
  <dc:title>Introduction to Production Control</dc:title>
</cp:coreProperties>
</file>