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4d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7" descr="thin ba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Line 8"/>
            <p:cNvSpPr/>
            <p:nvPr/>
          </p:nvSpPr>
          <p:spPr>
            <a:xfrm>
              <a:off x="0" y="1752480"/>
              <a:ext cx="9144000" cy="0"/>
            </a:xfrm>
            <a:prstGeom prst="line">
              <a:avLst/>
            </a:prstGeom>
            <a:ln w="38160">
              <a:solidFill>
                <a:srgbClr val="d78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adabb4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0f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dabb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adabb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adabb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dabb4"/>
              </a:solidFill>
              <a:latin typeface="Arial"/>
            </a:endParaRPr>
          </a:p>
        </p:txBody>
      </p:sp>
      <p:grpSp>
        <p:nvGrpSpPr>
          <p:cNvPr id="6" name="Group 16"/>
          <p:cNvGrpSpPr/>
          <p:nvPr/>
        </p:nvGrpSpPr>
        <p:grpSpPr>
          <a:xfrm>
            <a:off x="6275520" y="6076800"/>
            <a:ext cx="2868480" cy="781200"/>
            <a:chOff x="6275520" y="6076800"/>
            <a:chExt cx="2868480" cy="781200"/>
          </a:xfrm>
        </p:grpSpPr>
        <p:pic>
          <p:nvPicPr>
            <p:cNvPr id="7" name="Picture 14" descr="arrows finished copy"/>
            <p:cNvPicPr/>
            <p:nvPr/>
          </p:nvPicPr>
          <p:blipFill>
            <a:blip r:embed="rId3"/>
            <a:stretch/>
          </p:blipFill>
          <p:spPr>
            <a:xfrm>
              <a:off x="8305920" y="6076800"/>
              <a:ext cx="8380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Line 15"/>
            <p:cNvSpPr/>
            <p:nvPr/>
          </p:nvSpPr>
          <p:spPr>
            <a:xfrm>
              <a:off x="6275520" y="6095880"/>
              <a:ext cx="2868480" cy="1800"/>
            </a:xfrm>
            <a:prstGeom prst="line">
              <a:avLst/>
            </a:prstGeom>
            <a:ln w="38160">
              <a:solidFill>
                <a:srgbClr val="d78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adabb4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4d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f0f2"/>
                </a:solidFill>
                <a:latin typeface="Arial"/>
              </a:rPr>
              <a:t>Chapter 2</a:t>
            </a:r>
            <a:endParaRPr b="0" lang="en-US" sz="44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Physical and Electrical Background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electric dipole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s made of two charged objects, with equal but opposite electric charges, that are separated by a distance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38862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drift velocity of electrons in a wire is proportional to the current that flows in the wire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electrical current is defined as the time rate at which electrical charges flow through a surface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o move electric charges, an electric force is necessary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Curiosity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: Imagine two straight, parallel, and indefinitely long wires having negligible circular cross sections, placed in a vacuum, with 1 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meter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 of distance between them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electric force acting on a charge causing its movement produces an electric work. 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electric voltage is the amount of electric work necessary to move a charge between two points against a static electric field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Carriers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re the charges forming an electric current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 DC current is non-varying electric current. 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direction of the flow of positive and negative charges is one way, and does not change with time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abb4"/>
                </a:solidFill>
                <a:latin typeface="Arial"/>
              </a:rPr>
              <a:t>An AC current reverses its own direction periodically a specified number of times per second. 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abb4"/>
                </a:solidFill>
                <a:latin typeface="Arial"/>
              </a:rPr>
              <a:t>The average value in a period is equal to zero. 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abb4"/>
                </a:solidFill>
                <a:latin typeface="Arial"/>
              </a:rPr>
              <a:t>Even if the term AC is used to describe a current, it has become common to use the term to identify a source of alternating voltage.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 DC voltage is a voltage that does not change polarity across two points with time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n AC voltage is a voltage continually changing between positive and negative values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generation or use of electric power [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] over a period of time [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] is often expressed in kilowatt-hours [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kWh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]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Force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s capable of modifying the condition of constant speed of a body, or of deforming it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magnet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s a body having the property of producing a magnetic field external to itself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693960" y="3581280"/>
            <a:ext cx="224820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magnetic field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s the region around a magnet where magnetic forces act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: It is known that if a metal screwdriver (non-magnetic material) is rubbed with a magnet, then it will be able to attract screws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refore, clearly, it can be 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magnetized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Magnetic induction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represents how the magnetic field changes within a material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850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ccording to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magnetism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, matter can be divided into three types: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abb4"/>
                </a:solidFill>
                <a:latin typeface="Arial"/>
              </a:rPr>
              <a:t>diamagnetic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abb4"/>
                </a:solidFill>
                <a:latin typeface="Arial"/>
              </a:rPr>
              <a:t>paramagnetic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abb4"/>
                </a:solidFill>
                <a:latin typeface="Arial"/>
              </a:rPr>
              <a:t>ferromagnetic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absolute magnetic permeability μ</a:t>
            </a:r>
            <a:r>
              <a:rPr b="0" lang="en-US" sz="3200" spc="-1" strike="noStrike" baseline="-25000">
                <a:solidFill>
                  <a:srgbClr val="adabb4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 is a universal constant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We get information through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waves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Electromagnetic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mechanical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waves are fundamental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n the following table are the described quantities and their SI units: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  <p:pic>
        <p:nvPicPr>
          <p:cNvPr id="103" name="Picture 4" descr="Screen shot 2013-10-18 at 11"/>
          <p:cNvPicPr/>
          <p:nvPr/>
        </p:nvPicPr>
        <p:blipFill>
          <a:blip r:embed="rId1"/>
          <a:stretch/>
        </p:blipFill>
        <p:spPr>
          <a:xfrm>
            <a:off x="1905120" y="2971800"/>
            <a:ext cx="586728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A force does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work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f movement of a body is produced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ability of a system to do work on another system is known as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850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Heat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s a form of energy that is transferred from one system to another system by thermal interaction. 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Temperature</a:t>
            </a:r>
            <a:r>
              <a:rPr b="0" i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provides a way to measure the quantity of heat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electric charge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is a physical basic property of a unit of matter that causes it to experience a force when near other electrically charged matter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Coulomb’s law states that any two point charges exert a force on each other that is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abb4"/>
                </a:solidFill>
                <a:latin typeface="Arial"/>
              </a:rPr>
              <a:t>proportional to the product of their charges and 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dabb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abb4"/>
                </a:solidFill>
                <a:latin typeface="Arial"/>
              </a:rPr>
              <a:t>inversely proportional to the square of the distance between them.</a:t>
            </a:r>
            <a:endParaRPr b="0" lang="en-US" sz="28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a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electric field</a:t>
            </a:r>
            <a:r>
              <a:rPr b="1" lang="en-US" sz="3200" spc="-1" strike="noStrike">
                <a:solidFill>
                  <a:srgbClr val="adabb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strength at a point is the force per unit charge exerted on a positive charge placed at that point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Chapter 2: Physical and </a:t>
            </a:r>
            <a:br>
              <a:rPr sz="3200"/>
            </a:br>
            <a:r>
              <a:rPr b="0" lang="en-US" sz="3200" spc="-1" strike="noStrike">
                <a:solidFill>
                  <a:srgbClr val="f4f0f2"/>
                </a:solidFill>
                <a:latin typeface="Arial"/>
              </a:rPr>
              <a:t>Electrical Background</a:t>
            </a:r>
            <a:endParaRPr b="0" lang="en-US" sz="3200" spc="-1" strike="noStrike">
              <a:solidFill>
                <a:srgbClr val="f4f0f2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82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8267"/>
                </a:solidFill>
                <a:latin typeface="Arial"/>
              </a:rPr>
              <a:t>Observation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: The electrostatic force is 4.17*10</a:t>
            </a:r>
            <a:r>
              <a:rPr b="0" lang="en-US" sz="3200" spc="-1" strike="noStrike" baseline="30000">
                <a:solidFill>
                  <a:srgbClr val="adabb4"/>
                </a:solidFill>
                <a:latin typeface="Arial"/>
              </a:rPr>
              <a:t>42 </a:t>
            </a:r>
            <a:r>
              <a:rPr b="0" lang="en-US" sz="3200" spc="-1" strike="noStrike">
                <a:solidFill>
                  <a:srgbClr val="adabb4"/>
                </a:solidFill>
                <a:latin typeface="Arial"/>
              </a:rPr>
              <a:t>times stronger than the gravitational force, regardless of the distance between two charges.</a:t>
            </a:r>
            <a:endParaRPr b="0" lang="en-US" sz="3200" spc="-1" strike="noStrike">
              <a:solidFill>
                <a:srgbClr val="adabb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19:06:02Z</dcterms:created>
  <dc:creator>Amy Hill User</dc:creator>
  <dc:description/>
  <dc:language>en-US</dc:language>
  <cp:lastModifiedBy>kizzaf</cp:lastModifiedBy>
  <dcterms:modified xsi:type="dcterms:W3CDTF">2013-12-09T17:18:41Z</dcterms:modified>
  <cp:revision>49</cp:revision>
  <dc:subject/>
  <dc:title>Chapter 1</dc:title>
</cp:coreProperties>
</file>