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552720" y="6629040"/>
            <a:ext cx="2590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C Press, 2008.  ISBN-10: 08493928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-360" y="66290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ntroduction to Organic Electronic and Optoelectronic Materials and Devices (Eds. Sun &amp; Dalton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761760" y="54860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2.1   Illustration of key processes in optoelectronic de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579096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61760" y="56386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2.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-voltage characteristic for a photoconductor with and without illum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708660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61760" y="54860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2.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LED characteristics: light vs. current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voltage vs. current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0199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61760" y="54860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2.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on of  light propagation in a simple LED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-228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61760" y="54860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.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matic LED emission spect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93396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61760" y="54860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2.1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band diagram of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eterojunction illustrating stimulated photon emission at forward b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39116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761760" y="54860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.15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cal feedback in a Fabry-Perot la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0" r="0" b="18043"/>
          <a:stretch/>
        </p:blipFill>
        <p:spPr>
          <a:xfrm>
            <a:off x="0" y="0"/>
            <a:ext cx="868680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761760" y="54860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2.1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 versus carrier dens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transparency dens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t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reshold dens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0" r="0" b="20573"/>
          <a:stretch/>
        </p:blipFill>
        <p:spPr>
          <a:xfrm>
            <a:off x="0" y="-15228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761760" y="54860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2.1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er characteristics: light power vs. current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voltage vs. current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73152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61760" y="54860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2.18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 modulation characteristic of a la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10318" r="25546" b="15850"/>
          <a:stretch/>
        </p:blipFill>
        <p:spPr>
          <a:xfrm>
            <a:off x="152280" y="-152280"/>
            <a:ext cx="7391520" cy="55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61760" y="54860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2.19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cal resonator designs for semiconductor las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0" r="0" b="33704"/>
          <a:stretch/>
        </p:blipFill>
        <p:spPr>
          <a:xfrm>
            <a:off x="152280" y="838080"/>
            <a:ext cx="83059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85440" y="58672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2.2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tic structure and internal physics of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hotodi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10317"/>
          <a:stretch/>
        </p:blipFill>
        <p:spPr>
          <a:xfrm>
            <a:off x="2362320" y="304920"/>
            <a:ext cx="4524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61760" y="54860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2.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profile of band gap, refractive index, and optical wave within a planar symmetric hetero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716292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761760" y="54860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.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propagation in a planar waveguide. The dashed lines indicate constructive interference of reflected wav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61760" y="54860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2.2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verse optical field profil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m(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waveguide mode numb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66680" y="609480"/>
          <a:ext cx="6324840" cy="473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09480"/>
                    <a:ext cx="6324840" cy="47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61760" y="54860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2.2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 plasmons: interaction of electrons and optical waves at a metal / dielectric inte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18398" b="23984"/>
          <a:stretch/>
        </p:blipFill>
        <p:spPr>
          <a:xfrm>
            <a:off x="533520" y="228600"/>
            <a:ext cx="761976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1760" y="54860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2.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-Zehnder Modul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8768" r="0" b="13661"/>
          <a:stretch/>
        </p:blipFill>
        <p:spPr>
          <a:xfrm>
            <a:off x="-228600" y="914400"/>
            <a:ext cx="9144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61760" y="54860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.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tor transmittance func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(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18211" r="0" b="12375"/>
          <a:stretch/>
        </p:blipFill>
        <p:spPr>
          <a:xfrm>
            <a:off x="-457200" y="228600"/>
            <a:ext cx="937260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761760" y="54864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2.3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cal absorption constants of GaAs, Si, and Ge as function of light wavelength. The dotted lines indicate the band gap waveleng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143000" y="457200"/>
          <a:ext cx="624852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57200"/>
                    <a:ext cx="624852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61760" y="54860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2.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tic responsivity spectrum of photodi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0" b="13220"/>
          <a:stretch/>
        </p:blipFill>
        <p:spPr>
          <a:xfrm>
            <a:off x="838080" y="228600"/>
            <a:ext cx="792504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61760" y="57146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2.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-voltage characteristic for a photodiode with and without illum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8580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61760" y="54860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2.6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14328" t="29726" r="23834" b="22205"/>
          <a:stretch/>
        </p:blipFill>
        <p:spPr>
          <a:xfrm>
            <a:off x="-152280" y="457200"/>
            <a:ext cx="868680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54860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2.7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 cell current-voltag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 and para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-304920"/>
            <a:ext cx="769644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1760" y="54860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2.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 spectr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676520" y="380880"/>
          <a:ext cx="5790960" cy="515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880"/>
                    <a:ext cx="5790960" cy="515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4860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2.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condu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27459" r="0" b="13530"/>
          <a:stretch/>
        </p:blipFill>
        <p:spPr>
          <a:xfrm>
            <a:off x="0" y="533520"/>
            <a:ext cx="868680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01:21:21Z</dcterms:created>
  <dc:creator>ssun</dc:creator>
  <dc:description/>
  <dc:language>en-US</dc:language>
  <cp:lastModifiedBy>ssun</cp:lastModifiedBy>
  <dcterms:modified xsi:type="dcterms:W3CDTF">2008-01-24T03:52:42Z</dcterms:modified>
  <cp:revision>30</cp:revision>
  <dc:subject/>
  <dc:title>Slide 1</dc:title>
</cp:coreProperties>
</file>