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418-9945-4692-92EE-8D6A20F4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490B-D6B2-4A8B-81DF-791B1E0E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FF95-0916-4BB0-A0DA-8E27482A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1FE-8B6C-4763-9268-CF12396C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659-765E-4D0B-8D29-F2127F79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3C59-1AFE-4DFA-8EC4-ECC5B109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6A60-A2DF-4CA6-969B-CCA3E3D3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EA6-5803-47B5-ABC3-264A70DE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60D-61E5-4E78-957F-DC307DF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411-EA0B-49EE-AF48-805F870A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B0F-2D5A-4BE6-8376-D555A737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DD5-EB76-4E52-A301-4C88237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534-4F01-43C1-8F87-353E159D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A69-661A-46D5-A2B2-94FE847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6D3-0803-476D-B5BC-03263CD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F0B-252A-4597-803E-16DF200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225-163C-443A-9FB6-B323420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165-A77F-4539-BC24-2E622B2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8ED-D2E5-4728-A042-F1F4F48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352-77E3-474F-93B4-42174BA4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nalysis and Fou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.-II  Logic and Se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A002x001.jpg"/>
          <p:cNvPicPr/>
          <p:nvPr/>
        </p:nvPicPr>
        <p:blipFill>
          <a:blip r:embed="rId1"/>
          <a:stretch/>
        </p:blipFill>
        <p:spPr>
          <a:xfrm>
            <a:off x="1708200" y="762120"/>
            <a:ext cx="5727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A002x002.jpg"/>
          <p:cNvPicPr/>
          <p:nvPr/>
        </p:nvPicPr>
        <p:blipFill>
          <a:blip r:embed="rId1"/>
          <a:stretch/>
        </p:blipFill>
        <p:spPr>
          <a:xfrm>
            <a:off x="1579680" y="762120"/>
            <a:ext cx="5984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A002x003.jpg"/>
          <p:cNvPicPr/>
          <p:nvPr/>
        </p:nvPicPr>
        <p:blipFill>
          <a:blip r:embed="rId1"/>
          <a:stretch/>
        </p:blipFill>
        <p:spPr>
          <a:xfrm>
            <a:off x="1650960" y="762120"/>
            <a:ext cx="5842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A002x004.jpg"/>
          <p:cNvPicPr/>
          <p:nvPr/>
        </p:nvPicPr>
        <p:blipFill>
          <a:blip r:embed="rId1"/>
          <a:stretch/>
        </p:blipFill>
        <p:spPr>
          <a:xfrm>
            <a:off x="1143000" y="993600"/>
            <a:ext cx="685800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002x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A002x005.jpg"/>
          <p:cNvPicPr/>
          <p:nvPr/>
        </p:nvPicPr>
        <p:blipFill>
          <a:blip r:embed="rId1"/>
          <a:stretch/>
        </p:blipFill>
        <p:spPr>
          <a:xfrm>
            <a:off x="1709640" y="762120"/>
            <a:ext cx="5724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5-21T12:44:03Z</dcterms:modified>
  <cp:revision>56</cp:revision>
  <dc:subject/>
  <dc:title>001x001</dc:title>
</cp:coreProperties>
</file>