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33.png" ContentType="image/png"/>
  <Override PartName="/ppt/media/image4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A276-DCE6-4593-BF39-BE975D50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B8E1-AC57-4FD5-A7F8-93C6BFD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8281-8E73-475C-87E0-2E273A15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876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52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876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9731-0A52-451F-9806-AB28A7C4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4544-C121-4F52-9B61-C57D8899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639F-3490-43A2-A8DB-2D922FA8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5097-C664-4430-BF44-8B27374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84A-DFFE-48D0-B839-880326A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C9A-8946-4D36-BE5C-ADDCFEFA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549C-D238-4947-BD06-D5A8CB50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8BC6-06F0-4F99-A1A3-6CC7660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886C-AD7E-4CC4-944A-E7B1E054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B71-71FC-4837-891B-AD94742B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50F8-251D-4D8B-9181-FA42DE9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4EB4-4243-4E8E-B1BB-60723CF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25E9-1609-41E9-A092-55A3666E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8760" y="83808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052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8760" y="2987640"/>
            <a:ext cx="272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674-B4F8-49A4-AF2B-2379CAFA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9585-AB4A-4F15-9A01-3776A14F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D16C-466C-4FFE-9959-AB281B7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FF46-262E-44AC-8E6C-F6DEE317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CAD7-E99E-42CB-8B0D-2696C614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1AC6-B0AF-4C43-969A-69E8508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13840" y="298764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3E31-FBDB-4E44-B3FB-0BF4DF2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840" y="838080"/>
            <a:ext cx="4126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520" y="2987640"/>
            <a:ext cx="845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E0A9-D4CD-4366-8D1C-C810176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0240" y="495360"/>
            <a:ext cx="1784520" cy="2324160"/>
            <a:chOff x="120240" y="49536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20240" y="59292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4640" y="49860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7440" y="49536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80520" y="838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483-84AC-4735-9EBF-AAE0FF3020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3"/>
          </p:nvPr>
        </p:nvSpPr>
        <p:spPr>
          <a:xfrm>
            <a:off x="1803240" y="6248520"/>
            <a:ext cx="535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&lt;footer&gt;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C</a:t>
            </a:r>
            <a:r>
              <a:rPr b="0" lang="el-GR" sz="1400" spc="-1" strike="noStrike">
                <a:solidFill>
                  <a:srgbClr val="40458c"/>
                </a:solidFill>
                <a:latin typeface="Comic Sans MS"/>
              </a:rPr>
              <a:t>: 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From Theory to Practice </a:t>
            </a:r>
            <a:r>
              <a:rPr b="0" lang="el-GR" sz="1400" spc="-1" strike="noStrike">
                <a:solidFill>
                  <a:srgbClr val="40458c"/>
                </a:solidFill>
                <a:latin typeface="Comic Sans MS"/>
              </a:rPr>
              <a:t>– </a:t>
            </a:r>
            <a:r>
              <a:rPr b="0" lang="en-US" sz="1400" spc="-1" strike="noStrike">
                <a:solidFill>
                  <a:srgbClr val="40458c"/>
                </a:solidFill>
                <a:latin typeface="Comic Sans MS"/>
              </a:rPr>
              <a:t>Chapt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3160" y="88740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680" y="2940120"/>
            <a:ext cx="509760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09480" y="148860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674280" y="1366920"/>
            <a:ext cx="24732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161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BE6-3F02-40F7-8FA3-EB65DEB5BC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914400" algn="ctr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ird Outline Level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5040" y="14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: From Theory to Practice</a:t>
            </a:r>
            <a:endParaRPr b="1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9528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hapter 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Data Types, Variables 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mic Sans MS"/>
              </a:rPr>
              <a:t>and Data Output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6362640"/>
            <a:ext cx="5841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George S. Tselikis and Nikolaos D. Tselik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signing Values to Variab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You can also initialize more than one variabl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of the same 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gether with its declaratio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100, b = 200, c = 3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assign a floating point value to a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 we us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the do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or the fractional part an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no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he comma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e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g.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.24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an integer value begins with the digit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is value will be interpreted as an octal (base-8) number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the following statement assigns the decimal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not the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the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ff"/>
                </a:solidFill>
                <a:latin typeface="Courier New"/>
              </a:rPr>
              <a:t>	</a:t>
            </a:r>
            <a:endParaRPr b="1" lang="en-US" sz="9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01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milarly, a value that begins with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x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interpreted as hexadecimal (base-16) number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the following statement assigns the decimal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1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0x1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750B-2733-41E3-98F0-25C4195E47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 (1/2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818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value assigned to a variable should be within the range of its type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the statement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char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 ch = 130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does not make the value of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ch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qual 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since the range of the values of the signed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is from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-128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o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27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out of the allowed range, so the value is wrapped around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6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floating point value can be written in scientific notation using the let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(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, which represents the power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instea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0.085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e can wri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85E-3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hich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5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-3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1.56e6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1560000;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56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AB48-7FC4-4C3C-945E-FD7450D4C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 (2/2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818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he value assigned to a variable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Comic Sans MS"/>
              </a:rPr>
              <a:t>should match the variable type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statement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.9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ctually sets the value of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sinc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has been declared as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d no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decimal part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is completely ignored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nd the assigned valu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is not rounded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However, the value of a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variable can be an integer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you could write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50;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nce that’s equivalent to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50.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4600" y="3052800"/>
            <a:ext cx="558720" cy="4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7A2B-2B26-49C9-BE99-FAC7032524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tant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Comic Sans MS"/>
              </a:rPr>
              <a:t>variable whose value can not change during the execution of the program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is called a constant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o declare a constant, precede the type of the variable with the </a:t>
            </a:r>
            <a:r>
              <a:rPr b="1" lang="el-GR" sz="2400" spc="-1" strike="noStrike">
                <a:solidFill>
                  <a:srgbClr val="0000ff"/>
                </a:solidFill>
                <a:latin typeface="Courier New"/>
              </a:rPr>
              <a:t>const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keyword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constant must be initialized when it is declared and you can not assign it another value within the program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following statement declares the integer variabl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s constant and sets it equal to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const 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we attempt to change the value of a constant later in a program, e.g., by writing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 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a = 100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iler will raise an error messag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828E-A7D8-4F72-9F4E-ED956BCAED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l-GR" sz="32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Directiv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 alternative to declare a constant in a program is to use the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directive, which is used to define a macro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macro is a name, which – in most cases - represents a numerical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define a simple macro we write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   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_of_macro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a program is compiled each macro is replaced by its defined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 10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1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macro called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ith valu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s defined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the program is compiled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NUM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s replaced by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4960" y="3009960"/>
            <a:ext cx="506556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2AE8-E006-4706-B4D3-F950AEC2B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67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Macros are typically defined before the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unction, and are usually named using all capital letter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Note that there is no semicolon at the end of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#defin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directiv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 general, macros are most helpful when they’re used to represent a numeric value that appears many times within your program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2814480"/>
            <a:ext cx="2484360" cy="282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3920" y="1295280"/>
            <a:ext cx="558720" cy="454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295960" y="2817720"/>
            <a:ext cx="2373120" cy="20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4157640" y="3460680"/>
            <a:ext cx="1106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5097600"/>
            <a:ext cx="9144000" cy="1760400"/>
            <a:chOff x="0" y="5097600"/>
            <a:chExt cx="9144000" cy="1760400"/>
          </a:xfrm>
        </p:grpSpPr>
        <p:sp>
          <p:nvSpPr>
            <p:cNvPr id="246" name=""/>
            <p:cNvSpPr/>
            <p:nvPr/>
          </p:nvSpPr>
          <p:spPr>
            <a:xfrm>
              <a:off x="0" y="5815080"/>
              <a:ext cx="914400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</a:rPr>
                <a:t>	</a:t>
              </a:r>
              <a:r>
                <a:rPr b="1" lang="en-US" sz="1800" spc="-1" strike="noStrike">
                  <a:solidFill>
                    <a:srgbClr val="40458c"/>
                  </a:solidFill>
                  <a:latin typeface="Comic Sans MS"/>
                </a:rPr>
                <a:t>It’s safer and faster (especially in programs with thousand of lines...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247" name=""/>
            <p:cNvGraphicFramePr/>
            <p:nvPr/>
          </p:nvGraphicFramePr>
          <p:xfrm>
            <a:off x="2878200" y="5097600"/>
            <a:ext cx="873000" cy="80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78200" y="5097600"/>
                      <a:ext cx="873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C7BE-D9AA-4539-862B-912CAE4959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funct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152280" y="838080"/>
            <a:ext cx="9131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e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function is used to print a variable number of data items to the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s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andar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d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ou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put stream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), which, by default, is associated with the screen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accepts several parameters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first (mandatory) parameter is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ormat string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at is a sequence of characters in double quotes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" "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which determines the output forma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next parameters are optional and, if any,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displays their values to the screen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2200" spc="-1" strike="noStrike" u="sng">
                <a:solidFill>
                  <a:srgbClr val="40458c"/>
                </a:solidFill>
                <a:uFillTx/>
                <a:latin typeface="Comic Sans MS"/>
              </a:rPr>
              <a:t>format string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Comic Sans MS"/>
              </a:rPr>
              <a:t>may contain</a:t>
            </a:r>
            <a:r>
              <a:rPr b="1" lang="el-GR" sz="22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scape Sequenc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version Specification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rdinary characters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ich are printed as is to the scree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1104-62D6-4139-9302-64771C040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scape Sequenc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04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scape sequences tell the compiler to perform a specific action, such as move the curso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n escape sequence consists of a backslash 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ollowed by a character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19240" y="2338560"/>
          <a:ext cx="8823240" cy="38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338560"/>
                    <a:ext cx="882324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836A-1A94-41C8-A438-E87DB23D5A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version Specificat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177840" y="838080"/>
            <a:ext cx="306864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onversion specifications always begin with the percent (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 character and it is followed by one or more characters with special significanc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t its simplest form, a conversion specification is followed by one special character, called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onversion specifie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listed in the tabl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76400" y="630360"/>
          <a:ext cx="6440760" cy="61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630360"/>
                    <a:ext cx="6440760" cy="61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8DAB-1EE5-41F3-9196-709FD7FEAC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38360" y="652320"/>
            <a:ext cx="5251320" cy="301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638360" y="3852720"/>
            <a:ext cx="534492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3AFD-B08E-4757-8E93-9ABE19C19D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400" y="622440"/>
            <a:ext cx="86742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RAM and Variables</a:t>
            </a:r>
            <a:endParaRPr b="1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uter’s RAM (Random Access Memory) consists of millions of successive storage cell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size of each cell is on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yt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or example, an old PC with 16 MB (megabytes) of RAM consists of: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16×1024 kB (kilobytes) =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16.777.216 memory cells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newer PC with 8 GB (gigabytes) of RAM would have: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8×1024 MB = 8192×1024 kB =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8.388.608×1.024 = 8.589.934.592 memory cell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n C i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 storage locatio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with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iven nam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alu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a variable is th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nten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it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emory locatio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while a program may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use the nam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a variab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o acces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ts valu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A6E4-46C6-4E08-90E5-65E47F07B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I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11480" y="662040"/>
            <a:ext cx="4429080" cy="30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66" name=""/>
          <p:cNvGrpSpPr/>
          <p:nvPr/>
        </p:nvGrpSpPr>
        <p:grpSpPr>
          <a:xfrm>
            <a:off x="2236680" y="3852720"/>
            <a:ext cx="4670640" cy="2498760"/>
            <a:chOff x="2236680" y="3852720"/>
            <a:chExt cx="4670640" cy="2498760"/>
          </a:xfrm>
        </p:grpSpPr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236680" y="3852720"/>
              <a:ext cx="4670640" cy="24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2367000" y="536256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3268800" y="53514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F812C-56C9-45AA-9205-1160232998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int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 names follow the last double quote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" "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f the format string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printing more than one variable, separate each with a comma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compiler will associate the conversion specifications with the names of each of the variables from left to righ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ach conversion specification should match the type of the respective variable, or the output will be meaningles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3F36-43A2-40E0-8F59-6FB60B5D9D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73200" y="677880"/>
            <a:ext cx="593712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75" name=""/>
          <p:cNvGrpSpPr/>
          <p:nvPr/>
        </p:nvGrpSpPr>
        <p:grpSpPr>
          <a:xfrm>
            <a:off x="2046240" y="3960720"/>
            <a:ext cx="5213520" cy="2264040"/>
            <a:chOff x="2046240" y="3960720"/>
            <a:chExt cx="5213520" cy="226404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2046240" y="3960720"/>
              <a:ext cx="5213520" cy="22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198520" y="5311800"/>
              <a:ext cx="30769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3726000" y="529920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6405-B1FC-4D07-B63B-80AAC914CE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ptional Field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The simplest form of the conversion specification begins with the 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 character followed by the conversion specifier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However, a conversion specification may include another four fields as shown in the figure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41480" y="3219480"/>
            <a:ext cx="5370480" cy="31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513E-17A7-497A-A89E-9BF7EB344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cision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240" y="761760"/>
            <a:ext cx="8945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displaying the value of a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floating-point 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.e.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or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, we can specify the number of significant digi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default precision is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six digi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specify another precision add a period 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followed by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ither an integer (to specify a precise number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r an asterisk (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and in this case the precise number of significant digits is defined by the next argumen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precision digits are less than the decimal digits, the displayed value is rounded up or down, according to the value of the cut-off digi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it is less than 5 the displayed value is rounded down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therwise it is rounded up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display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no significant digit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ad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only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 period 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14D5-51CC-482A-A1A1-4F4006C5A5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844640" y="733320"/>
            <a:ext cx="5137200" cy="29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88" name=""/>
          <p:cNvGrpSpPr/>
          <p:nvPr/>
        </p:nvGrpSpPr>
        <p:grpSpPr>
          <a:xfrm>
            <a:off x="1601640" y="3922560"/>
            <a:ext cx="5776920" cy="2302200"/>
            <a:chOff x="1601640" y="3922560"/>
            <a:chExt cx="5776920" cy="230220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601640" y="3922560"/>
              <a:ext cx="5776920" cy="230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1755720" y="510372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4"/>
            <a:stretch/>
          </p:blipFill>
          <p:spPr>
            <a:xfrm>
              <a:off x="3517920" y="511668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3104-0FEA-4035-B6D1-59D4C30692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splay characters in string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hen displaying a string we can define how many of its characters will be displayed as with floating-point number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the defined precision exceeds the number of the string’s characters, the string is displayed as i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3440" y="2421000"/>
            <a:ext cx="54212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95" name=""/>
          <p:cNvGrpSpPr/>
          <p:nvPr/>
        </p:nvGrpSpPr>
        <p:grpSpPr>
          <a:xfrm>
            <a:off x="3444840" y="4308480"/>
            <a:ext cx="5289480" cy="1941480"/>
            <a:chOff x="3444840" y="4308480"/>
            <a:chExt cx="5289480" cy="1941480"/>
          </a:xfrm>
        </p:grpSpPr>
        <p:pic>
          <p:nvPicPr>
            <p:cNvPr id="296" name="" descr=""/>
            <p:cNvPicPr/>
            <p:nvPr/>
          </p:nvPicPr>
          <p:blipFill>
            <a:blip r:embed="rId2"/>
            <a:stretch/>
          </p:blipFill>
          <p:spPr>
            <a:xfrm>
              <a:off x="3444840" y="4308480"/>
              <a:ext cx="528948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3595680" y="532620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5059440" y="53244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0C74-4912-4023-93BF-6830C6993C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eld Width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displaying the value of an integer or floating-point variable we can define the total number of characters to be displayed by adding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an integer (to specify the width of the output field)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or an asterisk (</a:t>
            </a:r>
            <a:r>
              <a:rPr b="1" lang="el-GR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(in which case the width is defined by the next argument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displayed variable will need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fewer character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han the defined width,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space characters are added from left to righ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and the value is right-justified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f the displayed value needs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more character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the field width will automatically expand as needed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 the case of floating-point numbers, the defined width should take into account the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Comic Sans MS"/>
              </a:rPr>
              <a:t>precision digits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and the decimal point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84320" y="5381640"/>
            <a:ext cx="471240" cy="4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F2E3-CCC5-449A-A80B-B14954E367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529000" y="655560"/>
            <a:ext cx="401004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5" name=""/>
          <p:cNvGrpSpPr/>
          <p:nvPr/>
        </p:nvGrpSpPr>
        <p:grpSpPr>
          <a:xfrm>
            <a:off x="1881360" y="4043520"/>
            <a:ext cx="5155920" cy="2358720"/>
            <a:chOff x="1881360" y="4043520"/>
            <a:chExt cx="5155920" cy="235872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1881360" y="4043520"/>
              <a:ext cx="515592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028960" y="550872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3400560" y="545472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8847-1BC0-42EB-A234-9F1894E8B1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fix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723960"/>
            <a:ext cx="8893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indicate that the displayed value is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short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teger we can use the letter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Similarly, to indicate that the displayed value is a 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long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integer we can use the letter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19400" y="2165400"/>
            <a:ext cx="46497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12" name=""/>
          <p:cNvGrpSpPr/>
          <p:nvPr/>
        </p:nvGrpSpPr>
        <p:grpSpPr>
          <a:xfrm>
            <a:off x="1995480" y="4741920"/>
            <a:ext cx="5145120" cy="1641240"/>
            <a:chOff x="1995480" y="4741920"/>
            <a:chExt cx="5145120" cy="16412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1995480" y="4741920"/>
              <a:ext cx="514512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2131920" y="533880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3568680" y="531180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2464-239D-446E-B4BC-29D5551EA3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ules for Nam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8125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Be sure to apply the basic rules for naming variables or your code won’t compile</a:t>
            </a:r>
            <a:endParaRPr b="1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name of a variable can contain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ppercase letter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owercase letter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digit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nderscor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harac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_'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name must begin with either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etter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underscor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harac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_'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 programming language i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ase sensitiv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, meaning that it distinguishes between uppercase and lowercase letter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For example, the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different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keywords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f C languag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an not be used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s variable names because they have special significance to the C compile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4BAD-763F-411F-A5F4-85344470B7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lag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8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Flags can be used to control the output of numeric values as listed in the following tabl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1160" y="1671480"/>
          <a:ext cx="8862840" cy="38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671480"/>
                    <a:ext cx="8862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FA82-802E-4F30-B823-25320A7CBF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0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660760" y="698400"/>
            <a:ext cx="3581280" cy="32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23" name=""/>
          <p:cNvGrpSpPr/>
          <p:nvPr/>
        </p:nvGrpSpPr>
        <p:grpSpPr>
          <a:xfrm>
            <a:off x="1500120" y="3998880"/>
            <a:ext cx="5872320" cy="2340000"/>
            <a:chOff x="1500120" y="3998880"/>
            <a:chExt cx="5872320" cy="234000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1500120" y="3998880"/>
              <a:ext cx="587232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1652760" y="557208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3465360" y="552132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8567-9912-47C3-B248-AA11A0F42D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40" y="761760"/>
            <a:ext cx="8890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you use a floating-point number variable in several statements (e.g. in comparisons, arithmetical operations, etc) prefer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rather than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one, because of the unexpected manner that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ype manages the decimal digits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in the next program the output might not be the expected value (i.e.,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12345.65432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but a similar on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593800" y="2906640"/>
            <a:ext cx="4023000" cy="20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0" name=""/>
          <p:cNvGrpSpPr/>
          <p:nvPr/>
        </p:nvGrpSpPr>
        <p:grpSpPr>
          <a:xfrm>
            <a:off x="2093760" y="5018040"/>
            <a:ext cx="5181840" cy="1378080"/>
            <a:chOff x="2093760" y="5018040"/>
            <a:chExt cx="5181840" cy="13780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2093760" y="5018040"/>
              <a:ext cx="5181840" cy="13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3"/>
            <a:stretch/>
          </p:blipFill>
          <p:spPr>
            <a:xfrm>
              <a:off x="2238480" y="5651640"/>
              <a:ext cx="3076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3660840" y="5651640"/>
              <a:ext cx="307656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A48A-BE59-419C-AAFD-D1E94F9A44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00" y="7617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o expand the format string of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to several lines (typically for purposes of readability) use a backslash (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following 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written over three lin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This printf uses three lines, but the \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 will appear \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one line ");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but the output will appear on one line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96800" y="2495520"/>
            <a:ext cx="8059680" cy="1306440"/>
          </a:xfrm>
          <a:prstGeom prst="rect">
            <a:avLst/>
          </a:prstGeom>
          <a:noFill/>
          <a:ln w="1584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BB71-2B18-4EF7-B275-217B9E9188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ype casting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127080" y="761760"/>
            <a:ext cx="9366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 allows the programmer to convert (temporary) the type of an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xpression to another type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is kind of conversion is known as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ype casting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ast expressions have the following form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) expression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specifies the type to which the expression should be converted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after the following declaration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b = 2.34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ast expression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 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converts the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nd mak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equ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fter being used in the cast expression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will be treated again as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236680" y="2819520"/>
            <a:ext cx="4233960" cy="49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961F-3339-4F54-A59F-4D2F4F3474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330440" y="785520"/>
            <a:ext cx="457524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 cast expres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converts the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and the result of the division is a decimal number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If we had writte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k = i/j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e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l-GR" sz="18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would have been equ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(i.e., the result of the integer division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20/3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As already noted, the conver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rom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is temporary, s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remains an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for the rest of the program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This is why we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(no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) to display its value in the seco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66640" y="693720"/>
            <a:ext cx="3540240" cy="30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3" name=""/>
          <p:cNvGrpSpPr/>
          <p:nvPr/>
        </p:nvGrpSpPr>
        <p:grpSpPr>
          <a:xfrm>
            <a:off x="128520" y="4145040"/>
            <a:ext cx="5146920" cy="1641240"/>
            <a:chOff x="128520" y="4145040"/>
            <a:chExt cx="5146920" cy="1641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128520" y="4145040"/>
              <a:ext cx="514692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66760" y="4906800"/>
              <a:ext cx="307656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1714680" y="4933800"/>
              <a:ext cx="3076560" cy="2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D508-C5F4-4B1C-92A1-47AE676099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 keyword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400" spc="-1" strike="noStrike">
              <a:solidFill>
                <a:srgbClr val="0000ff"/>
              </a:solidFill>
              <a:latin typeface="Lucida Consol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280" y="1224000"/>
            <a:ext cx="83502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2645-8A15-4F88-B30B-9A4CF99F94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Use descriptive names for variables, since it’s much easier to read a program when the names of the variables indicate their intended use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if you plan to use a variable to hold the sum of some even numbers, name that variable something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_even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rather than an arbitrary name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l-GR" sz="2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When necessary, don’t be afraid to use long names to describe the role of a variable and if a variable name is several words long, separate each word with the underscore charac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) for readability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you might call a variable that holds the number of books in a calcul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_number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(instead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ksnumber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, or something less readable)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By convention (this is not a requirement) C programmers use lower-case letters when naming variables and upper-case letters when defining macros and constant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5918-348D-4B85-9FC5-ABC053F73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claring Variabl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Variables must be declared before being used in a program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Declare a variable as follows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data_typ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name_of_variable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_of_variabl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is the variable name, while the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ata_type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should be one of the C supported data types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, the </a:t>
            </a:r>
            <a:r>
              <a:rPr b="1" lang="en-US" sz="19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keyword is used to declare integer variables, and the </a:t>
            </a:r>
            <a:r>
              <a:rPr b="1" lang="en-US" sz="19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 keyword is used to declare floating point variables, i.e. variables that can store values with a fractional part 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019240" y="2171880"/>
            <a:ext cx="525780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D421-EED0-4EE4-BA0A-1E963269B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 Data Type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60640" y="739800"/>
          <a:ext cx="689436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739800"/>
                    <a:ext cx="68943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79A7-4DDD-4CF5-90D0-A4DA36CD1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s and Remarks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799920"/>
            <a:ext cx="8458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;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818181"/>
                </a:solidFill>
                <a:latin typeface="Courier New"/>
              </a:rPr>
              <a:t>/* Declare an integer variable with name a. */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;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818181"/>
                </a:solidFill>
                <a:latin typeface="Courier New"/>
              </a:rPr>
              <a:t>/* Declare a float variable with name b. */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Variables of the same type can be declared in the same line, separated with a comma 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(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) 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So, instead of declaring the variables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,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and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n three different lines</a:t>
            </a: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: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you can declare them in a single line, as</a:t>
            </a:r>
            <a:r>
              <a:rPr b="1" lang="el-GR" sz="1500" spc="-1" strike="noStrike">
                <a:solidFill>
                  <a:srgbClr val="40458c"/>
                </a:solidFill>
                <a:latin typeface="Comic Sans MS"/>
              </a:rPr>
              <a:t>:</a:t>
            </a:r>
            <a:r>
              <a:rPr b="1" lang="el-GR" sz="17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1700" spc="-1" strike="noStrike">
              <a:solidFill>
                <a:srgbClr val="40458c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1400" spc="-1" strike="noStrike">
                <a:solidFill>
                  <a:srgbClr val="000000"/>
                </a:solidFill>
                <a:latin typeface="Courier New"/>
              </a:rPr>
              <a:t> a, b, c;</a:t>
            </a:r>
            <a:endParaRPr b="1" lang="en-US" sz="1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The memory space that a data type requires may vary from one system to another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For example,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type may reserve 2 bytes in one system and 4 bytes in another</a:t>
            </a: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To determine the number of bytes a data type uses on a particular system,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sizeof</a:t>
            </a:r>
            <a:r>
              <a:rPr b="1" lang="en-US" sz="1500" spc="-1" strike="noStrike">
                <a:solidFill>
                  <a:srgbClr val="40458c"/>
                </a:solidFill>
                <a:latin typeface="Comic Sans MS"/>
              </a:rPr>
              <a:t> operator (discussed in Chapter 4)</a:t>
            </a: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f the precision of your data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Comic Sans MS"/>
              </a:rPr>
              <a:t>is not critical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type, becaus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usually reserves fewer bytes than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, and calculations with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numbers tend to be executed faster than with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numbers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If the precision </a:t>
            </a:r>
            <a:r>
              <a:rPr b="1" lang="en-US" sz="1600" spc="-1" strike="noStrike" u="sng">
                <a:solidFill>
                  <a:srgbClr val="40458c"/>
                </a:solidFill>
                <a:uFillTx/>
                <a:latin typeface="Comic Sans MS"/>
              </a:rPr>
              <a:t>is critical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, use the </a:t>
            </a:r>
            <a:r>
              <a:rPr b="1" lang="el-GR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40458c"/>
                </a:solidFill>
                <a:latin typeface="Comic Sans MS"/>
              </a:rPr>
              <a:t> type</a:t>
            </a:r>
            <a:endParaRPr b="1" lang="en-US" sz="16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B56A-3CEC-4D33-8AF9-9E00011179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signing Values to Variables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2</a:t>
            </a:r>
            <a:r>
              <a:rPr b="1" lang="el-GR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1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 variable can be given a value by using the assignment operator (</a:t>
            </a:r>
            <a:r>
              <a:rPr b="1" lang="el-G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E.g. the following statement assigns the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to the 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40458c"/>
                </a:solidFill>
                <a:latin typeface="Comic Sans MS"/>
              </a:rPr>
              <a:t> variable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;</a:t>
            </a:r>
            <a:endParaRPr b="1" lang="en-US" sz="18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Courier New"/>
              </a:rPr>
              <a:t>a = 100;</a:t>
            </a:r>
            <a:r>
              <a:rPr b="1" lang="el-GR" sz="22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1" lang="en-US" sz="22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Alternatively, a variable can be initialized together with its declaration. </a:t>
            </a: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mic Sans MS"/>
              </a:rPr>
              <a:t>E.g. the above statements could be replaced in one line, as:</a:t>
            </a:r>
            <a:endParaRPr b="1" lang="en-US" sz="2000" spc="-1" strike="noStrike">
              <a:solidFill>
                <a:srgbClr val="40458c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1" lang="el-GR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 a = 100;</a:t>
            </a:r>
            <a:r>
              <a:rPr b="1" lang="el-GR" sz="31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1" lang="en-US" sz="3100" spc="-1" strike="noStrike">
              <a:solidFill>
                <a:srgbClr val="40458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5248-0A3F-4D02-A9BA-07FF47F3D4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6:32:39Z</dcterms:created>
  <dc:creator>Nikos Tselikas</dc:creator>
  <dc:description/>
  <dc:language>en-US</dc:language>
  <cp:lastModifiedBy>NiTse</cp:lastModifiedBy>
  <dcterms:modified xsi:type="dcterms:W3CDTF">2013-09-18T15:32:55Z</dcterms:modified>
  <cp:revision>247</cp:revision>
  <dc:subject>C: From Theory to Practice (G. S. Tselikis and N. D. Tselikas)</dc:subject>
  <dc:title>Chapter 2</dc:title>
</cp:coreProperties>
</file>