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7F0-A527-4647-900A-6E2F47A9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623-166A-4321-8B12-CD9FBFCB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766E98-819F-415C-B62E-11B4CE2E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43543B-32F3-4CFD-A863-F5B3CF73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E15930-55FA-46F1-8A47-A2FE0DC5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631B9F-F319-402D-A5C2-85C8869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1F1072-90A7-4E10-80A8-9325CE3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6DA2D4-8ECE-481A-9F71-F939CEDF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0ED1E-B07D-498F-A49D-CF9B60B6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C0CD92-1E6B-4667-9678-21C63B4F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8B1B5F-C879-416C-8983-0C780DD4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75B-A9F8-45AA-9135-DEE6580E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025-8284-4DE3-B342-A5214897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B72DD-5996-468C-B37B-D95E48E8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03CFF-11C8-47B9-9E5A-32FE9EBA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A5C5C-6619-4F8E-BB4E-23EE9BFB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1856A-9106-474C-8778-A9CF7DC2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B4CF4-575E-4A2C-86CD-FFAC626F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3921B-2E18-4B94-97E5-F4D36D35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8C432-ECC7-4ECD-9592-60E9AC4D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1A7-C778-4E38-83D6-2293C963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B4875-8C5F-4D81-986C-FCA923B5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3BC0A-FCC9-4F81-B1F8-1451B719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5740E-8044-4AEE-A386-D5FBFF3E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53A3F-EFE5-46B4-BE09-0CBA3417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92FDD-C184-44B3-AA72-732D4E6D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3BE4D-DECE-40A9-B014-5FE524D9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5710-EDCC-4E9B-ABEE-CA0731DC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E6EF-FED2-4BA9-B9E3-860D0074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A696-77DD-48F1-BD62-5D6774B0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1EB0-7203-481A-B1B4-6862AAFC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465-C291-4C44-8293-7ED7DC60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66F7B-BBBC-47F4-AF17-E6D64EF7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898A-441D-4F81-BFA7-FE94468E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8A6C-7851-4967-BF62-647FB411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D5C3-2445-4FEC-BE1E-81AFB93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BB2FB-3922-42A4-BC6A-F691F1A0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3480-ADF3-4AFC-B7F3-56B63F98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CE1A-AF6D-40E4-A28A-903ACA70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1503D-5B65-415D-A2F4-1DC60881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5A738-9665-4B5A-8117-2F06861C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79C49-FFB1-4E41-A685-E39ABF8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13F-01DB-4272-89D2-848480E1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3A2D9-9C0F-4BA7-A54B-3D45D02D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E1844-A348-4511-ADD0-D952C585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4E811-C20F-4039-8620-1BEF8ADE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58F19-5396-45C4-AE6A-6D399D2A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E551E-6B78-4F74-BE5C-CA9EF55B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6C6AB-0AA3-4C79-A2FA-E16EC5F2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4DC78-CF7D-4CE2-B722-AC016714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21F43-A3C6-49E6-AAED-D0969D49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66917-8144-4E69-8B8B-F542F15F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449F5-7C1F-4FA5-9A24-9CD6F435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9D8-DF13-4F32-AA79-30F6D20A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5222D-EFAF-4D99-9A91-15334852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DB36-B6CC-4B01-BBD6-54B6FAB6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BBA32-2668-4EEF-B8A4-FA290EDA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8000B-8516-4479-BDDD-608603A9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CFE92-C8D2-4927-9759-F81A6DAA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BCE3-6D16-4455-8D34-F3333B7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7444-88B0-435C-8092-202025B3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4D43-46A6-4374-AA72-6BA3BB03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F02A3-B9AF-4263-A7B2-EC14CDEC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56A72-A728-4EC7-BEF3-DCFD236A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3DC-527B-440E-BB4C-9F75DBBC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19A65-75DC-49D9-852E-83C6281F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F2FF3-EA7A-4523-847B-162A212A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C25AB-77A8-41B6-829D-51E2709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102A-E54F-4C8D-B6FA-9A42A97E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630E-2473-4F4B-A0EA-B12F3FD1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6D5CD-0617-47F1-AFC2-8205E4E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CBAE7-D21F-4E46-B3AC-D3FD0970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D0F84-F6C6-476D-86DE-6F64C260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91B87-48F0-40A6-83F6-B1012F2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E16B7-4250-4590-8C53-66693D1C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25C-0FE5-47A3-8C23-0A0CA84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A070-BB7F-466F-ACB5-FAF30AB5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EB50-15B1-4F71-AE03-64572969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A504E-9050-4EDA-A028-9FC62C89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3C261-636B-41FF-98BF-E3CCB1C9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CA95C-CA26-4F96-85CC-CA05836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CA01-739F-4BF6-9165-A05E8A9B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6193-5BAB-4F25-B62A-BB2FB40A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1D3A-9E78-40CE-9728-5AD91FE0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065F4-978B-4A26-AE74-7A6F77BE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EA42E-8BED-4B30-AD32-619699AA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90B-5CAD-4E78-A3DD-05D0877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AB63-2130-4D35-9BF4-0361C53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EA624-AB50-46F3-A9AD-96A3269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CA98C-1880-4BDB-82BD-710DC3A7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F6017-5538-4A0D-B24E-27C17B45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6C832-E1A9-419F-A619-C2EC1FC0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53C745-DCE2-43E7-BA61-BC7BAABC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B8AFB1-F68C-47BE-ADE9-55A62A3E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FFDA8-512F-42DF-B0A7-CC851932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1DB45-7AB6-4210-A4C9-3CE511DE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A1070-C5D5-49AB-9A5A-F4EAE70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50B-CFA0-45CC-9948-4B637B5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2921EE-B1E5-409B-A101-78659D6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59F887-330B-4374-B1CE-2C08D388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EC7DB9-6266-40F5-BA56-70582A67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48E498-D79D-47D6-A002-4A5CFA04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773C6-A185-443D-A0EB-446D8A04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1134C-E240-4690-9CB9-F0677ABE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8796FF-8F6F-46BB-86CF-B6218B49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20942-24DD-4F17-A1BE-27726DC1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E59655-9386-48BC-819F-4D6ADE50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447F50-6AB6-416E-9AAE-BCB6D299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2263-9D39-40FA-9230-F04C8747BBF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6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42CD-0F8E-424C-BDBE-9CD6407CD2F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4065-31B1-4D57-B809-BD51F300043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1787-83B2-4ADE-8C2B-48A41644234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0D3-123F-48DD-8B05-AA7FC29ACC5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A7C1-47C3-4845-8556-A7A398F38BA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710C-9793-4635-BD24-C7FDE37506E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1178-4D4C-49CF-8F1D-F0B4DEE63D7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33C6-9F68-46C4-BEEE-2D3E8B60A7E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229600" cy="2212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on Law Model: The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udge- primary duty is to preside over the court in a fair and impartial manner and instruct the jury on the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secutor- primary duty is to promote justice, secondary duty is to prosecut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fense Counsel- spokesperson for defendant- assures defendant receives his or her righ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ury-finder of fac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itary judicial syst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rt of Queen’s or King’s Bench-appeals from inferior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reme Court of Judicature-comprehensive body, below House of Lor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gistrates’ Court-inferior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own Court-intermediary cour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oyal Courts of Justice-Law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UNITED STATE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UNITED KINGDOM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Constitution- law of the land</a:t>
            </a: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Judicial review of legislation</a:t>
            </a: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Generally stresses due process model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Defendants rights based generally on constitutional right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Exclusionary rul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44720" y="236196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No written constitu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No right to judicial review of legisl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Generally stresses crime control model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Defendants rights based generally on case law and statute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No exclusionary rul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sed in United States and United Kingdo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ecedent as a basis for judgm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uilt on a case to case approa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versarial syst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veloped from the feudal land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glish settlers brought common law to the colon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fter Norman Conquest in 1066-England was two nations within on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13800" indent="-2192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ranci-French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13800" indent="-2192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glici-native English pers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13800" indent="-2192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wo nations were separated by a wide gulf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centuries the common law of England consisted of a system of remedi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Century, selected decisions were published in Year Book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uke of Normandy and later K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panded the Anglo-French domains and strengthened the royal administr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veloped new judicial forms and solidified common law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ing John was forced to sign in 121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came a permanent part of the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vides guarantees against the arbitrary disregard of feudal righ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vided protection for all freem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ause 39 required judgment by pee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rst solicitor general  and later chief justi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pert on Year Book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blished a 11 volume work on common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rafted Petition of Rig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 imprisonment without caus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 quartering soldie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 martial law in peace tim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 taxes without consent of Parlia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176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blished Commentaries on the Laws of Englan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ill cited today in judicial decis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st influential jurist in the history of common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fter revolution, enacted statutory law was what was formerly English common law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ual federa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jority criminal cases tried in state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on law crimes have been codified by penal co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reme Cour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welve U.S. Courts of Appe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.S. District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t least one in each stat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General trial court for federal cas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Judges appointed by president and confirmed by senat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fe time appoint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ederal Magistrat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4:28:44Z</dcterms:created>
  <dc:creator>cliff</dc:creator>
  <dc:description/>
  <dc:language>en-US</dc:language>
  <cp:lastModifiedBy>Cliff Roberson</cp:lastModifiedBy>
  <dcterms:modified xsi:type="dcterms:W3CDTF">2015-06-26T18:49:08Z</dcterms:modified>
  <cp:revision>13</cp:revision>
  <dc:subject/>
  <dc:title>Chapter 2</dc:title>
</cp:coreProperties>
</file>