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6721-C8E9-4C1D-90DE-ED92090B8C1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0AF2-E682-4F12-9D07-357F5582E3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23B4-517C-41BF-89E0-345C39E90E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C726-4069-4FE5-B2EF-B08A53DA464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B6B-93E0-4981-B1E3-81DEEE85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6BE-1C43-46FB-A69B-5E87BE5D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8C6-F294-42E3-8D1B-839EAED1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2EB-3623-4C6C-9357-ECF353FC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32A-60C0-48AC-A370-1DEECCEE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596-A414-4841-B953-70611205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450-2008-44F6-B986-F6DA7498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6D0-2E27-494D-BB61-B0EFD7A4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E99-5B71-42BD-A99C-260E03A4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0FE-6D1A-4774-95E8-2126EFCB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F26-4C8C-48CF-9E3C-75C9378A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1D0-9308-47C5-BCA5-DCDB8B8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D42C-7B97-4502-8F8D-AD2E70C4A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fferential Equations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or Engineers: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Essential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pplement to Class 4 N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f the Resistor is Slightly Nonlinear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1477800" y="2435400"/>
                <a:ext cx="26244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" name="Group 41"/>
          <p:cNvGrpSpPr/>
          <p:nvPr/>
        </p:nvGrpSpPr>
        <p:grpSpPr>
          <a:xfrm>
            <a:off x="4955040" y="990720"/>
            <a:ext cx="4569840" cy="2896920"/>
            <a:chOff x="4955040" y="990720"/>
            <a:chExt cx="4569840" cy="2896920"/>
          </a:xfrm>
        </p:grpSpPr>
        <p:sp>
          <p:nvSpPr>
            <p:cNvPr id="178" name="Straight Connector 47"/>
            <p:cNvSpPr/>
            <p:nvPr/>
          </p:nvSpPr>
          <p:spPr>
            <a:xfrm>
              <a:off x="5464800" y="3885480"/>
              <a:ext cx="2764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96"/>
            <p:cNvGrpSpPr/>
            <p:nvPr/>
          </p:nvGrpSpPr>
          <p:grpSpPr>
            <a:xfrm>
              <a:off x="4955040" y="990720"/>
              <a:ext cx="4569840" cy="2896920"/>
              <a:chOff x="4955040" y="990720"/>
              <a:chExt cx="4569840" cy="2896920"/>
            </a:xfrm>
          </p:grpSpPr>
          <p:grpSp>
            <p:nvGrpSpPr>
              <p:cNvPr id="180" name="Group 95"/>
              <p:cNvGrpSpPr/>
              <p:nvPr/>
            </p:nvGrpSpPr>
            <p:grpSpPr>
              <a:xfrm>
                <a:off x="5417280" y="1634400"/>
                <a:ext cx="2970000" cy="2253240"/>
                <a:chOff x="5417280" y="1634400"/>
                <a:chExt cx="2970000" cy="2253240"/>
              </a:xfrm>
            </p:grpSpPr>
            <p:grpSp>
              <p:nvGrpSpPr>
                <p:cNvPr id="181" name="Group 77"/>
                <p:cNvGrpSpPr/>
                <p:nvPr/>
              </p:nvGrpSpPr>
              <p:grpSpPr>
                <a:xfrm>
                  <a:off x="5417280" y="1634400"/>
                  <a:ext cx="2970000" cy="2253240"/>
                  <a:chOff x="5417280" y="1634400"/>
                  <a:chExt cx="2970000" cy="2253240"/>
                </a:xfrm>
              </p:grpSpPr>
              <p:sp>
                <p:nvSpPr>
                  <p:cNvPr id="182" name="Straight Connector 55"/>
                  <p:cNvSpPr/>
                  <p:nvPr/>
                </p:nvSpPr>
                <p:spPr>
                  <a:xfrm>
                    <a:off x="5480280" y="1891800"/>
                    <a:ext cx="101088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Straight Connector 14"/>
                  <p:cNvSpPr/>
                  <p:nvPr/>
                </p:nvSpPr>
                <p:spPr>
                  <a:xfrm>
                    <a:off x="8229600" y="2418840"/>
                    <a:ext cx="1576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Straight Connector 16"/>
                  <p:cNvSpPr/>
                  <p:nvPr/>
                </p:nvSpPr>
                <p:spPr>
                  <a:xfrm flipH="1">
                    <a:off x="8150400" y="249624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Straight Connector 18"/>
                  <p:cNvSpPr/>
                  <p:nvPr/>
                </p:nvSpPr>
                <p:spPr>
                  <a:xfrm>
                    <a:off x="8150400" y="257328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Straight Connector 22"/>
                  <p:cNvSpPr/>
                  <p:nvPr/>
                </p:nvSpPr>
                <p:spPr>
                  <a:xfrm flipH="1">
                    <a:off x="8150400" y="265068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Straight Connector 24"/>
                  <p:cNvSpPr/>
                  <p:nvPr/>
                </p:nvSpPr>
                <p:spPr>
                  <a:xfrm>
                    <a:off x="8150400" y="272772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Straight Connector 26"/>
                  <p:cNvSpPr/>
                  <p:nvPr/>
                </p:nvSpPr>
                <p:spPr>
                  <a:xfrm flipH="1">
                    <a:off x="8150400" y="280476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Straight Connector 28"/>
                  <p:cNvSpPr/>
                  <p:nvPr/>
                </p:nvSpPr>
                <p:spPr>
                  <a:xfrm>
                    <a:off x="8150400" y="288216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Straight Connector 30"/>
                  <p:cNvSpPr/>
                  <p:nvPr/>
                </p:nvSpPr>
                <p:spPr>
                  <a:xfrm flipH="1">
                    <a:off x="8150400" y="295920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Straight Connector 32"/>
                  <p:cNvSpPr/>
                  <p:nvPr/>
                </p:nvSpPr>
                <p:spPr>
                  <a:xfrm>
                    <a:off x="8150400" y="303660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Straight Connector 34"/>
                  <p:cNvSpPr/>
                  <p:nvPr/>
                </p:nvSpPr>
                <p:spPr>
                  <a:xfrm flipH="1">
                    <a:off x="8229600" y="3113640"/>
                    <a:ext cx="1576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Straight Connector 38"/>
                  <p:cNvSpPr/>
                  <p:nvPr/>
                </p:nvSpPr>
                <p:spPr>
                  <a:xfrm flipH="1">
                    <a:off x="8228520" y="3191760"/>
                    <a:ext cx="1440" cy="694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Straight Connector 10"/>
                  <p:cNvSpPr/>
                  <p:nvPr/>
                </p:nvSpPr>
                <p:spPr>
                  <a:xfrm flipH="1">
                    <a:off x="8228520" y="1879560"/>
                    <a:ext cx="1440" cy="540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Oval 68"/>
                  <p:cNvSpPr/>
                  <p:nvPr/>
                </p:nvSpPr>
                <p:spPr>
                  <a:xfrm>
                    <a:off x="6491520" y="1634400"/>
                    <a:ext cx="442080" cy="4503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Straight Connector 69"/>
                  <p:cNvSpPr/>
                  <p:nvPr/>
                </p:nvSpPr>
                <p:spPr>
                  <a:xfrm flipH="1" flipV="1">
                    <a:off x="6933960" y="1891440"/>
                    <a:ext cx="132696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7" name="Group 63"/>
                  <p:cNvGrpSpPr/>
                  <p:nvPr/>
                </p:nvGrpSpPr>
                <p:grpSpPr>
                  <a:xfrm>
                    <a:off x="5417280" y="2535480"/>
                    <a:ext cx="252720" cy="707760"/>
                    <a:chOff x="5417280" y="2535480"/>
                    <a:chExt cx="252720" cy="707760"/>
                  </a:xfrm>
                </p:grpSpPr>
                <p:sp>
                  <p:nvSpPr>
                    <p:cNvPr id="198" name="Oval 73"/>
                    <p:cNvSpPr/>
                    <p:nvPr/>
                  </p:nvSpPr>
                  <p:spPr>
                    <a:xfrm>
                      <a:off x="5417280" y="282096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Oval 74"/>
                    <p:cNvSpPr/>
                    <p:nvPr/>
                  </p:nvSpPr>
                  <p:spPr>
                    <a:xfrm>
                      <a:off x="5417280" y="295776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Oval 75"/>
                    <p:cNvSpPr/>
                    <p:nvPr/>
                  </p:nvSpPr>
                  <p:spPr>
                    <a:xfrm>
                      <a:off x="5417280" y="268380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Oval 76"/>
                    <p:cNvSpPr/>
                    <p:nvPr/>
                  </p:nvSpPr>
                  <p:spPr>
                    <a:xfrm>
                      <a:off x="5417280" y="309492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Oval 77"/>
                    <p:cNvSpPr/>
                    <p:nvPr/>
                  </p:nvSpPr>
                  <p:spPr>
                    <a:xfrm>
                      <a:off x="5417280" y="254664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Rectangle 78"/>
                    <p:cNvSpPr/>
                    <p:nvPr/>
                  </p:nvSpPr>
                  <p:spPr>
                    <a:xfrm>
                      <a:off x="5543640" y="2535480"/>
                      <a:ext cx="126360" cy="707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4" name="Straight Connector 71"/>
                  <p:cNvSpPr/>
                  <p:nvPr/>
                </p:nvSpPr>
                <p:spPr>
                  <a:xfrm flipH="1">
                    <a:off x="5479200" y="1892520"/>
                    <a:ext cx="1080" cy="643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Straight Connector 72"/>
                  <p:cNvSpPr/>
                  <p:nvPr/>
                </p:nvSpPr>
                <p:spPr>
                  <a:xfrm flipV="1">
                    <a:off x="5478840" y="3243960"/>
                    <a:ext cx="1080" cy="643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0"/>
                <p:cNvGrpSpPr/>
                <p:nvPr/>
              </p:nvGrpSpPr>
              <p:grpSpPr>
                <a:xfrm>
                  <a:off x="6617880" y="1762920"/>
                  <a:ext cx="189360" cy="128520"/>
                  <a:chOff x="6617880" y="1762920"/>
                  <a:chExt cx="189360" cy="128520"/>
                </a:xfrm>
              </p:grpSpPr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6617880" y="1773360"/>
                    <a:ext cx="189360" cy="118080"/>
                    <a:chOff x="6617880" y="1773360"/>
                    <a:chExt cx="189360" cy="118080"/>
                  </a:xfrm>
                </p:grpSpPr>
                <p:sp>
                  <p:nvSpPr>
                    <p:cNvPr id="208" name="Oval 53"/>
                    <p:cNvSpPr/>
                    <p:nvPr/>
                  </p:nvSpPr>
                  <p:spPr>
                    <a:xfrm>
                      <a:off x="6617880" y="1782360"/>
                      <a:ext cx="94680" cy="10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54"/>
                    <p:cNvSpPr/>
                    <p:nvPr/>
                  </p:nvSpPr>
                  <p:spPr>
                    <a:xfrm>
                      <a:off x="6712560" y="1773360"/>
                      <a:ext cx="94680" cy="10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Rectangle 51"/>
                  <p:cNvSpPr/>
                  <p:nvPr/>
                </p:nvSpPr>
                <p:spPr>
                  <a:xfrm>
                    <a:off x="6617880" y="1837800"/>
                    <a:ext cx="94680" cy="5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tangle 52"/>
                  <p:cNvSpPr/>
                  <p:nvPr/>
                </p:nvSpPr>
                <p:spPr>
                  <a:xfrm>
                    <a:off x="6712560" y="1762920"/>
                    <a:ext cx="9468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TextBox 45"/>
              <p:cNvSpPr/>
              <p:nvPr/>
            </p:nvSpPr>
            <p:spPr>
              <a:xfrm>
                <a:off x="4955040" y="266760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46"/>
              <p:cNvSpPr/>
              <p:nvPr/>
            </p:nvSpPr>
            <p:spPr>
              <a:xfrm>
                <a:off x="8514000" y="2535480"/>
                <a:ext cx="101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47"/>
              <p:cNvSpPr/>
              <p:nvPr/>
            </p:nvSpPr>
            <p:spPr>
              <a:xfrm>
                <a:off x="5859720" y="990720"/>
                <a:ext cx="184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TextBox 42"/>
          <p:cNvSpPr/>
          <p:nvPr/>
        </p:nvSpPr>
        <p:spPr>
          <a:xfrm>
            <a:off x="772920" y="1752480"/>
            <a:ext cx="207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we h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663560" y="5060880"/>
                <a:ext cx="5891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Box 45"/>
          <p:cNvSpPr/>
          <p:nvPr/>
        </p:nvSpPr>
        <p:spPr>
          <a:xfrm>
            <a:off x="7025760" y="60310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46"/>
              <p:cNvSpPr txBox="1"/>
              <p:nvPr/>
            </p:nvSpPr>
            <p:spPr>
              <a:xfrm>
                <a:off x="1676520" y="4114800"/>
                <a:ext cx="3927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f the Resistor is Slightly Nonlinear? (2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753280" y="572616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linear resistor characteristi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Fig 3.3d.JPG"/>
          <p:cNvPicPr/>
          <p:nvPr/>
        </p:nvPicPr>
        <p:blipFill>
          <a:blip r:embed="rId1"/>
          <a:stretch/>
        </p:blipFill>
        <p:spPr>
          <a:xfrm>
            <a:off x="2743200" y="1676520"/>
            <a:ext cx="36576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roach to Solution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Slightly Nonlinear O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839880" y="1828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068480" y="4876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1029600" y="168768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        is small, consider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ive approxim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1758960" y="1752480"/>
                <a:ext cx="22212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171880" y="5300640"/>
                <a:ext cx="3430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λ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2235240" y="2324160"/>
                <a:ext cx="24321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6"/>
              <p:cNvSpPr txBox="1"/>
              <p:nvPr/>
            </p:nvSpPr>
            <p:spPr>
              <a:xfrm>
                <a:off x="2249640" y="3770280"/>
                <a:ext cx="34588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λ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Box 14"/>
          <p:cNvSpPr/>
          <p:nvPr/>
        </p:nvSpPr>
        <p:spPr>
          <a:xfrm>
            <a:off x="6941160" y="24382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ation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6941160" y="39736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ation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6941160" y="54864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ation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roach to Solution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Slightly Nonlinear ODE (2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solving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nlin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quation 1 approximately by the sequential solution of a series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n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quations 2, 3 and 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ral solution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                                                        Equation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Equation 5, we have already found that the solution to Equation (2)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what follows we will ignore the transient.  We are examining the steady state frequency response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1295280" y="3124080"/>
                <a:ext cx="15480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λI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4419720" y="3200400"/>
                <a:ext cx="2357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8"/>
              <p:cNvSpPr txBox="1"/>
              <p:nvPr/>
            </p:nvSpPr>
            <p:spPr>
              <a:xfrm>
                <a:off x="1535040" y="4734000"/>
                <a:ext cx="485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λω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roach to Solution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Slightly Nonlinear ODE (3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438280" y="2057400"/>
                <a:ext cx="35053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λ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ε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2468520" y="3429000"/>
                <a:ext cx="4541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λε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d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2435400" y="4419720"/>
                <a:ext cx="36716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λ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d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"/>
              <p:cNvSpPr txBox="1"/>
              <p:nvPr/>
            </p:nvSpPr>
            <p:spPr>
              <a:xfrm>
                <a:off x="2438280" y="5486400"/>
                <a:ext cx="41148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ε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960" y="1087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36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7200" y="141444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36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7560" y="164988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36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36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"/>
          <p:cNvSpPr/>
          <p:nvPr/>
        </p:nvSpPr>
        <p:spPr>
          <a:xfrm>
            <a:off x="1277640" y="167652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ing Equation 3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1228320" y="298296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has solu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1222920" y="39625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"/>
          <p:cNvSpPr/>
          <p:nvPr/>
        </p:nvSpPr>
        <p:spPr>
          <a:xfrm>
            <a:off x="129816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roach to Solution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Slightly Nonlinear ODE (4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2397240" y="2044800"/>
                <a:ext cx="476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ε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TextBox 3"/>
          <p:cNvSpPr/>
          <p:nvPr/>
        </p:nvSpPr>
        <p:spPr>
          <a:xfrm>
            <a:off x="1370880" y="167652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ng in this way, we fi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2276640" y="3316320"/>
                <a:ext cx="3030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2341440" y="4916520"/>
                <a:ext cx="3449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mω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TextBox 4"/>
          <p:cNvSpPr/>
          <p:nvPr/>
        </p:nvSpPr>
        <p:spPr>
          <a:xfrm>
            <a:off x="1391040" y="274320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one can show can be written a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377000" y="38098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6"/>
          <p:cNvCxnSpPr/>
          <p:nvPr/>
        </p:nvCxnSpPr>
        <p:spPr>
          <a:xfrm flipH="1" flipV="1">
            <a:off x="4647600" y="5449320"/>
            <a:ext cx="153000" cy="417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0" name="TextBox 7"/>
          <p:cNvSpPr/>
          <p:nvPr/>
        </p:nvSpPr>
        <p:spPr>
          <a:xfrm>
            <a:off x="304812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e higher frequencies – the harmonic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3"/>
              <p:cNvSpPr txBox="1"/>
              <p:nvPr/>
            </p:nvSpPr>
            <p:spPr>
              <a:xfrm>
                <a:off x="2324160" y="4038480"/>
                <a:ext cx="18748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4"/>
              <p:cNvSpPr txBox="1"/>
              <p:nvPr/>
            </p:nvSpPr>
            <p:spPr>
              <a:xfrm>
                <a:off x="5108400" y="4191120"/>
                <a:ext cx="1609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roach to Solution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 Slightly Nonlinear ODE (4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"/>
          <p:cNvSpPr/>
          <p:nvPr/>
        </p:nvSpPr>
        <p:spPr>
          <a:xfrm>
            <a:off x="1827720" y="2209680"/>
            <a:ext cx="24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2300760" y="2754360"/>
            <a:ext cx="36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n the steady state solu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2654280" y="3306600"/>
                <a:ext cx="30574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Box 8"/>
          <p:cNvSpPr/>
          <p:nvPr/>
        </p:nvSpPr>
        <p:spPr>
          <a:xfrm>
            <a:off x="2269080" y="38973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steady state component of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6159600" y="3886200"/>
                <a:ext cx="6984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ents of Supplement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ces Between Linear and Nonlinear ODEs in Their Input / Output Respon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Nonlinear Circui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fferences Between Linear and Nonlinear  ODEs in Their Input / Output Response  </a:t>
            </a:r>
            <a:br>
              <a:rPr sz="2800"/>
            </a:b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put / Output Characteristics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r a Linear Syste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linear system of any order (time-varying or time-invariant)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output is              when the input is              and the output is                  when the input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the output is                                  when the input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ny constants       and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2362320" y="2286000"/>
                <a:ext cx="685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5105520" y="2286000"/>
                <a:ext cx="685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7848720" y="2286000"/>
                <a:ext cx="715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3040200" y="2590920"/>
                <a:ext cx="6937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666880" y="2895480"/>
                <a:ext cx="19814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6705720" y="2895480"/>
                <a:ext cx="2046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Box 14"/>
          <p:cNvSpPr/>
          <p:nvPr/>
        </p:nvSpPr>
        <p:spPr>
          <a:xfrm>
            <a:off x="609480" y="3809880"/>
            <a:ext cx="779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linea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-invari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stem of any order, after transients have died away, when the input is a sine-wave of a given frequency          the output is a steady-state oscillation of only that frequenc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haracteristics a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ly true of nonlinear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3048120" y="335268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3849840" y="3276720"/>
                <a:ext cx="2649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istence and Uniqueness of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lutions to Linear ODEs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or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Given a linear nth order O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initial condi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coefficients           and the input           are continuous for all    then there exists a unique solution to the ODE satisfying the initial conditions for all    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tated without proof.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ly true of nonlinear ODEs.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1447920" y="2057400"/>
                <a:ext cx="504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590400" y="3429000"/>
                <a:ext cx="1771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666880" y="3429000"/>
                <a:ext cx="1791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4629240" y="3776760"/>
                <a:ext cx="32364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5200560" y="3448080"/>
                <a:ext cx="1200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6896160" y="3600360"/>
                <a:ext cx="10285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2421000" y="4267080"/>
                <a:ext cx="550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9"/>
              <p:cNvSpPr txBox="1"/>
              <p:nvPr/>
            </p:nvSpPr>
            <p:spPr>
              <a:xfrm>
                <a:off x="4591080" y="4259160"/>
                <a:ext cx="5144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2"/>
              <p:cNvSpPr txBox="1"/>
              <p:nvPr/>
            </p:nvSpPr>
            <p:spPr>
              <a:xfrm>
                <a:off x="7543800" y="4267080"/>
                <a:ext cx="195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2700360" y="4800600"/>
                <a:ext cx="195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ey Points from the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llowing Nonlinear Exampl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ethod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ive approxim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olving a sequence of linear equations to approximate the solution of a nonlinear equation) is a powerful to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linearities in systems designed to be linear cause distortions in the frequency response, introducing “harmonics” (oscillations that are multiples of the input frequency).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linear Example: LR Circui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1"/>
          <p:cNvGrpSpPr/>
          <p:nvPr/>
        </p:nvGrpSpPr>
        <p:grpSpPr>
          <a:xfrm>
            <a:off x="5078160" y="1295280"/>
            <a:ext cx="3760920" cy="2210040"/>
            <a:chOff x="5078160" y="1295280"/>
            <a:chExt cx="3760920" cy="2210040"/>
          </a:xfrm>
        </p:grpSpPr>
        <p:sp>
          <p:nvSpPr>
            <p:cNvPr id="81" name="Straight Connector 47"/>
            <p:cNvSpPr/>
            <p:nvPr/>
          </p:nvSpPr>
          <p:spPr>
            <a:xfrm>
              <a:off x="5523480" y="3503880"/>
              <a:ext cx="225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96"/>
            <p:cNvGrpSpPr/>
            <p:nvPr/>
          </p:nvGrpSpPr>
          <p:grpSpPr>
            <a:xfrm>
              <a:off x="5078160" y="1295280"/>
              <a:ext cx="3760920" cy="2210040"/>
              <a:chOff x="5078160" y="1295280"/>
              <a:chExt cx="3760920" cy="2210040"/>
            </a:xfrm>
          </p:grpSpPr>
          <p:grpSp>
            <p:nvGrpSpPr>
              <p:cNvPr id="83" name="Group 95"/>
              <p:cNvGrpSpPr/>
              <p:nvPr/>
            </p:nvGrpSpPr>
            <p:grpSpPr>
              <a:xfrm>
                <a:off x="5484960" y="1786320"/>
                <a:ext cx="2425320" cy="1719000"/>
                <a:chOff x="5484960" y="1786320"/>
                <a:chExt cx="2425320" cy="1719000"/>
              </a:xfrm>
            </p:grpSpPr>
            <p:grpSp>
              <p:nvGrpSpPr>
                <p:cNvPr id="84" name="Group 77"/>
                <p:cNvGrpSpPr/>
                <p:nvPr/>
              </p:nvGrpSpPr>
              <p:grpSpPr>
                <a:xfrm>
                  <a:off x="5484960" y="1786320"/>
                  <a:ext cx="2425320" cy="1719000"/>
                  <a:chOff x="5484960" y="1786320"/>
                  <a:chExt cx="2425320" cy="1719000"/>
                </a:xfrm>
              </p:grpSpPr>
              <p:sp>
                <p:nvSpPr>
                  <p:cNvPr id="85" name="Straight Connector 55"/>
                  <p:cNvSpPr/>
                  <p:nvPr/>
                </p:nvSpPr>
                <p:spPr>
                  <a:xfrm>
                    <a:off x="5536440" y="1982520"/>
                    <a:ext cx="825480" cy="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Straight Connector 14"/>
                  <p:cNvSpPr/>
                  <p:nvPr/>
                </p:nvSpPr>
                <p:spPr>
                  <a:xfrm>
                    <a:off x="7781400" y="2385000"/>
                    <a:ext cx="12888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Straight Connector 16"/>
                  <p:cNvSpPr/>
                  <p:nvPr/>
                </p:nvSpPr>
                <p:spPr>
                  <a:xfrm flipH="1">
                    <a:off x="7716600" y="244296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Straight Connector 18"/>
                  <p:cNvSpPr/>
                  <p:nvPr/>
                </p:nvSpPr>
                <p:spPr>
                  <a:xfrm>
                    <a:off x="7716960" y="250272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Straight Connector 22"/>
                  <p:cNvSpPr/>
                  <p:nvPr/>
                </p:nvSpPr>
                <p:spPr>
                  <a:xfrm flipH="1">
                    <a:off x="7716600" y="256068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Straight Connector 24"/>
                  <p:cNvSpPr/>
                  <p:nvPr/>
                </p:nvSpPr>
                <p:spPr>
                  <a:xfrm>
                    <a:off x="7716960" y="262044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Straight Connector 26"/>
                  <p:cNvSpPr/>
                  <p:nvPr/>
                </p:nvSpPr>
                <p:spPr>
                  <a:xfrm flipH="1">
                    <a:off x="7716600" y="267840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Straight Connector 28"/>
                  <p:cNvSpPr/>
                  <p:nvPr/>
                </p:nvSpPr>
                <p:spPr>
                  <a:xfrm>
                    <a:off x="7716960" y="273816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Straight Connector 30"/>
                  <p:cNvSpPr/>
                  <p:nvPr/>
                </p:nvSpPr>
                <p:spPr>
                  <a:xfrm flipH="1">
                    <a:off x="7716600" y="279648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Straight Connector 32"/>
                  <p:cNvSpPr/>
                  <p:nvPr/>
                </p:nvSpPr>
                <p:spPr>
                  <a:xfrm>
                    <a:off x="7716960" y="2855880"/>
                    <a:ext cx="19332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Straight Connector 34"/>
                  <p:cNvSpPr/>
                  <p:nvPr/>
                </p:nvSpPr>
                <p:spPr>
                  <a:xfrm flipH="1">
                    <a:off x="7781400" y="2914200"/>
                    <a:ext cx="128880" cy="58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Straight Connector 38"/>
                  <p:cNvSpPr/>
                  <p:nvPr/>
                </p:nvSpPr>
                <p:spPr>
                  <a:xfrm flipH="1">
                    <a:off x="7780320" y="2974320"/>
                    <a:ext cx="1080" cy="529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Straight Connector 10"/>
                  <p:cNvSpPr/>
                  <p:nvPr/>
                </p:nvSpPr>
                <p:spPr>
                  <a:xfrm flipH="1">
                    <a:off x="7780320" y="1973160"/>
                    <a:ext cx="1080" cy="412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Oval 68"/>
                  <p:cNvSpPr/>
                  <p:nvPr/>
                </p:nvSpPr>
                <p:spPr>
                  <a:xfrm>
                    <a:off x="6362280" y="1786320"/>
                    <a:ext cx="361080" cy="3434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Straight Connector 69"/>
                  <p:cNvSpPr/>
                  <p:nvPr/>
                </p:nvSpPr>
                <p:spPr>
                  <a:xfrm flipH="1" flipV="1">
                    <a:off x="6723360" y="1982520"/>
                    <a:ext cx="1083600" cy="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" name="Group 63"/>
                  <p:cNvGrpSpPr/>
                  <p:nvPr/>
                </p:nvGrpSpPr>
                <p:grpSpPr>
                  <a:xfrm>
                    <a:off x="5484960" y="2473560"/>
                    <a:ext cx="206280" cy="540000"/>
                    <a:chOff x="5484960" y="2473560"/>
                    <a:chExt cx="206280" cy="540000"/>
                  </a:xfrm>
                </p:grpSpPr>
                <p:sp>
                  <p:nvSpPr>
                    <p:cNvPr id="101" name="Oval 73"/>
                    <p:cNvSpPr/>
                    <p:nvPr/>
                  </p:nvSpPr>
                  <p:spPr>
                    <a:xfrm>
                      <a:off x="5484960" y="2691360"/>
                      <a:ext cx="206280" cy="1044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Oval 74"/>
                    <p:cNvSpPr/>
                    <p:nvPr/>
                  </p:nvSpPr>
                  <p:spPr>
                    <a:xfrm>
                      <a:off x="5484960" y="2795760"/>
                      <a:ext cx="206280" cy="1044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75"/>
                    <p:cNvSpPr/>
                    <p:nvPr/>
                  </p:nvSpPr>
                  <p:spPr>
                    <a:xfrm>
                      <a:off x="5484960" y="2586600"/>
                      <a:ext cx="206280" cy="1044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Oval 76"/>
                    <p:cNvSpPr/>
                    <p:nvPr/>
                  </p:nvSpPr>
                  <p:spPr>
                    <a:xfrm>
                      <a:off x="5484960" y="2900520"/>
                      <a:ext cx="206280" cy="1044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Oval 77"/>
                    <p:cNvSpPr/>
                    <p:nvPr/>
                  </p:nvSpPr>
                  <p:spPr>
                    <a:xfrm>
                      <a:off x="5484960" y="2482200"/>
                      <a:ext cx="206280" cy="1044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Rectangle 78"/>
                    <p:cNvSpPr/>
                    <p:nvPr/>
                  </p:nvSpPr>
                  <p:spPr>
                    <a:xfrm>
                      <a:off x="5588280" y="2473560"/>
                      <a:ext cx="102960" cy="540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" name="Straight Connector 71"/>
                  <p:cNvSpPr/>
                  <p:nvPr/>
                </p:nvSpPr>
                <p:spPr>
                  <a:xfrm flipH="1">
                    <a:off x="5535720" y="1983240"/>
                    <a:ext cx="720" cy="491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Straight Connector 72"/>
                  <p:cNvSpPr/>
                  <p:nvPr/>
                </p:nvSpPr>
                <p:spPr>
                  <a:xfrm flipV="1">
                    <a:off x="5535720" y="3014280"/>
                    <a:ext cx="720" cy="491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90"/>
                <p:cNvGrpSpPr/>
                <p:nvPr/>
              </p:nvGrpSpPr>
              <p:grpSpPr>
                <a:xfrm>
                  <a:off x="6465240" y="1884240"/>
                  <a:ext cx="154800" cy="97920"/>
                  <a:chOff x="6465240" y="1884240"/>
                  <a:chExt cx="154800" cy="97920"/>
                </a:xfrm>
              </p:grpSpPr>
              <p:grpSp>
                <p:nvGrpSpPr>
                  <p:cNvPr id="110" name="Group 89"/>
                  <p:cNvGrpSpPr/>
                  <p:nvPr/>
                </p:nvGrpSpPr>
                <p:grpSpPr>
                  <a:xfrm>
                    <a:off x="6465240" y="1892160"/>
                    <a:ext cx="154800" cy="90000"/>
                    <a:chOff x="6465240" y="1892160"/>
                    <a:chExt cx="154800" cy="90000"/>
                  </a:xfrm>
                </p:grpSpPr>
                <p:sp>
                  <p:nvSpPr>
                    <p:cNvPr id="111" name="Oval 53"/>
                    <p:cNvSpPr/>
                    <p:nvPr/>
                  </p:nvSpPr>
                  <p:spPr>
                    <a:xfrm>
                      <a:off x="6465240" y="1899000"/>
                      <a:ext cx="77400" cy="83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Oval 54"/>
                    <p:cNvSpPr/>
                    <p:nvPr/>
                  </p:nvSpPr>
                  <p:spPr>
                    <a:xfrm>
                      <a:off x="6542640" y="1892160"/>
                      <a:ext cx="77400" cy="83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" name="Rectangle 51"/>
                  <p:cNvSpPr/>
                  <p:nvPr/>
                </p:nvSpPr>
                <p:spPr>
                  <a:xfrm>
                    <a:off x="6465240" y="1941480"/>
                    <a:ext cx="77400" cy="40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Rectangle 52"/>
                  <p:cNvSpPr/>
                  <p:nvPr/>
                </p:nvSpPr>
                <p:spPr>
                  <a:xfrm>
                    <a:off x="6542640" y="1884240"/>
                    <a:ext cx="77400" cy="4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5" name="TextBox 45"/>
              <p:cNvSpPr/>
              <p:nvPr/>
            </p:nvSpPr>
            <p:spPr>
              <a:xfrm>
                <a:off x="5078160" y="25743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46"/>
              <p:cNvSpPr/>
              <p:nvPr/>
            </p:nvSpPr>
            <p:spPr>
              <a:xfrm>
                <a:off x="8013600" y="2473560"/>
                <a:ext cx="82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Box 47"/>
              <p:cNvSpPr/>
              <p:nvPr/>
            </p:nvSpPr>
            <p:spPr>
              <a:xfrm>
                <a:off x="5846040" y="1295280"/>
                <a:ext cx="150840" cy="28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Rectangle 79"/>
          <p:cNvSpPr/>
          <p:nvPr/>
        </p:nvSpPr>
        <p:spPr>
          <a:xfrm>
            <a:off x="304920" y="17524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rchhoff’s Law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voltage drops aroun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circuit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drop over an inducto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drop over a resist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"/>
              <p:cNvSpPr txBox="1"/>
              <p:nvPr/>
            </p:nvSpPr>
            <p:spPr>
              <a:xfrm>
                <a:off x="1295280" y="3352680"/>
                <a:ext cx="11304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1382760" y="4800600"/>
                <a:ext cx="890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TextBox 82"/>
          <p:cNvSpPr/>
          <p:nvPr/>
        </p:nvSpPr>
        <p:spPr>
          <a:xfrm>
            <a:off x="539640" y="525780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drop over sourc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1371600" y="5751360"/>
                <a:ext cx="18288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Box 84"/>
          <p:cNvSpPr/>
          <p:nvPr/>
        </p:nvSpPr>
        <p:spPr>
          <a:xfrm>
            <a:off x="4582800" y="411480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ing equation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5334120" y="4711680"/>
                <a:ext cx="2550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linear Example: LR Circuit (2)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1"/>
          <p:cNvSpPr/>
          <p:nvPr/>
        </p:nvSpPr>
        <p:spPr>
          <a:xfrm>
            <a:off x="846000" y="160020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lution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1273320" y="5302080"/>
                <a:ext cx="223200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4232160" y="5334120"/>
                <a:ext cx="10256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9" name="Group 48"/>
          <p:cNvGrpSpPr/>
          <p:nvPr/>
        </p:nvGrpSpPr>
        <p:grpSpPr>
          <a:xfrm>
            <a:off x="5031360" y="912960"/>
            <a:ext cx="4569840" cy="2896920"/>
            <a:chOff x="5031360" y="912960"/>
            <a:chExt cx="4569840" cy="2896920"/>
          </a:xfrm>
        </p:grpSpPr>
        <p:sp>
          <p:nvSpPr>
            <p:cNvPr id="130" name="Straight Connector 47"/>
            <p:cNvSpPr/>
            <p:nvPr/>
          </p:nvSpPr>
          <p:spPr>
            <a:xfrm>
              <a:off x="5541120" y="3807720"/>
              <a:ext cx="2764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96"/>
            <p:cNvGrpSpPr/>
            <p:nvPr/>
          </p:nvGrpSpPr>
          <p:grpSpPr>
            <a:xfrm>
              <a:off x="5031360" y="912960"/>
              <a:ext cx="4569840" cy="2896920"/>
              <a:chOff x="5031360" y="912960"/>
              <a:chExt cx="4569840" cy="2896920"/>
            </a:xfrm>
          </p:grpSpPr>
          <p:grpSp>
            <p:nvGrpSpPr>
              <p:cNvPr id="132" name="Group 95"/>
              <p:cNvGrpSpPr/>
              <p:nvPr/>
            </p:nvGrpSpPr>
            <p:grpSpPr>
              <a:xfrm>
                <a:off x="5493600" y="1556640"/>
                <a:ext cx="2970000" cy="2253240"/>
                <a:chOff x="5493600" y="1556640"/>
                <a:chExt cx="2970000" cy="2253240"/>
              </a:xfrm>
            </p:grpSpPr>
            <p:grpSp>
              <p:nvGrpSpPr>
                <p:cNvPr id="133" name="Group 77"/>
                <p:cNvGrpSpPr/>
                <p:nvPr/>
              </p:nvGrpSpPr>
              <p:grpSpPr>
                <a:xfrm>
                  <a:off x="5493600" y="1556640"/>
                  <a:ext cx="2970000" cy="2253240"/>
                  <a:chOff x="5493600" y="1556640"/>
                  <a:chExt cx="2970000" cy="2253240"/>
                </a:xfrm>
              </p:grpSpPr>
              <p:sp>
                <p:nvSpPr>
                  <p:cNvPr id="134" name="Straight Connector 62"/>
                  <p:cNvSpPr/>
                  <p:nvPr/>
                </p:nvSpPr>
                <p:spPr>
                  <a:xfrm>
                    <a:off x="5556600" y="1814040"/>
                    <a:ext cx="101088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Straight Connector 14"/>
                  <p:cNvSpPr/>
                  <p:nvPr/>
                </p:nvSpPr>
                <p:spPr>
                  <a:xfrm>
                    <a:off x="8305920" y="2341080"/>
                    <a:ext cx="1576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Straight Connector 16"/>
                  <p:cNvSpPr/>
                  <p:nvPr/>
                </p:nvSpPr>
                <p:spPr>
                  <a:xfrm flipH="1">
                    <a:off x="8226720" y="241848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Straight Connector 18"/>
                  <p:cNvSpPr/>
                  <p:nvPr/>
                </p:nvSpPr>
                <p:spPr>
                  <a:xfrm>
                    <a:off x="8226720" y="249552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Straight Connector 22"/>
                  <p:cNvSpPr/>
                  <p:nvPr/>
                </p:nvSpPr>
                <p:spPr>
                  <a:xfrm flipH="1">
                    <a:off x="8226720" y="257292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Straight Connector 24"/>
                  <p:cNvSpPr/>
                  <p:nvPr/>
                </p:nvSpPr>
                <p:spPr>
                  <a:xfrm>
                    <a:off x="8226720" y="264996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Straight Connector 26"/>
                  <p:cNvSpPr/>
                  <p:nvPr/>
                </p:nvSpPr>
                <p:spPr>
                  <a:xfrm flipH="1">
                    <a:off x="8226720" y="272700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Straight Connector 28"/>
                  <p:cNvSpPr/>
                  <p:nvPr/>
                </p:nvSpPr>
                <p:spPr>
                  <a:xfrm>
                    <a:off x="8226720" y="280440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Straight Connector 30"/>
                  <p:cNvSpPr/>
                  <p:nvPr/>
                </p:nvSpPr>
                <p:spPr>
                  <a:xfrm flipH="1">
                    <a:off x="8226720" y="288144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Straight Connector 32"/>
                  <p:cNvSpPr/>
                  <p:nvPr/>
                </p:nvSpPr>
                <p:spPr>
                  <a:xfrm>
                    <a:off x="8226720" y="2958840"/>
                    <a:ext cx="2368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Straight Connector 34"/>
                  <p:cNvSpPr/>
                  <p:nvPr/>
                </p:nvSpPr>
                <p:spPr>
                  <a:xfrm flipH="1">
                    <a:off x="8305920" y="3035880"/>
                    <a:ext cx="157680" cy="7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Straight Connector 38"/>
                  <p:cNvSpPr/>
                  <p:nvPr/>
                </p:nvSpPr>
                <p:spPr>
                  <a:xfrm flipH="1">
                    <a:off x="8304840" y="3114000"/>
                    <a:ext cx="1440" cy="694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Straight Connector 10"/>
                  <p:cNvSpPr/>
                  <p:nvPr/>
                </p:nvSpPr>
                <p:spPr>
                  <a:xfrm flipH="1">
                    <a:off x="8304840" y="1801800"/>
                    <a:ext cx="1440" cy="540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Oval 75"/>
                  <p:cNvSpPr/>
                  <p:nvPr/>
                </p:nvSpPr>
                <p:spPr>
                  <a:xfrm>
                    <a:off x="6567840" y="1556640"/>
                    <a:ext cx="442080" cy="4503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Straight Connector 76"/>
                  <p:cNvSpPr/>
                  <p:nvPr/>
                </p:nvSpPr>
                <p:spPr>
                  <a:xfrm flipH="1" flipV="1">
                    <a:off x="7010280" y="1813680"/>
                    <a:ext cx="132696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" name="Group 63"/>
                  <p:cNvGrpSpPr/>
                  <p:nvPr/>
                </p:nvGrpSpPr>
                <p:grpSpPr>
                  <a:xfrm>
                    <a:off x="5493600" y="2457720"/>
                    <a:ext cx="252720" cy="707760"/>
                    <a:chOff x="5493600" y="2457720"/>
                    <a:chExt cx="252720" cy="707760"/>
                  </a:xfrm>
                </p:grpSpPr>
                <p:sp>
                  <p:nvSpPr>
                    <p:cNvPr id="150" name="Oval 80"/>
                    <p:cNvSpPr/>
                    <p:nvPr/>
                  </p:nvSpPr>
                  <p:spPr>
                    <a:xfrm>
                      <a:off x="5493600" y="274320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81"/>
                    <p:cNvSpPr/>
                    <p:nvPr/>
                  </p:nvSpPr>
                  <p:spPr>
                    <a:xfrm>
                      <a:off x="5493600" y="288000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Oval 82"/>
                    <p:cNvSpPr/>
                    <p:nvPr/>
                  </p:nvSpPr>
                  <p:spPr>
                    <a:xfrm>
                      <a:off x="5493600" y="260604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Oval 83"/>
                    <p:cNvSpPr/>
                    <p:nvPr/>
                  </p:nvSpPr>
                  <p:spPr>
                    <a:xfrm>
                      <a:off x="5493600" y="301716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84"/>
                    <p:cNvSpPr/>
                    <p:nvPr/>
                  </p:nvSpPr>
                  <p:spPr>
                    <a:xfrm>
                      <a:off x="5493600" y="2468880"/>
                      <a:ext cx="252720" cy="13680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Rectangle 85"/>
                    <p:cNvSpPr/>
                    <p:nvPr/>
                  </p:nvSpPr>
                  <p:spPr>
                    <a:xfrm>
                      <a:off x="5619960" y="2457720"/>
                      <a:ext cx="126360" cy="707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Straight Connector 78"/>
                  <p:cNvSpPr/>
                  <p:nvPr/>
                </p:nvSpPr>
                <p:spPr>
                  <a:xfrm flipH="1">
                    <a:off x="5555520" y="1814760"/>
                    <a:ext cx="1080" cy="643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Straight Connector 79"/>
                  <p:cNvSpPr/>
                  <p:nvPr/>
                </p:nvSpPr>
                <p:spPr>
                  <a:xfrm flipV="1">
                    <a:off x="5555160" y="3166200"/>
                    <a:ext cx="1080" cy="643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90"/>
                <p:cNvGrpSpPr/>
                <p:nvPr/>
              </p:nvGrpSpPr>
              <p:grpSpPr>
                <a:xfrm>
                  <a:off x="6694200" y="1685160"/>
                  <a:ext cx="189360" cy="128520"/>
                  <a:chOff x="6694200" y="1685160"/>
                  <a:chExt cx="189360" cy="128520"/>
                </a:xfrm>
              </p:grpSpPr>
              <p:grpSp>
                <p:nvGrpSpPr>
                  <p:cNvPr id="159" name="Group 89"/>
                  <p:cNvGrpSpPr/>
                  <p:nvPr/>
                </p:nvGrpSpPr>
                <p:grpSpPr>
                  <a:xfrm>
                    <a:off x="6694200" y="1695600"/>
                    <a:ext cx="189360" cy="118080"/>
                    <a:chOff x="6694200" y="1695600"/>
                    <a:chExt cx="189360" cy="118080"/>
                  </a:xfrm>
                </p:grpSpPr>
                <p:sp>
                  <p:nvSpPr>
                    <p:cNvPr id="160" name="Oval 60"/>
                    <p:cNvSpPr/>
                    <p:nvPr/>
                  </p:nvSpPr>
                  <p:spPr>
                    <a:xfrm>
                      <a:off x="6694200" y="1704600"/>
                      <a:ext cx="94680" cy="10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Oval 61"/>
                    <p:cNvSpPr/>
                    <p:nvPr/>
                  </p:nvSpPr>
                  <p:spPr>
                    <a:xfrm>
                      <a:off x="6788880" y="1695600"/>
                      <a:ext cx="94680" cy="109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" name="Rectangle 58"/>
                  <p:cNvSpPr/>
                  <p:nvPr/>
                </p:nvSpPr>
                <p:spPr>
                  <a:xfrm>
                    <a:off x="6694200" y="1760040"/>
                    <a:ext cx="94680" cy="5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Rectangle 59"/>
                  <p:cNvSpPr/>
                  <p:nvPr/>
                </p:nvSpPr>
                <p:spPr>
                  <a:xfrm>
                    <a:off x="6788880" y="1685160"/>
                    <a:ext cx="9468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4" name="TextBox 52"/>
              <p:cNvSpPr/>
              <p:nvPr/>
            </p:nvSpPr>
            <p:spPr>
              <a:xfrm>
                <a:off x="5031360" y="258984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53"/>
              <p:cNvSpPr/>
              <p:nvPr/>
            </p:nvSpPr>
            <p:spPr>
              <a:xfrm>
                <a:off x="8590320" y="2457720"/>
                <a:ext cx="101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54"/>
              <p:cNvSpPr/>
              <p:nvPr/>
            </p:nvSpPr>
            <p:spPr>
              <a:xfrm>
                <a:off x="5936040" y="912960"/>
                <a:ext cx="184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67" name="Object 48"/>
              <p:cNvSpPr txBox="1"/>
              <p:nvPr/>
            </p:nvSpPr>
            <p:spPr>
              <a:xfrm>
                <a:off x="1751040" y="4114800"/>
                <a:ext cx="642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λω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1487520" y="2362320"/>
                <a:ext cx="2652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0"/>
              <p:cNvSpPr txBox="1"/>
              <p:nvPr/>
            </p:nvSpPr>
            <p:spPr>
              <a:xfrm>
                <a:off x="1824120" y="3235320"/>
                <a:ext cx="101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Box 50"/>
          <p:cNvSpPr/>
          <p:nvPr/>
        </p:nvSpPr>
        <p:spPr>
          <a:xfrm>
            <a:off x="916920" y="3733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1"/>
          <p:cNvSpPr/>
          <p:nvPr/>
        </p:nvSpPr>
        <p:spPr>
          <a:xfrm>
            <a:off x="995760" y="48769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52520" y="1980720"/>
            <a:ext cx="5102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linear Example: Recalling the LR Circuit (3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put / output respo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input” to the “system” is the voltage source.  The “output” is the current (or voltage) over the resistor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noring the transient,  the system passes the sine wav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ectly - it introduces no other frequenci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only discuss frequency response in the context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-invari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stems.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22:23:08Z</dcterms:created>
  <dc:creator>Dave V. Kalbaugh</dc:creator>
  <dc:description/>
  <dc:language>en-US</dc:language>
  <cp:lastModifiedBy>User</cp:lastModifiedBy>
  <cp:lastPrinted>1999-01-01T20:07:08Z</cp:lastPrinted>
  <dcterms:modified xsi:type="dcterms:W3CDTF">2016-08-16T16:01:26Z</dcterms:modified>
  <cp:revision>310</cp:revision>
  <dc:subject/>
  <dc:title>No Slide Title</dc:title>
</cp:coreProperties>
</file>